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980-D964-45F3-82AD-D45D0655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C28-AB53-4D61-844D-9DC361C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7D-CCFA-4683-85F9-CA5E046F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0CC-B924-4097-89CA-D507D195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497-C932-4E09-B1C8-330B002C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0B5-4687-4C83-9E1D-DD5B428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03A-FE4E-416B-BC25-89FD301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8F7-095E-44BE-9146-D54E9AC2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2D2-A4FA-4E68-9487-039BC63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5B2-357F-4B4A-8A23-D57D0E66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E25-CF1A-4CAA-A243-CE20A906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BAC-313E-46ED-9F71-07C55D5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79F-0117-4235-9EFD-D9E83391B3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2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14.jpeg"/><Relationship Id="rId17" Type="http://schemas.openxmlformats.org/officeDocument/2006/relationships/image" Target="../media/image19.jpeg"/><Relationship Id="rId18" Type="http://schemas.openxmlformats.org/officeDocument/2006/relationships/image" Target="../media/image14.jpeg"/><Relationship Id="rId19" Type="http://schemas.openxmlformats.org/officeDocument/2006/relationships/image" Target="../media/image11.jpeg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9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9800" y="4559400"/>
            <a:ext cx="101880" cy="7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9800" y="4784760"/>
            <a:ext cx="101880" cy="7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9800" y="5010120"/>
            <a:ext cx="101880" cy="8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9800" y="5235480"/>
            <a:ext cx="101880" cy="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9800" y="5646600"/>
            <a:ext cx="101880" cy="81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9800" y="6689880"/>
            <a:ext cx="101880" cy="7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9800" y="7102440"/>
            <a:ext cx="10188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69800" y="7327800"/>
            <a:ext cx="10188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69800" y="7553160"/>
            <a:ext cx="101880" cy="7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34880" y="8782200"/>
            <a:ext cx="111240" cy="8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34880" y="9194760"/>
            <a:ext cx="111240" cy="8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34880" y="942012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34880" y="9645480"/>
            <a:ext cx="111240" cy="8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85560" y="725400"/>
            <a:ext cx="3976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porte: 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PROFESOR EN EL PARALE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yecto: ESPOL 2008 2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Cuestionario: CUESTIONARIO MAT TEORICAS 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fesor: BOLIVAR CIRILO,FLORES NICOLAL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registrados : 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8200" y="1681200"/>
            <a:ext cx="10857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Unidad: IC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ateria: FÍSICA 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aralelo: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Año: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eríodo: 2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5240" y="1700280"/>
            <a:ext cx="29678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evaluados : 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evaluados fuera de periodo de evaluación: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Preguntas: 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Unidad: 85.5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Unidad-Encuesta: 85.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7680" y="2641680"/>
            <a:ext cx="653724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Promedio Profesor-Paralelo:88.5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25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Desviación Estandar-Paralelo:</a:t>
            </a:r>
            <a:r>
              <a:rPr b="1" lang="es-EC" sz="1100" spc="-1" strike="noStrike">
                <a:solidFill>
                  <a:srgbClr val="990000"/>
                </a:solidFill>
                <a:latin typeface="Tahoma"/>
              </a:rPr>
              <a:t>0.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PREGUNTA = (SUMA OBTENIDA * PUNTAJE PREGUNTA)/ (# ESTUDIANTES EVALUAD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PROFESOR-ENCUESTA = SUMATORIA(PROMEDIO PREGUNT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11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UTOEVALUACIÓN DEL ESTUDIA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5000" y="42130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62520" y="42130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20160" y="42130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760" y="4626000"/>
            <a:ext cx="70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" y="4626000"/>
            <a:ext cx="3458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sistí regularmente a cl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sistí puntualmente a cl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ermanezco en clase durante toda la sesión program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articipé de forma activa en clases, solicitando aclarar duda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2048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3176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4304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4626000"/>
            <a:ext cx="4334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0.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0.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7.4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7840" y="5487840"/>
            <a:ext cx="2754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spondiendo preguntas, aportando con ejemp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760" y="5713560"/>
            <a:ext cx="70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600" y="5713560"/>
            <a:ext cx="36918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n general juzgo que mi esfuerzo y dedicación fueron apropi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2048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176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304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571356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9.0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7640" y="6119640"/>
            <a:ext cx="18766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ORGANIZACIÓN DEL CUR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75000" y="634536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2520" y="634536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0160" y="634536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6756480"/>
            <a:ext cx="70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3160" y="6756480"/>
            <a:ext cx="3551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l inicio del término proporcionó y explicó a los estudiantes 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048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3176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4304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675648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3.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9280" y="6943680"/>
            <a:ext cx="19836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gramación y políticas d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760" y="7169040"/>
            <a:ext cx="7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3880" y="7169040"/>
            <a:ext cx="351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fleja una adecuada preparación de sus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Cumple con la programación propuesta al inicio d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laciona los conocimientos previos de los estudiantes para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048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3176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304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716904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3.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760" y="7807320"/>
            <a:ext cx="42044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desarrollo de nuevos conteni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85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LACIÓN PROFESOR-ESTUDIA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75000" y="84376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2520" y="84376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0160" y="84376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000" y="8850240"/>
            <a:ext cx="4065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0   Tiene predisposición para aclarar dudas y ofrecer asesorías dentro 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2048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176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4304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885024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9.5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960" y="9036000"/>
            <a:ext cx="864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fuera de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0360" y="9261360"/>
            <a:ext cx="38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1   Facilita la participación activa de los estudiantes en cl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2   Es respetuoso y cordial en el trato con lo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3   Estimula en la clase la formación de valores éticos y las bue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048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3176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304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926136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8.7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0000" y="9899640"/>
            <a:ext cx="1706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stumbres de lo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9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880" y="1292400"/>
            <a:ext cx="111240" cy="7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34880" y="1703520"/>
            <a:ext cx="111240" cy="8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34880" y="192888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34880" y="234144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34880" y="357192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434880" y="379584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434880" y="420840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434880" y="462132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434880" y="503388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434880" y="5257800"/>
            <a:ext cx="111240" cy="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434880" y="548316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434880" y="5708520"/>
            <a:ext cx="111240" cy="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34880" y="593424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34880" y="634680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6"/>
          <a:stretch/>
        </p:blipFill>
        <p:spPr>
          <a:xfrm>
            <a:off x="434880" y="6572160"/>
            <a:ext cx="111240" cy="8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7"/>
          <a:stretch/>
        </p:blipFill>
        <p:spPr>
          <a:xfrm>
            <a:off x="434880" y="7615080"/>
            <a:ext cx="111240" cy="8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8"/>
          <a:stretch/>
        </p:blipFill>
        <p:spPr>
          <a:xfrm>
            <a:off x="434880" y="783900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9"/>
          <a:stretch/>
        </p:blipFill>
        <p:spPr>
          <a:xfrm>
            <a:off x="434880" y="8251920"/>
            <a:ext cx="111240" cy="7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0"/>
          <a:stretch/>
        </p:blipFill>
        <p:spPr>
          <a:xfrm>
            <a:off x="434880" y="866448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1"/>
          <a:stretch/>
        </p:blipFill>
        <p:spPr>
          <a:xfrm>
            <a:off x="434880" y="9707400"/>
            <a:ext cx="111240" cy="8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9320" y="720720"/>
            <a:ext cx="915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5000" y="9460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2520" y="9460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20160" y="9460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440" y="1359000"/>
            <a:ext cx="3803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4   Realiza evaluaciones periódicas (deberes, lecciones, proyect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048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176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304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13590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3960" y="1546200"/>
            <a:ext cx="7902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ruebas, etc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720" y="1770120"/>
            <a:ext cx="4065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5   Formula claramente las preguntas en las evalua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6   Los temas en las evaluaciones son representativos del contenido 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2048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3176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304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177012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8.7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760" y="2182680"/>
            <a:ext cx="3405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2408400"/>
            <a:ext cx="3796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7   Califica procedimientos y resultados en las evaluaciones de 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2048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3176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304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24084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1.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0080" y="2595600"/>
            <a:ext cx="4062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temas de exam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85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DESARROLLO DEL APRENDIZ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75000" y="322596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2520" y="322596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0160" y="322596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440" y="3638520"/>
            <a:ext cx="3873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8   Presenta los contenidos de la clase de una manera comprensi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9   Enfatiza durante la clase los puntos principales de los temas 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048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176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4304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363852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6.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6120" y="4049640"/>
            <a:ext cx="4410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xp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280" y="4275000"/>
            <a:ext cx="3996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0   Utiliza material de apoyo didáctico para reforzar los contenidos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2048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176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04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2750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4680" y="4462560"/>
            <a:ext cx="5644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las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" y="4687920"/>
            <a:ext cx="40028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1   Presenta ejemplos apropiados para la comprensión de lo tratado 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2048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3176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4304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468792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5760" y="4875120"/>
            <a:ext cx="3178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l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280" y="5100480"/>
            <a:ext cx="3958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2   Promueve el razonamiento de los temas trata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3   Desarrolla los contenidos de la materia con un ritmo apropiad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4   Fomenta el trabajo en equi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5   Contesta en forma satisfactoria las preguntas formuladas en cl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6   Asigna actividades que requieren investigación por parte de 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2048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176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4304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5100480"/>
            <a:ext cx="4334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5.4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8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0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4320" y="6188040"/>
            <a:ext cx="662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520" y="6413400"/>
            <a:ext cx="34707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7   Organiza durante la clase actividades de autoaprendizaj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8   Promueve en el estudiante el pensamiento críti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2048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3176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4304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641340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4.6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5.4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8280" y="7043760"/>
            <a:ext cx="2120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UMPLIMIENTO DEL PROFE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75000" y="726912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726912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20160" y="726912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80" y="7682040"/>
            <a:ext cx="4118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9   Cumple con las políticas de evaluación señaladas para 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0   Hace conocer los resultados de las evaluaciones periódicas en plaz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2048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176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4304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768204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9.5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0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8093160"/>
            <a:ext cx="1572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oportunos a su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280" y="8318520"/>
            <a:ext cx="38458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1   Asiste puntualmente a clases (llega y se retira dentro del tiem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2048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3176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4304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831852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2880" y="8505720"/>
            <a:ext cx="8665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reglamentario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960" y="8731080"/>
            <a:ext cx="2597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2   Asiste regularmente a clases (frecuencia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048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176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304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59640" y="873108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4040" y="9136080"/>
            <a:ext cx="1886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SEMPEÑO DEL PROFE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75000" y="936144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2520" y="936144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0160" y="936144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2880" y="9774360"/>
            <a:ext cx="34542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3   De acuerdo con sus respuestas anteriores, usted evalúa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048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3176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04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977436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8.2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9640" y="9961560"/>
            <a:ext cx="1888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sempeño del profesor(a) com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5:00:50Z</dcterms:created>
  <dc:creator>George</dc:creator>
  <dc:description/>
  <dc:language>en-US</dc:language>
  <cp:lastModifiedBy>George</cp:lastModifiedBy>
  <dcterms:modified xsi:type="dcterms:W3CDTF">2010-02-23T05:00:55Z</dcterms:modified>
  <cp:revision>1</cp:revision>
  <dc:subject/>
  <dc:title>Diapositiva 1</dc:title>
</cp:coreProperties>
</file>