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006-5104-4DE9-B5DA-403DEE84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F55-7EEA-4401-A7B8-A4978740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C01-607D-4FDC-8014-D4DC8C1A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249516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6180120"/>
            <a:ext cx="21906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9EC-5817-47CB-B02C-B8A9790E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12D-7F29-43BB-BE26-3CF7C6D8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8D3-5FD6-4B60-8273-EDE94F3E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289-69EB-4BAA-8642-FD291E55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3E7-E098-47F9-98DE-DCE677F0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400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892-0CE4-4A01-B814-8995AABA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2CE-B40E-4AEC-8E24-1F03291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618012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B63-DD17-43B0-BF05-A1151D68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2495160"/>
            <a:ext cx="332028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120"/>
            <a:ext cx="6804000" cy="33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49D-78FB-44C3-917E-F48C40A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4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4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736200"/>
            <a:ext cx="176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9736200"/>
            <a:ext cx="239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736200"/>
            <a:ext cx="17640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EA90-0BCE-41EA-9719-2F9F524217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2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2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14.jpeg"/><Relationship Id="rId17" Type="http://schemas.openxmlformats.org/officeDocument/2006/relationships/image" Target="../media/image19.jpeg"/><Relationship Id="rId18" Type="http://schemas.openxmlformats.org/officeDocument/2006/relationships/image" Target="../media/image14.jpeg"/><Relationship Id="rId19" Type="http://schemas.openxmlformats.org/officeDocument/2006/relationships/image" Target="../media/image11.jpeg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9640" cy="1069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9800" y="4559400"/>
            <a:ext cx="101880" cy="7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9800" y="4784760"/>
            <a:ext cx="101880" cy="7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9800" y="5010120"/>
            <a:ext cx="101880" cy="8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69800" y="5235480"/>
            <a:ext cx="101880" cy="8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69800" y="5646600"/>
            <a:ext cx="101880" cy="81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69800" y="6689880"/>
            <a:ext cx="101880" cy="7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69800" y="7102440"/>
            <a:ext cx="101880" cy="8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69800" y="7327800"/>
            <a:ext cx="10188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69800" y="7553160"/>
            <a:ext cx="101880" cy="7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434880" y="8782200"/>
            <a:ext cx="111240" cy="8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434880" y="9194760"/>
            <a:ext cx="111240" cy="8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434880" y="9420120"/>
            <a:ext cx="111240" cy="79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34880" y="9645480"/>
            <a:ext cx="111240" cy="82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85560" y="725400"/>
            <a:ext cx="39762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porte: 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PROFESOR EN EL PARALEL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yecto: ESPOL 2008 2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Cuestionario: CUESTIONARIO MAT TEORICAS 20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fesor: BOLIVAR CIRILO,FLORES NICOLAL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50760"/>
                <a:tab algn="l" pos="304920"/>
                <a:tab algn="l" pos="851040"/>
                <a:tab algn="l" pos="2616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No. Est. registrados : 3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8200" y="1681200"/>
            <a:ext cx="10857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Unidad: IC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ateria: FÍSICA 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Paralelo: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Año: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190440"/>
                <a:tab algn="l" pos="228600"/>
                <a:tab algn="l" pos="24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Período: 2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5240" y="1700280"/>
            <a:ext cx="29678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No. Est. evaluados : 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No. Est. evaluados fuera de periodo de evaluación: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No. Preguntas: 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medio Unidad: 85.5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736560"/>
                <a:tab algn="l" pos="787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medio Unidad-Encuesta: 85.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7680" y="2641680"/>
            <a:ext cx="653724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Promedio Profesor-Paralelo:88.5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25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C" sz="1100" spc="-1" strike="noStrike">
                <a:solidFill>
                  <a:srgbClr val="000000"/>
                </a:solidFill>
                <a:latin typeface="Tahoma"/>
              </a:rPr>
              <a:t>Desviación Estandar-Paralelo:</a:t>
            </a:r>
            <a:r>
              <a:rPr b="1" lang="es-EC" sz="1100" spc="-1" strike="noStrike">
                <a:solidFill>
                  <a:srgbClr val="990000"/>
                </a:solidFill>
                <a:latin typeface="Tahoma"/>
              </a:rPr>
              <a:t>0.8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MEDIO PREGUNTA = (SUMA OBTENIDA * PUNTAJE PREGUNTA)/ (# ESTUDIANTES EVALUADO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MEDIO PROFESOR-ENCUESTA = SUMATORIA(PROMEDIO PREGUNTA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11"/>
              </a:lnSpc>
              <a:tabLst>
                <a:tab algn="l" pos="0"/>
                <a:tab algn="l" pos="812880"/>
                <a:tab algn="l" pos="2070000"/>
                <a:tab algn="l" pos="3924360"/>
                <a:tab algn="l" pos="394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AUTOEVALUACIÓN DEL ESTUDIA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75000" y="421308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62520" y="421308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20160" y="421308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760" y="4626000"/>
            <a:ext cx="709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2800" y="4626000"/>
            <a:ext cx="3458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Asistí regularmente a cl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Asistí puntualmente a cl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ermanezco en clase durante toda la sesión program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articipé de forma activa en clases, solicitando aclarar duda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20480" y="4626000"/>
            <a:ext cx="246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31760" y="4626000"/>
            <a:ext cx="246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43040" y="4626000"/>
            <a:ext cx="246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4626000"/>
            <a:ext cx="4334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0.6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0.6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77.4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7840" y="5487840"/>
            <a:ext cx="27547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spondiendo preguntas, aportando con ejemp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760" y="5713560"/>
            <a:ext cx="709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600" y="5713560"/>
            <a:ext cx="36918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n general juzgo que mi esfuerzo y dedicación fueron apropi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20480" y="57135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1760" y="57135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3040" y="57135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571356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79.0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7640" y="6119640"/>
            <a:ext cx="18766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ORGANIZACIÓN DEL CUR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75000" y="634536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2520" y="634536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20160" y="634536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6756480"/>
            <a:ext cx="709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3160" y="6756480"/>
            <a:ext cx="3551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Al inicio del término proporcionó y explicó a los estudiantes 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20480" y="67564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31760" y="67564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43040" y="67564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675648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3.5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9280" y="6943680"/>
            <a:ext cx="19836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programación y políticas del 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760" y="7169040"/>
            <a:ext cx="7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3880" y="7169040"/>
            <a:ext cx="351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fleja una adecuada preparación de sus cl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Cumple con la programación propuesta al inicio del 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laciona los conocimientos previos de los estudiantes para 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20480" y="716904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31760" y="716904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3040" y="716904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716904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3.5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760" y="7807320"/>
            <a:ext cx="42044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184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desarrollo de nuevos contenid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4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4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85"/>
              </a:lnSpc>
              <a:tabLst>
                <a:tab algn="l" pos="0"/>
                <a:tab algn="l" pos="184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RELACIÓN PROFESOR-ESTUDIA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75000" y="843768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2520" y="843768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20160" y="843768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0000" y="8850240"/>
            <a:ext cx="40651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0   Tiene predisposición para aclarar dudas y ofrecer asesorías dentro 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20480" y="885024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31760" y="885024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43040" y="885024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885024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9.5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3960" y="9036000"/>
            <a:ext cx="8647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fuera de cl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0360" y="9261360"/>
            <a:ext cx="38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1   Facilita la participación activa de los estudiantes en cl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2   Es respetuoso y cordial en el trato con los estudian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3   Estimula en la clase la formación de valores éticos y las buen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20480" y="926136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31760" y="926136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43040" y="9261360"/>
            <a:ext cx="246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7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926136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0.3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2.7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8.7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0000" y="9899640"/>
            <a:ext cx="17060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stumbres de los estudian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9640" cy="1069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4880" y="1292400"/>
            <a:ext cx="111240" cy="7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34880" y="1703520"/>
            <a:ext cx="111240" cy="8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34880" y="1928880"/>
            <a:ext cx="111240" cy="7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34880" y="2341440"/>
            <a:ext cx="111240" cy="84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34880" y="3571920"/>
            <a:ext cx="111240" cy="85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434880" y="3795840"/>
            <a:ext cx="111240" cy="77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434880" y="4208400"/>
            <a:ext cx="111240" cy="8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434880" y="4621320"/>
            <a:ext cx="111240" cy="77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434880" y="5033880"/>
            <a:ext cx="111240" cy="8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434880" y="5257800"/>
            <a:ext cx="111240" cy="88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2"/>
          <a:stretch/>
        </p:blipFill>
        <p:spPr>
          <a:xfrm>
            <a:off x="434880" y="5483160"/>
            <a:ext cx="111240" cy="79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3"/>
          <a:stretch/>
        </p:blipFill>
        <p:spPr>
          <a:xfrm>
            <a:off x="434880" y="5708520"/>
            <a:ext cx="111240" cy="8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434880" y="5934240"/>
            <a:ext cx="111240" cy="85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434880" y="6346800"/>
            <a:ext cx="111240" cy="79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6"/>
          <a:stretch/>
        </p:blipFill>
        <p:spPr>
          <a:xfrm>
            <a:off x="434880" y="6572160"/>
            <a:ext cx="111240" cy="82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7"/>
          <a:stretch/>
        </p:blipFill>
        <p:spPr>
          <a:xfrm>
            <a:off x="434880" y="7615080"/>
            <a:ext cx="111240" cy="81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8"/>
          <a:stretch/>
        </p:blipFill>
        <p:spPr>
          <a:xfrm>
            <a:off x="434880" y="7839000"/>
            <a:ext cx="111240" cy="8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9"/>
          <a:stretch/>
        </p:blipFill>
        <p:spPr>
          <a:xfrm>
            <a:off x="434880" y="8251920"/>
            <a:ext cx="111240" cy="7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0"/>
          <a:stretch/>
        </p:blipFill>
        <p:spPr>
          <a:xfrm>
            <a:off x="434880" y="8664480"/>
            <a:ext cx="111240" cy="85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1"/>
          <a:stretch/>
        </p:blipFill>
        <p:spPr>
          <a:xfrm>
            <a:off x="434880" y="9707400"/>
            <a:ext cx="111240" cy="84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79320" y="720720"/>
            <a:ext cx="9151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75000" y="94608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62520" y="94608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20160" y="94608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440" y="1359000"/>
            <a:ext cx="38030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4   Realiza evaluaciones periódicas (deberes, lecciones, proyecto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20480" y="1359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1760" y="1359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43040" y="1359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135900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2.7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3960" y="1546200"/>
            <a:ext cx="7902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pruebas, etc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0720" y="1770120"/>
            <a:ext cx="4065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5   Formula claramente las preguntas en las evaluaci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6   Los temas en las evaluaciones son representativos del contenido 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20480" y="17701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31760" y="17701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3040" y="17701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5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1770120"/>
            <a:ext cx="433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0.3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8.7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760" y="2182680"/>
            <a:ext cx="3405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720" y="2408400"/>
            <a:ext cx="37969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7   Califica procedimientos y resultados en las evaluaciones de 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20480" y="24084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31760" y="24084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3040" y="24084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240840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1.4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0080" y="2595600"/>
            <a:ext cx="40622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temas de exam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85"/>
              </a:lnSpc>
              <a:tabLst>
                <a:tab algn="l" pos="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DESARROLLO DEL APRENDIZ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75000" y="322596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2520" y="322596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20160" y="322596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440" y="3638520"/>
            <a:ext cx="3873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8   Presenta los contenidos de la clase de una manera comprensib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19   Enfatiza durante la clase los puntos principales de los temas 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20480" y="36385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31760" y="36385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43040" y="363852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8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8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3638520"/>
            <a:ext cx="433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6.2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6120" y="4049640"/>
            <a:ext cx="4410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exp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280" y="4275000"/>
            <a:ext cx="39967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0   Utiliza material de apoyo didáctico para reforzar los contenidos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20480" y="4275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1760" y="4275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43040" y="427500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7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59640" y="427500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0.3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4680" y="4462560"/>
            <a:ext cx="5644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las cl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" y="4687920"/>
            <a:ext cx="40028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1   Presenta ejemplos apropiados para la comprensión de lo tratado 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20480" y="46879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31760" y="46879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43040" y="46879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468792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5760" y="4875120"/>
            <a:ext cx="3178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la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280" y="5100480"/>
            <a:ext cx="39585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2   Promueve el razonamiento de los temas tratad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3   Desarrolla los contenidos de la materia con un ritmo apropiad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4   Fomenta el trabajo en equip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5   Contesta en forma satisfactoria las preguntas formuladas en cla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6   Asigna actividades que requieren investigación por parte de l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20480" y="5100480"/>
            <a:ext cx="2462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31760" y="5100480"/>
            <a:ext cx="2462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43040" y="5100480"/>
            <a:ext cx="2462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8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9640" y="5100480"/>
            <a:ext cx="4334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5.4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3.87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7.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3.0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4320" y="6188040"/>
            <a:ext cx="6620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estudian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2520" y="6413400"/>
            <a:ext cx="34707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7   Organiza durante la clase actividades de autoaprendizaj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8   Promueve en el estudiante el pensamiento críti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20480" y="641340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4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31760" y="641340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43040" y="641340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7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6413400"/>
            <a:ext cx="433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4.6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5.48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8280" y="7043760"/>
            <a:ext cx="2120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UMPLIMIENTO DEL PROFE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75000" y="726912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726912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20160" y="726912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80" y="7682040"/>
            <a:ext cx="41184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29   Cumple con las políticas de evaluación señaladas para el 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30   Hace conocer los resultados de las evaluaciones periódicas en plaz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20480" y="768204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1760" y="768204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43040" y="7682040"/>
            <a:ext cx="246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7682040"/>
            <a:ext cx="4334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9.5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83.0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1080" y="8093160"/>
            <a:ext cx="15721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oportunos a sus estudian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280" y="8318520"/>
            <a:ext cx="38458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31   Asiste puntualmente a clases (llega y se retira dentro del tiemp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20480" y="83185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31760" y="83185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43040" y="831852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831852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0.3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2880" y="8505720"/>
            <a:ext cx="8665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reglamentario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960" y="8731080"/>
            <a:ext cx="25977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32   Asiste regularmente a clases (frecuencia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0480" y="87310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7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1760" y="87310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43040" y="873108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6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59640" y="873108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92.7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4040" y="9136080"/>
            <a:ext cx="18860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ESEMPEÑO DEL PROFE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75000" y="9361440"/>
            <a:ext cx="586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2520" y="9361440"/>
            <a:ext cx="36036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20160" y="9361440"/>
            <a:ext cx="1705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Mediana Desviación Punta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74"/>
              </a:lnSpc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Estándar   Obten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2880" y="9774360"/>
            <a:ext cx="345420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100" spc="-1" strike="noStrike">
                <a:solidFill>
                  <a:srgbClr val="000000"/>
                </a:solidFill>
                <a:latin typeface="Times New Roman"/>
              </a:rPr>
              <a:t>33   De acuerdo con sus respuestas anteriores, usted evalúa 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0480" y="97743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31760" y="97743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4.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3040" y="9774360"/>
            <a:ext cx="2462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990000"/>
                </a:solidFill>
                <a:latin typeface="Times New Roman"/>
              </a:rPr>
              <a:t>0.8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9774360"/>
            <a:ext cx="433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78.2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9640" y="9961560"/>
            <a:ext cx="18889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desempeño del profesor(a) com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5:00:50Z</dcterms:created>
  <dc:creator>George</dc:creator>
  <dc:description/>
  <dc:language>en-US</dc:language>
  <cp:lastModifiedBy>George</cp:lastModifiedBy>
  <dcterms:modified xsi:type="dcterms:W3CDTF">2010-02-23T05:00:55Z</dcterms:modified>
  <cp:revision>1</cp:revision>
  <dc:subject/>
  <dc:title>Diapositiva 1</dc:title>
</cp:coreProperties>
</file>