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16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CAB-26B2-416B-B741-0686B866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E3C-34DB-462F-97B0-6655E023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162-63AF-4BF9-9FB9-FF309C68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F44-04BE-4CA4-9DF1-86434FD8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038-A323-4707-AA56-D754A3B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972-67EA-4658-A37A-E2E4713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A5E-DD45-4012-AC49-CEF97AA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83D-1978-423D-ADC0-64B59919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0A4-0CD3-470B-8277-E5275CD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1DE-F584-414C-8693-D9BA1E1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465-52EF-4055-A177-D0597EA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8BD-7101-48B5-9138-F92D502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7ED-7FB8-4891-81E3-DAB745E61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;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Documents"/>
          <p:cNvSpPr/>
          <p:nvPr/>
        </p:nvSpPr>
        <p:spPr>
          <a:xfrm>
            <a:off x="4859280" y="549360"/>
            <a:ext cx="4105440" cy="5832360"/>
          </a:xfrm>
          <a:prstGeom prst="pie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2be"/>
                </a:solidFill>
                <a:latin typeface="Poor Richard"/>
              </a:rPr>
              <a:t>"</a:t>
            </a:r>
            <a:r>
              <a:rPr b="0" lang="en-US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"</a:t>
            </a:r>
            <a:r>
              <a:rPr b="0" lang="en-US" sz="2800" spc="-1" strike="noStrike">
                <a:solidFill>
                  <a:srgbClr val="c048c3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en-US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en-US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7451640" cy="345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67640" y="4581360"/>
            <a:ext cx="14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ele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93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43700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ee8b7a"/>
                </a:solidFill>
                <a:latin typeface="Poor Richard"/>
              </a:rPr>
              <a:t>Geluk is liefde, niets an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5157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8b7a"/>
                </a:solidFill>
                <a:latin typeface="Poor Richard"/>
              </a:rPr>
              <a:t>Wie liefheeft, is gelukkig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515772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Ze waren altijd al in de ander verscholen</a:t>
            </a:r>
            <a:r>
              <a:rPr b="0" lang="en-US" sz="3200" spc="-1" strike="noStrike">
                <a:solidFill>
                  <a:srgbClr val="b6aae0"/>
                </a:solidFill>
                <a:latin typeface="Poor Richard"/>
              </a:rPr>
              <a:t>."</a:t>
            </a:r>
            <a:r>
              <a:rPr b="0" lang="en-US" sz="2400" spc="-1" strike="noStrike">
                <a:solidFill>
                  <a:srgbClr val="b6aa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26028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"Geliefden ko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elkaar niet zomaar ergens te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57680 w 4500720"/>
              <a:gd name="textAreaRight" fmla="*/ 3439800 w 4500720"/>
              <a:gd name="textAreaTop" fmla="*/ 635040 h 5400720"/>
              <a:gd name="textAreaBottom" fmla="*/ 3387600 h 540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en-US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. Zelfs niet als je het wegwerpt.</a:t>
            </a:r>
            <a:r>
              <a:rPr b="0" lang="en-US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en-US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Smets</cp:lastModifiedBy>
  <dcterms:modified xsi:type="dcterms:W3CDTF">2009-08-29T04:12:10Z</dcterms:modified>
  <cp:revision>11</cp:revision>
  <dc:subject/>
  <dc:title>Dia 1</dc:title>
</cp:coreProperties>
</file>