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16.jpeg" ContentType="image/jpeg"/>
  <Override PartName="/ppt/media/sound004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BB0-8D78-49FF-9D58-1A1D9386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6B1-29D0-41F0-AE3E-199D1A6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C19-7A9B-4942-A5C3-23779C2D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F2F-36CD-4381-AE49-70F95863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05D-B376-4757-B31B-47DB247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BAF-9BE8-43EA-B587-3830B322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B42-8599-4828-9346-40073EF1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E3C-2D87-4BFA-B5F1-EBB411CD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3D3-74E0-4764-82D2-26CED679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A7F-701A-47E9-9082-FB5DC41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9BC-7372-4924-A9A8-D5F7498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0F1-16A2-4581-93CF-56DD271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75B-CA0F-4DF1-A3C2-83F09846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2" name="sound00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or Richard"/>
              </a:rPr>
              <a:t>Maak van je gedachten een tuin vol bloem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34290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"Wie zich niet ergert, doch zich verwondert; die wordt geen tachtig maar die wordt honderd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Documents"/>
          <p:cNvSpPr/>
          <p:nvPr/>
        </p:nvSpPr>
        <p:spPr>
          <a:xfrm>
            <a:off x="4859280" y="549360"/>
            <a:ext cx="4105440" cy="5832360"/>
          </a:xfrm>
          <a:prstGeom prst="pie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1700280"/>
            <a:ext cx="32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2be"/>
                </a:solidFill>
                <a:latin typeface="Poor Richard"/>
              </a:rPr>
              <a:t>"</a:t>
            </a:r>
            <a:r>
              <a:rPr b="0" lang="en-US" sz="3200" spc="-1" strike="noStrike">
                <a:solidFill>
                  <a:srgbClr val="c048c3"/>
                </a:solidFill>
                <a:latin typeface="Poor Richard"/>
              </a:rPr>
              <a:t>Woorden als glas zo breekbaar, gebroken in mijn mond. Voor eeuwig onuitspreekbaar, omdat ik de moed niet vond. "</a:t>
            </a:r>
            <a:r>
              <a:rPr b="0" lang="en-US" sz="2800" spc="-1" strike="noStrike">
                <a:solidFill>
                  <a:srgbClr val="c048c3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Laat zien wie je bent, los van verwachtingen, los van goedkeuring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3429000"/>
            <a:ext cx="37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b1e6"/>
                </a:solidFill>
                <a:latin typeface="Poor Richard"/>
              </a:rPr>
              <a:t>"Als je denkt dat iets kleins en simpels geen verschil uitmaakt, probeer dan maar eens te slapen met een mug in je kamer."</a:t>
            </a:r>
            <a:r>
              <a:rPr b="0" lang="en-US" sz="2400" spc="-1" strike="noStrike">
                <a:solidFill>
                  <a:srgbClr val="edb1e6"/>
                </a:solidFill>
                <a:latin typeface="Poor Rich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2360" y="1125360"/>
            <a:ext cx="331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Poor Richard"/>
              </a:rPr>
              <a:t>"</a:t>
            </a:r>
            <a:r>
              <a:rPr b="0" lang="en-US" sz="3600" spc="-1" strike="noStrike">
                <a:solidFill>
                  <a:srgbClr val="dddddd"/>
                </a:solidFill>
                <a:latin typeface="Poor Richard"/>
              </a:rPr>
              <a:t>Je bent niet in het leven om vrienden te maken, je bent in het leven om een vriend te zijn. 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260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"Mensen kun je vergelijken met muzieknoten</a:t>
            </a:r>
            <a:r>
              <a:rPr b="0" lang="en-US" sz="3200" spc="-1" strike="noStrike">
                <a:solidFill>
                  <a:srgbClr val="dddddd"/>
                </a:solidFill>
                <a:latin typeface="Poor Richar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37372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Als ze eenmaal op elkaar zijn afgestemd, vormen ze een prachtig ork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7451640" cy="345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67640" y="4581360"/>
            <a:ext cx="14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Celes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93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443700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or Richard"/>
              </a:rPr>
              <a:t>"</a:t>
            </a:r>
            <a:r>
              <a:rPr b="0" lang="en-US" sz="3600" spc="-1" strike="noStrike">
                <a:solidFill>
                  <a:srgbClr val="ee8b7a"/>
                </a:solidFill>
                <a:latin typeface="Poor Richard"/>
              </a:rPr>
              <a:t>Geluk is liefde, niets and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51577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8b7a"/>
                </a:solidFill>
                <a:latin typeface="Poor Richard"/>
              </a:rPr>
              <a:t>Wie liefheeft, is gelukkig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000" y="479736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88d4"/>
                </a:solidFill>
                <a:latin typeface="Poor Richard"/>
              </a:rPr>
              <a:t>"Probeer, elke keer als je tegen de lamp loopt, een beetje licht mee te nemen."</a:t>
            </a: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515772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aae0"/>
                </a:solidFill>
                <a:latin typeface="Poor Richard"/>
              </a:rPr>
              <a:t>Ze waren altijd al in de ander verscholen</a:t>
            </a:r>
            <a:r>
              <a:rPr b="0" lang="en-US" sz="3200" spc="-1" strike="noStrike">
                <a:solidFill>
                  <a:srgbClr val="b6aae0"/>
                </a:solidFill>
                <a:latin typeface="Poor Richard"/>
              </a:rPr>
              <a:t>."</a:t>
            </a:r>
            <a:r>
              <a:rPr b="0" lang="en-US" sz="2400" spc="-1" strike="noStrike">
                <a:solidFill>
                  <a:srgbClr val="b6aa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260280"/>
            <a:ext cx="511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aae0"/>
                </a:solidFill>
                <a:latin typeface="Poor Richard"/>
              </a:rPr>
              <a:t>"Geliefden ko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aae0"/>
                </a:solidFill>
                <a:latin typeface="Poor Richard"/>
              </a:rPr>
              <a:t>elkaar niet zomaar ergens te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2133720"/>
            <a:ext cx="33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5"/>
                </a:solidFill>
                <a:latin typeface="Poor Richard"/>
              </a:rPr>
              <a:t>"Wees tevreden met de kleine dingen en ze zullen je overvloedig omringen.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3280" y="765000"/>
            <a:ext cx="4500720" cy="5400720"/>
          </a:xfrm>
          <a:custGeom>
            <a:avLst/>
            <a:gdLst>
              <a:gd name="textAreaLeft" fmla="*/ 1057680 w 4500720"/>
              <a:gd name="textAreaRight" fmla="*/ 3439800 w 4500720"/>
              <a:gd name="textAreaTop" fmla="*/ 635040 h 5400720"/>
              <a:gd name="textAreaBottom" fmla="*/ 3387600 h 540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7240">
            <a:solidFill>
              <a:srgbClr val="8e3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155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"</a:t>
            </a:r>
            <a:r>
              <a:rPr b="0" lang="en-US" sz="3600" spc="-1" strike="noStrike">
                <a:solidFill>
                  <a:srgbClr val="8e3274"/>
                </a:solidFill>
                <a:latin typeface="Poor Richard"/>
              </a:rPr>
              <a:t>Wie een goed humeur bewaart, wordt veel last en zorg bespaard."</a:t>
            </a: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436572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oor Richard"/>
              </a:rPr>
              <a:t>"Mensen die de zon in andermans leven bre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zullen zelf ook haar stralen voel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4941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Poor Richard"/>
              </a:rPr>
              <a:t>"Niet krijgen wat je wenst, is soms het beste dat je kan overkomen."</a:t>
            </a:r>
            <a:r>
              <a:rPr b="0" lang="en-US" sz="3200" spc="-1" strike="noStrike">
                <a:solidFill>
                  <a:srgbClr val="99cc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4000" y="907920"/>
            <a:ext cx="331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Poor Richard"/>
              </a:rPr>
              <a:t>"Wat je werkelijk toebehoort, kun je niet verliezen. Zelfs niet als je het wegwerpt.</a:t>
            </a:r>
            <a:r>
              <a:rPr b="0" lang="en-US" sz="4800" spc="-1" strike="noStrike">
                <a:solidFill>
                  <a:srgbClr val="bbe0e3"/>
                </a:solidFill>
                <a:latin typeface="Poor Richard"/>
              </a:rPr>
              <a:t> "</a:t>
            </a:r>
            <a:r>
              <a:rPr b="0" lang="en-US" sz="4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58:36Z</dcterms:created>
  <dc:creator>Sylvi@</dc:creator>
  <dc:description/>
  <dc:language>en-US</dc:language>
  <cp:lastModifiedBy>Smets</cp:lastModifiedBy>
  <dcterms:modified xsi:type="dcterms:W3CDTF">2009-08-29T04:12:10Z</dcterms:modified>
  <cp:revision>11</cp:revision>
  <dc:subject/>
  <dc:title>Dia 1</dc:title>
</cp:coreProperties>
</file>