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6.jpeg" ContentType="image/jpeg"/>
  <Override PartName="/ppt/media/image4.jpeg" ContentType="image/jpeg"/>
  <Override PartName="/ppt/media/image5.jpeg" ContentType="image/jpeg"/>
  <Override PartName="/ppt/media/Vangelis%20-%20Conquest%20of%20paradise(long%20version).wav" ContentType="audio/x-wav"/>
  <Override PartName="/ppt/media/image2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gif" ContentType="image/gif"/>
  <Override PartName="/ppt/media/image14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699-3778-499E-ADDF-3CC45E5D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301-3B8B-47E2-9A94-6196CDDB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C4C-F709-49A5-9C13-04860831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176-4893-4E47-B596-C29FB65E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0A0-5AF7-493F-BD44-ACD1E15D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D2F-2D7E-464C-9B5D-FCBB078A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DF5-061E-48F9-AF85-91476767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0EE-0306-4786-BE33-FC7748A2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CBD-FB83-498E-985B-8A876E1C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FA0-4EC6-4ED7-80D4-60AB3E3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9A4-B0F0-41EE-9091-A8773EB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F0C-B5E8-461E-A619-6B8AF6B7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2DC2-3404-416B-821D-F3C0CC62F980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Vangelis%20-%20Conquest%20of%20paradise(long%20version)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29040"/>
            <a:ext cx="86868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DALI</a:t>
            </a:r>
            <a:br>
              <a:rPr sz="9600"/>
            </a:br>
            <a:br>
              <a:rPr sz="9600"/>
            </a:b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GENIE</a:t>
            </a:r>
            <a:br>
              <a:rPr sz="9600"/>
            </a:b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7358040"/>
            <a:ext cx="8229600" cy="4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ali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ali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al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ali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714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OU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7143840"/>
            <a:ext cx="8229600" cy="357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ali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ali2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ali6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ali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ali4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ali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429120"/>
            <a:ext cx="8229600" cy="728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Alors    dali</a:t>
            </a:r>
            <a:br>
              <a:rPr sz="8000"/>
            </a:b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genie   Ou    folie   ?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7214760"/>
            <a:ext cx="8229600" cy="14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DALI</a:t>
            </a:r>
            <a:br>
              <a:rPr sz="9600"/>
            </a:br>
            <a:br>
              <a:rPr sz="9600"/>
            </a:b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FOLI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7143840"/>
            <a:ext cx="8229600" cy="285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D:\Mijn Documenten\Bijlagen\GIF archief\The End draaiend01.gif"/>
          <p:cNvPicPr/>
          <p:nvPr/>
        </p:nvPicPr>
        <p:blipFill>
          <a:blip r:embed="rId2"/>
          <a:stretch/>
        </p:blipFill>
        <p:spPr>
          <a:xfrm>
            <a:off x="8229600" y="5715000"/>
            <a:ext cx="52560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1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533520" y="5334120"/>
            <a:ext cx="42004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folie est parfois splendide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" name="Picture 10" descr="D:\Mijn Documenten\Bijlagen\GIF archief\Music 115.gif"/>
          <p:cNvPicPr/>
          <p:nvPr/>
        </p:nvPicPr>
        <p:blipFill>
          <a:blip r:embed="rId2"/>
          <a:stretch/>
        </p:blipFill>
        <p:spPr>
          <a:xfrm>
            <a:off x="2286000" y="6340320"/>
            <a:ext cx="4572000" cy="365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  <p:sndAc>
      <p:stSnd>
        <p:snd r:embed="rId3" name="Vangelis%20-%20Conquest%20of%20paradise(long%20version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ali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al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ali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9:46:11Z</dcterms:created>
  <dc:creator/>
  <dc:description/>
  <dc:language>en-US</dc:language>
  <cp:lastModifiedBy>Smets</cp:lastModifiedBy>
  <dcterms:modified xsi:type="dcterms:W3CDTF">2009-12-25T06:08:21Z</dcterms:modified>
  <cp:revision>11</cp:revision>
  <dc:subject/>
  <dc:title>Salvatore Dali</dc:title>
</cp:coreProperties>
</file>