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6.jpeg" ContentType="image/jpeg"/>
  <Override PartName="/ppt/media/image4.jpeg" ContentType="image/jpeg"/>
  <Override PartName="/ppt/media/image5.jpeg" ContentType="image/jpeg"/>
  <Override PartName="/ppt/media/Vangelis%20-%20Conquest%20of%20paradise(long%20version).wav" ContentType="audio/x-wav"/>
  <Override PartName="/ppt/media/image2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319-E6A9-4DE3-8005-8B66520C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09E-11BC-422F-A2FD-F93C88FA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AA5-6DE5-42DC-B76C-6D3B7FF7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595-3544-4515-8B3E-143CE202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2B4-D9C4-408A-B1C3-C5C2F311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4DD-CDA4-483F-928C-CD7604CD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8A6-F715-4DCB-99CF-44D18FBA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ED4-EC64-494D-91F0-022C027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D46-8853-4C54-9501-F8366F4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D43-BB45-470F-A18A-A07A9F2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617-3D4F-4681-AD1D-3DBF8EA4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135-13DB-4CAF-886C-E08DE69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B950-02A3-4F33-9D05-166B110B4AB8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Vangelis%20-%20Conquest%20of%20paradise(long%20version)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29040"/>
            <a:ext cx="8686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GENIE</a:t>
            </a: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7358040"/>
            <a:ext cx="8229600" cy="4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ali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ali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OU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ali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ali4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ali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229600" cy="72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Alors    dali</a:t>
            </a:r>
            <a:br>
              <a:rPr sz="8000"/>
            </a:b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genie   Ou    folie   ?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7214760"/>
            <a:ext cx="8229600" cy="14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FOLI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28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D:\Mijn Documenten\Bijlagen\GIF archief\The End draaiend01.gif"/>
          <p:cNvPicPr/>
          <p:nvPr/>
        </p:nvPicPr>
        <p:blipFill>
          <a:blip r:embed="rId2"/>
          <a:stretch/>
        </p:blipFill>
        <p:spPr>
          <a:xfrm>
            <a:off x="8229600" y="5715000"/>
            <a:ext cx="52560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1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533520" y="5334120"/>
            <a:ext cx="42004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folie est parfois splendide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10" descr="D:\Mijn Documenten\Bijlagen\GIF archief\Music 115.gif"/>
          <p:cNvPicPr/>
          <p:nvPr/>
        </p:nvPicPr>
        <p:blipFill>
          <a:blip r:embed="rId2"/>
          <a:stretch/>
        </p:blipFill>
        <p:spPr>
          <a:xfrm>
            <a:off x="2286000" y="6340320"/>
            <a:ext cx="4572000" cy="36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  <p:sndAc>
      <p:stSnd>
        <p:snd r:embed="rId3" name="Vangelis%20-%20Conquest%20of%20paradise(long%20version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9:46:11Z</dcterms:created>
  <dc:creator/>
  <dc:description/>
  <dc:language>en-US</dc:language>
  <cp:lastModifiedBy>Smets</cp:lastModifiedBy>
  <dcterms:modified xsi:type="dcterms:W3CDTF">2009-12-25T06:08:21Z</dcterms:modified>
  <cp:revision>11</cp:revision>
  <dc:subject/>
  <dc:title>Salvatore Dali</dc:title>
</cp:coreProperties>
</file>