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16.png" ContentType="image/png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7CC-D713-44B9-8AEB-604A3B03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C50-A3DB-4D11-987F-B2CEB57F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1AA-FCCB-4167-B634-8A8D2560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B73-CFCE-4B63-9FA1-3B12154B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2D1-71EC-445C-B857-AD3E372F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1EF-EF2F-4DE9-B24A-8C0E37B7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F5A-92F5-405B-B595-30CD5205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AA8-B18C-4556-8FCD-FCD1F977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DEF-9C9F-45D0-9286-A43DD1E2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B16-DB02-4F0C-9698-E75DD0C9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0D1-BB1A-45A2-B5BB-4498BF21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232-6731-4203-8B62-BDA17001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399D-D354-4AB7-AFE6-E484D8171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OUS MACH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rs.A.Sangari &amp; Mrs.P.T.Subas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r. Lecturer &amp; Le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lectrical and Electronics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code : 1313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I ECE A &amp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066-2EB9-4BC0-8F3B-06A392BCDC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0480" y="957240"/>
            <a:ext cx="776124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8A0-8925-49AD-905B-6C60137699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4520" y="625320"/>
            <a:ext cx="845352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D46-5568-4A52-A333-B2E54486FB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7960" y="654120"/>
            <a:ext cx="7588080" cy="55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891-0645-47DB-9A03-682F51E27E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0720" y="1042920"/>
            <a:ext cx="7702560" cy="478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EF9-886D-4B8C-9BCF-DBDACCB452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9280" y="920880"/>
            <a:ext cx="7704000" cy="50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9C5-0EF1-4863-B564-1CD47A7E9E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2040" y="1065240"/>
            <a:ext cx="7818480" cy="473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7C1-A37C-4B17-A272-90813E1DA2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7680" y="841320"/>
            <a:ext cx="8108640" cy="51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85C-C833-4363-B494-D9E89C54B8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9560" y="841320"/>
            <a:ext cx="7184880" cy="51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A3A-47F9-4379-B24E-E9A0CB20CA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06400" y="798480"/>
            <a:ext cx="7531200" cy="527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E5C-D5DA-4DE2-B61C-A13B9FB577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OUS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i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ature leakage reac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reac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sing to 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C25-52D0-405A-8405-5231A0D17C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4520" y="538200"/>
            <a:ext cx="8453520" cy="57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365-E707-4936-9B03-5A6EF7BFE8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92080" y="647640"/>
            <a:ext cx="7358040" cy="55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073-47CA-456A-A099-283690CBCC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03200" y="523800"/>
            <a:ext cx="8337600" cy="581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374-86CC-43EE-ADD5-736ED858A9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49320" y="596880"/>
            <a:ext cx="7243920" cy="567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6EE-236E-4398-A70E-AB7DC1859F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040" y="415800"/>
            <a:ext cx="7818480" cy="603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971-27C8-48D5-8C17-0CDA50A488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93680" y="568440"/>
            <a:ext cx="695484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2EA-14F6-4BE8-8CF4-3F940DEB9F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36800" y="747720"/>
            <a:ext cx="7070400" cy="53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9FD-CEB9-4826-AE8D-C9D8015D8F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EEHOD</cp:lastModifiedBy>
  <dcterms:modified xsi:type="dcterms:W3CDTF">2011-05-09T05:59:2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