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9C6-F222-4E2A-BEEC-E30483B3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114-14C0-446D-9844-9F528CA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8A4-DF40-4A17-8FDA-3240F1E6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509-4BD7-4DF6-9D03-7F06487D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07E-E61E-48ED-AF5F-F75F6E71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952-6459-4275-9F4F-9AF92DEC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406-53D3-40B5-B8D2-F82659A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D8A-9823-4031-956F-91AAA11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D99-2D29-47B9-BE01-54A8F98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D5F-1583-46A4-A770-1953D44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E5E-D543-4E28-9249-01B85BD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205-4E16-428E-A283-0CDDDE1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070F-B3D1-477F-A812-009C90D4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MACH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rs.A.Sangari &amp; Mrs.P.T.Subas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r. Lecturer &amp; 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lectrical and Electronics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code : 1313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I ECE A &amp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D19-4E7E-4FFA-A77D-935D1CC574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0480" y="957240"/>
            <a:ext cx="776124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A80-72C6-4262-BF21-A5E9C79C2C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4520" y="625320"/>
            <a:ext cx="845352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1D9-605F-4F23-8C7F-7849D76BE9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7960" y="654120"/>
            <a:ext cx="7588080" cy="55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D62-1CA9-453D-8AFE-805E079F08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0720" y="1042920"/>
            <a:ext cx="7702560" cy="47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0B0-8449-44A1-9EEF-0F7C9AF530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9280" y="920880"/>
            <a:ext cx="7704000" cy="50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C11-93BE-4DCB-A6AF-37019F5CE5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040" y="1065240"/>
            <a:ext cx="7818480" cy="473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99B-2CA6-43BD-A76F-C8EB13F0F4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7680" y="841320"/>
            <a:ext cx="810864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F18-8E08-4C86-AAAE-428F2D5748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9560" y="841320"/>
            <a:ext cx="718488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0F7-EB74-4C59-9505-E8D2F31936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6400" y="798480"/>
            <a:ext cx="7531200" cy="527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CD4-D735-4408-ACFC-9FA7CAD08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ature leakage reac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reac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sing to 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A59-3342-4C0A-B4B7-66B496703F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4520" y="538200"/>
            <a:ext cx="8453520" cy="57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A5C-1D10-4AA8-A7F8-597B795D1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92080" y="647640"/>
            <a:ext cx="7358040" cy="55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EE9-4EE6-4E43-9994-EA31B9D523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3200" y="523800"/>
            <a:ext cx="8337600" cy="581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121-76ED-4C2E-AF5E-0BF3F7570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49320" y="596880"/>
            <a:ext cx="7243920" cy="567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6FA-F2FA-404A-B196-81EE67F403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040" y="415800"/>
            <a:ext cx="7818480" cy="603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B91-3C32-4F4C-A1BD-E5904DD8DD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93680" y="568440"/>
            <a:ext cx="69548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C1A-7DE2-46F2-8AFA-C9D78BD490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36800" y="747720"/>
            <a:ext cx="707040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95E-B1F5-475F-8ED6-122024FD0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EEHOD</cp:lastModifiedBy>
  <dcterms:modified xsi:type="dcterms:W3CDTF">2011-05-09T05:59:2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