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740B-6FF7-4AFB-8409-E10D070E4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4461-8063-442A-8F54-374F6BEE2E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68DC-BF89-41E5-94F7-256CF67A03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alysis for leucocy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F23A-67E2-491F-91BA-0FF94F91A2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AB28-A6F7-4383-8524-DE4483D5E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D899-A62C-49F3-9E15-6C2017A9E8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87F-4450-467A-A292-A3C7574A3A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C59B-5FF8-46AA-8EE6-B06CB27FFC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CE8-80F9-4248-9E7E-377A9FD2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28F-3ED4-4FE1-A4A6-B328474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F6E-32D0-4A34-BAD0-05F367D2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AFC-3D49-4319-9BCB-A845835B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935-F380-4E06-A619-2B8BAAE9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DCDA-0E0A-4216-8D7E-9306A961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5400-383A-4405-8D0B-B7CB29DB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39D0-9405-4586-977E-6E4FC8CD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D235-0349-4182-BCD5-4D60E7EF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737E-6818-40B0-9702-DCCF3C4D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1EB7-F5E3-4A2C-8EF1-47D5CB0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4F3-021E-452D-9ADB-2A570E19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F9CC-5E08-43B1-AEEE-6F9A278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4D58-273B-4B1E-B9F1-23C5131A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0429-707F-4E82-9529-F5842D2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F1FC-A729-45DC-8820-9BCDA269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0C1C-0E2C-4F22-840B-F5C1DFDB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220-604D-4159-AC73-2B5C7F59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C49-AEAB-469D-951E-3F113A9D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EE6-CFB8-423D-8B71-60DC431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39F-DE52-4BD9-BF07-B91F2093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C96-BA7D-4101-817F-9DF039A7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D14-DFD7-4A85-8970-2ADF055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4E4-96E9-4B9A-9B07-B28D9399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01B7-68A0-4FF3-88D4-8DD5C6C2EF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DFBB-EB0D-49D2-96C3-F4A8477B3B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Urinary Tract Infec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920" y="418680"/>
            <a:ext cx="82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equency of significant bacteriuri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77920" y="1887480"/>
            <a:ext cx="8686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one bladder catheterization: 2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cal outpatients: 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gnancy at term: 1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pertensive patients: 14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betes mellitus: 2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men with cystocoele: 23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873756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equency of significant bacteriuria (2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565000"/>
            <a:ext cx="8507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genital urologic disease: 57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nephrosis; nephrolithiasis: 8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welling catheter, open drainage &gt; 48 hours: 9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2286000" y="6227640"/>
            <a:ext cx="66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ckson et al, Arch Intern Med 1962; 110: 66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05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tiology of UT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unity-acquired UT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1978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erobic gram-negative rods most of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ccounts for about 9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phylococcus saprophyticu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s been increasingly appreciated in recent yea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re: anaerobes; pyogenic cocci; viru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socomial UT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1762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most common 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also common are other Enterobacteriacae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lebsi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erobac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rat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vide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es) and Pseudomonadaceae (notably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seudomon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eruginos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ococci: often in obstructive 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s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di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lbic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6000" y="342720"/>
            <a:ext cx="7450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rease-producing microorganisms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3680" y="1762200"/>
            <a:ext cx="877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ase splits urea into ammonia, which has a direct toxic effect on the kidney; inactivates C4, and alkalinizes the urine with production of struvite crystals (Mg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 crys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us mirabil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ten; 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vide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rgan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. saprophyti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lebsi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Corynebacterium D2;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I in childr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borns: overall rate is about 1% (higher in males than in femal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chool children: UTI is 10 to 20 times more common in gir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-aged children: about 1.2% of schoolgirls have bacteriuria on any given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I in ad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men: bacteriuria increases with age and sexual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: bacteriuria is rare before age 50. Subsequently, bacteriuria increases with onset of prostat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400" y="4186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ole of bacterial virulence in UT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690560"/>
            <a:ext cx="8856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adherence to uroepithelial cells involves specific binding of bacterial surface receptor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dhes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to complementary components on the epithelial cell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cept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ility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adhere to uroepithelial cells is associated with the presence of pili or fimbria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ule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ai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ltiple factors, including adhesins, hemolysin, capsular polysaccharide, aerobacti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image 9"/>
          <p:cNvPicPr/>
          <p:nvPr/>
        </p:nvPicPr>
        <p:blipFill>
          <a:blip r:embed="rId1"/>
          <a:stretch/>
        </p:blipFill>
        <p:spPr>
          <a:xfrm>
            <a:off x="100080" y="138240"/>
            <a:ext cx="89424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E:\DATA HP MINI\FOTO\Ranu Kumbolo\DSLR\DSC_0201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027" descr="image 10"/>
          <p:cNvPicPr/>
          <p:nvPr/>
        </p:nvPicPr>
        <p:blipFill>
          <a:blip r:embed="rId1"/>
          <a:srcRect l="9957" t="11639" r="9943" b="5117"/>
          <a:stretch/>
        </p:blipFill>
        <p:spPr>
          <a:xfrm>
            <a:off x="0" y="0"/>
            <a:ext cx="91090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1360" y="2171880"/>
            <a:ext cx="7518240" cy="125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Host defens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875880"/>
            <a:ext cx="8207280" cy="12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tibacterial properties of urin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2712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molality (extremes of high or low osmolalities inhibit bacterial growt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urea concen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organic acid concen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488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i-adherence mechanis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1280" y="1866960"/>
            <a:ext cx="825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interference (naturally endogenous bacteria in the urethra, vagina, and periurethral reg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oligosaccharides (have the potential to detach epithelial-boun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E. co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m-Horsfall protein (uromucoid): coating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is protein might prevent attac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iscellaneou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922040"/>
            <a:ext cx="87138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copolysaccharide lining of the blad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rinary immunoglobul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ontaneous exfoliation of uroepithelial cells with bacterial detach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cal flushing of mictur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649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echanisms of UTI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68360" y="26208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hway Of Renal Inf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1227240" y="1068480"/>
            <a:ext cx="6784920" cy="5474160"/>
            <a:chOff x="1227240" y="1068480"/>
            <a:chExt cx="6784920" cy="5474160"/>
          </a:xfrm>
        </p:grpSpPr>
        <p:sp>
          <p:nvSpPr>
            <p:cNvPr id="244" name="Line 4"/>
            <p:cNvSpPr/>
            <p:nvPr/>
          </p:nvSpPr>
          <p:spPr>
            <a:xfrm flipV="1">
              <a:off x="4843440" y="608580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Group 5"/>
            <p:cNvGrpSpPr/>
            <p:nvPr/>
          </p:nvGrpSpPr>
          <p:grpSpPr>
            <a:xfrm>
              <a:off x="3372120" y="1768320"/>
              <a:ext cx="2950920" cy="4102920"/>
              <a:chOff x="3372120" y="1768320"/>
              <a:chExt cx="2950920" cy="4102920"/>
            </a:xfrm>
          </p:grpSpPr>
          <p:pic>
            <p:nvPicPr>
              <p:cNvPr id="246" name="Picture 6" descr="Ginjal - rute ISK a"/>
              <p:cNvPicPr/>
              <p:nvPr/>
            </p:nvPicPr>
            <p:blipFill>
              <a:blip r:embed="rId1"/>
              <a:stretch/>
            </p:blipFill>
            <p:spPr>
              <a:xfrm>
                <a:off x="3844080" y="1768320"/>
                <a:ext cx="1956960" cy="16336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pic>
            <p:nvPicPr>
              <p:cNvPr id="247" name="Picture 7" descr="Ginjal - rute ISK b"/>
              <p:cNvPicPr/>
              <p:nvPr/>
            </p:nvPicPr>
            <p:blipFill>
              <a:blip r:embed="rId2"/>
              <a:stretch/>
            </p:blipFill>
            <p:spPr>
              <a:xfrm>
                <a:off x="3372120" y="2098800"/>
                <a:ext cx="2950920" cy="37724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</p:grpSp>
        <p:sp>
          <p:nvSpPr>
            <p:cNvPr id="248" name="Text Box 8"/>
            <p:cNvSpPr/>
            <p:nvPr/>
          </p:nvSpPr>
          <p:spPr>
            <a:xfrm>
              <a:off x="1857600" y="5271840"/>
              <a:ext cx="2881080" cy="1270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ASCENDING INFE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on agents 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253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.co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253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te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253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terobac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9"/>
            <p:cNvSpPr/>
            <p:nvPr/>
          </p:nvSpPr>
          <p:spPr>
            <a:xfrm>
              <a:off x="4954680" y="5957640"/>
              <a:ext cx="21607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cterial coloniz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10"/>
            <p:cNvSpPr/>
            <p:nvPr/>
          </p:nvSpPr>
          <p:spPr>
            <a:xfrm>
              <a:off x="5572440" y="5613120"/>
              <a:ext cx="2160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cteria enter blad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 Box 11"/>
            <p:cNvSpPr/>
            <p:nvPr/>
          </p:nvSpPr>
          <p:spPr>
            <a:xfrm>
              <a:off x="5851800" y="5140080"/>
              <a:ext cx="2160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ranged vesicoureteral jun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12"/>
            <p:cNvSpPr/>
            <p:nvPr/>
          </p:nvSpPr>
          <p:spPr>
            <a:xfrm>
              <a:off x="5819760" y="4444920"/>
              <a:ext cx="21607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Vesicoureteral refl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5675400" y="3436560"/>
              <a:ext cx="1584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rarenal refl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14"/>
            <p:cNvSpPr/>
            <p:nvPr/>
          </p:nvSpPr>
          <p:spPr>
            <a:xfrm>
              <a:off x="5099040" y="1852560"/>
              <a:ext cx="86364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OR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3340080" y="2036520"/>
              <a:ext cx="10796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cterem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16"/>
            <p:cNvGrpSpPr/>
            <p:nvPr/>
          </p:nvGrpSpPr>
          <p:grpSpPr>
            <a:xfrm>
              <a:off x="1227240" y="1068480"/>
              <a:ext cx="3559320" cy="1488240"/>
              <a:chOff x="1227240" y="1068480"/>
              <a:chExt cx="3559320" cy="1488240"/>
            </a:xfrm>
          </p:grpSpPr>
          <p:sp>
            <p:nvSpPr>
              <p:cNvPr id="257" name="Text Box 17"/>
              <p:cNvSpPr/>
              <p:nvPr/>
            </p:nvSpPr>
            <p:spPr>
              <a:xfrm>
                <a:off x="1227240" y="1068480"/>
                <a:ext cx="2881440" cy="1057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6600"/>
                    </a:solidFill>
                    <a:latin typeface="Arial"/>
                  </a:rPr>
                  <a:t>HEMATOGENOUS INFECTI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mmon agents 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625320" indent="-16812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taphylococc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625320" indent="-16812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.col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8" name="Group 18"/>
              <p:cNvGrpSpPr/>
              <p:nvPr/>
            </p:nvGrpSpPr>
            <p:grpSpPr>
              <a:xfrm>
                <a:off x="4051440" y="1188720"/>
                <a:ext cx="735120" cy="1368000"/>
                <a:chOff x="4051440" y="1188720"/>
                <a:chExt cx="735120" cy="1368000"/>
              </a:xfrm>
            </p:grpSpPr>
            <p:sp>
              <p:nvSpPr>
                <p:cNvPr id="259" name="Line 19"/>
                <p:cNvSpPr/>
                <p:nvPr/>
              </p:nvSpPr>
              <p:spPr>
                <a:xfrm>
                  <a:off x="4051440" y="1196280"/>
                  <a:ext cx="71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86560" y="1188720"/>
                  <a:ext cx="0" cy="136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1" name="Line 21"/>
            <p:cNvSpPr/>
            <p:nvPr/>
          </p:nvSpPr>
          <p:spPr>
            <a:xfrm>
              <a:off x="4043520" y="630216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>
              <a:off x="4235760" y="2196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 flipV="1">
              <a:off x="5978520" y="3294000"/>
              <a:ext cx="0" cy="21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5531040" y="4597200"/>
              <a:ext cx="28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 flipH="1">
              <a:off x="5396040" y="5381280"/>
              <a:ext cx="43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 flipH="1">
              <a:off x="5283000" y="575748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2920" y="11556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THOGENESI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3320" y="912960"/>
            <a:ext cx="891540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t fl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opatho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oniz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rier normal muc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st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TERIA  VIRUL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OST’S IMMUNE DEF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V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Intrarenal Refl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Urinary tra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Foreign bodies (cateter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ute Pyelonephri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arr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rose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Asc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AutoShape 4"/>
          <p:cNvGrpSpPr/>
          <p:nvPr/>
        </p:nvGrpSpPr>
        <p:grpSpPr>
          <a:xfrm>
            <a:off x="4468680" y="1122480"/>
            <a:ext cx="206640" cy="425160"/>
            <a:chOff x="4468680" y="1122480"/>
            <a:chExt cx="206640" cy="425160"/>
          </a:xfrm>
        </p:grpSpPr>
        <p:pic>
          <p:nvPicPr>
            <p:cNvPr id="270" name="AutoShape 4" descr=""/>
            <p:cNvPicPr/>
            <p:nvPr/>
          </p:nvPicPr>
          <p:blipFill>
            <a:blip r:embed="rId1"/>
            <a:stretch/>
          </p:blipFill>
          <p:spPr>
            <a:xfrm>
              <a:off x="4468680" y="1122480"/>
              <a:ext cx="20664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533840" y="1141560"/>
              <a:ext cx="763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AutoShape 5"/>
          <p:cNvGrpSpPr/>
          <p:nvPr/>
        </p:nvGrpSpPr>
        <p:grpSpPr>
          <a:xfrm>
            <a:off x="4462560" y="1731960"/>
            <a:ext cx="218880" cy="345960"/>
            <a:chOff x="4462560" y="1731960"/>
            <a:chExt cx="218880" cy="345960"/>
          </a:xfrm>
        </p:grpSpPr>
        <p:pic>
          <p:nvPicPr>
            <p:cNvPr id="273" name="AutoShape 5" descr=""/>
            <p:cNvPicPr/>
            <p:nvPr/>
          </p:nvPicPr>
          <p:blipFill>
            <a:blip r:embed="rId2"/>
            <a:stretch/>
          </p:blipFill>
          <p:spPr>
            <a:xfrm>
              <a:off x="4462560" y="1731960"/>
              <a:ext cx="21888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33840" y="1751040"/>
              <a:ext cx="76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AutoShape 6"/>
          <p:cNvGrpSpPr/>
          <p:nvPr/>
        </p:nvGrpSpPr>
        <p:grpSpPr>
          <a:xfrm>
            <a:off x="4468680" y="2262240"/>
            <a:ext cx="206640" cy="425520"/>
            <a:chOff x="4468680" y="2262240"/>
            <a:chExt cx="206640" cy="425520"/>
          </a:xfrm>
        </p:grpSpPr>
        <p:pic>
          <p:nvPicPr>
            <p:cNvPr id="276" name="AutoShape 6" descr=""/>
            <p:cNvPicPr/>
            <p:nvPr/>
          </p:nvPicPr>
          <p:blipFill>
            <a:blip r:embed="rId3"/>
            <a:stretch/>
          </p:blipFill>
          <p:spPr>
            <a:xfrm>
              <a:off x="4468680" y="2262240"/>
              <a:ext cx="20664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33840" y="2284560"/>
              <a:ext cx="763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AutoShape 7"/>
          <p:cNvGrpSpPr/>
          <p:nvPr/>
        </p:nvGrpSpPr>
        <p:grpSpPr>
          <a:xfrm>
            <a:off x="4462560" y="2871720"/>
            <a:ext cx="218880" cy="273240"/>
            <a:chOff x="4462560" y="2871720"/>
            <a:chExt cx="218880" cy="273240"/>
          </a:xfrm>
        </p:grpSpPr>
        <p:pic>
          <p:nvPicPr>
            <p:cNvPr id="279" name="AutoShape 7" descr=""/>
            <p:cNvPicPr/>
            <p:nvPr/>
          </p:nvPicPr>
          <p:blipFill>
            <a:blip r:embed="rId4"/>
            <a:stretch/>
          </p:blipFill>
          <p:spPr>
            <a:xfrm>
              <a:off x="4462560" y="2871720"/>
              <a:ext cx="2188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533840" y="2894040"/>
              <a:ext cx="763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AutoShape 8"/>
          <p:cNvGrpSpPr/>
          <p:nvPr/>
        </p:nvGrpSpPr>
        <p:grpSpPr>
          <a:xfrm>
            <a:off x="4475160" y="3408480"/>
            <a:ext cx="193680" cy="2133360"/>
            <a:chOff x="4475160" y="3408480"/>
            <a:chExt cx="193680" cy="2133360"/>
          </a:xfrm>
        </p:grpSpPr>
        <p:pic>
          <p:nvPicPr>
            <p:cNvPr id="282" name="AutoShape 8" descr=""/>
            <p:cNvPicPr/>
            <p:nvPr/>
          </p:nvPicPr>
          <p:blipFill>
            <a:blip r:embed="rId5"/>
            <a:stretch/>
          </p:blipFill>
          <p:spPr>
            <a:xfrm>
              <a:off x="4475160" y="3408480"/>
              <a:ext cx="193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533840" y="3427560"/>
              <a:ext cx="7632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AutoShape 9"/>
          <p:cNvSpPr/>
          <p:nvPr/>
        </p:nvSpPr>
        <p:spPr>
          <a:xfrm>
            <a:off x="3048120" y="350352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0"/>
          <p:cNvSpPr/>
          <p:nvPr/>
        </p:nvSpPr>
        <p:spPr>
          <a:xfrm rot="10660200">
            <a:off x="4723920" y="350316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AutoShape 13"/>
          <p:cNvGrpSpPr/>
          <p:nvPr/>
        </p:nvGrpSpPr>
        <p:grpSpPr>
          <a:xfrm>
            <a:off x="3852720" y="5767560"/>
            <a:ext cx="219240" cy="352080"/>
            <a:chOff x="3852720" y="5767560"/>
            <a:chExt cx="219240" cy="352080"/>
          </a:xfrm>
        </p:grpSpPr>
        <p:pic>
          <p:nvPicPr>
            <p:cNvPr id="287" name="AutoShape 13" descr=""/>
            <p:cNvPicPr/>
            <p:nvPr/>
          </p:nvPicPr>
          <p:blipFill>
            <a:blip r:embed="rId6"/>
            <a:stretch/>
          </p:blipFill>
          <p:spPr>
            <a:xfrm>
              <a:off x="3852720" y="5767560"/>
              <a:ext cx="21924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24360" y="5789520"/>
              <a:ext cx="76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AutoShape 14"/>
          <p:cNvGrpSpPr/>
          <p:nvPr/>
        </p:nvGrpSpPr>
        <p:grpSpPr>
          <a:xfrm>
            <a:off x="5224320" y="5767560"/>
            <a:ext cx="219240" cy="352080"/>
            <a:chOff x="5224320" y="5767560"/>
            <a:chExt cx="219240" cy="352080"/>
          </a:xfrm>
        </p:grpSpPr>
        <p:pic>
          <p:nvPicPr>
            <p:cNvPr id="290" name="AutoShape 14" descr=""/>
            <p:cNvPicPr/>
            <p:nvPr/>
          </p:nvPicPr>
          <p:blipFill>
            <a:blip r:embed="rId7"/>
            <a:stretch/>
          </p:blipFill>
          <p:spPr>
            <a:xfrm>
              <a:off x="5224320" y="5767560"/>
              <a:ext cx="21924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295960" y="5789520"/>
              <a:ext cx="76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Text Box 15"/>
          <p:cNvSpPr/>
          <p:nvPr/>
        </p:nvSpPr>
        <p:spPr>
          <a:xfrm>
            <a:off x="228600" y="3656160"/>
            <a:ext cx="335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-fimb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 &amp; K sero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emolic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istine 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erobact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ctericidal action  resist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chanisms of lower UT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8036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ly, 99.9% of a bladder inoculum of bacteria is promptly excreted by voi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cient antibodies in vaginal secretions; and biochemical differences in receptors on uroepithelial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chanisms of upper UT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0920" y="177768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ent of bacteria from the bladder to the kidneys is promoted by obstruction and by reflu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, motile bacteria can ascend against the flow of a column of urine. Gram-negative bacteria (or endotoxin derived from them) can inhibit ureteral peristal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7440" y="475920"/>
            <a:ext cx="690912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verview of UTI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6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s: “presence of micro organisms within the urinary trac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difficult to distinguish between contamination, colonisation or infection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re in men and in children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in fema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2/3rds of patients are women; 40% to 50% of women have UTI at some point during their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complications of pregnancy, diabetes mellitus, polycystic disease, renal transplantation, conditions that impede urine flow (structural and neurologi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f left untreated, simple cystitis may progress to renal scarring ie/pyelonephritis which may develop renal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8804160" cy="108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calization: upper vs. low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9280" y="19782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di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attern of recurrence (i.e., same organism?); maximum urinary concentration; water loading test; serum antibodies; cellular excretion; urinary 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i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enal biopsy; ureteral catheterization; antibody-coated bacteri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calization: upper vs. lowe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(in practice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000" y="1929960"/>
            <a:ext cx="835164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, dysuria, and urgency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wer UTI symptoms.. sometime can occur with upper UTI a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 and flank pai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ute upper urinary tract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rring of the kidney by imaging procedures suggests chronic U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inction is sometimes diffic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ute cys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70640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zed by sudden onset, multiple urinary symptoms, pyuria, and sometimes hematuria (uncomm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dysuria in young women usually indicates: acute bacterial cystitis; the urethral syndrome; or vag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80%)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. saprophyticu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0% to 15%), and occasionall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lebsie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teus mirabil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other micro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485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ute uncomplicated pyelonephriti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14320"/>
            <a:ext cx="856908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ly a clinic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uria is usually present; about 20% have positive blood cultures; causative organisms the same as with cys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sposing factors: structural abnormalities; strain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unique markers; genetically-determined carbohydrate receptors on uroepithelial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current UTIs in wo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2000" y="1906560"/>
            <a:ext cx="85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20% and 25% of young women with acute uncomplicated cystitis have 2 or more infections per yea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due to reinfection with a differ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sposing factors: genetically-determined receptors on uroepithelial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icated U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: UTI in patients with predisposing anatomic, functional, or metabolic abnorma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of organisms is skewed toward difficult-to-treat pathogens (e.g.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seudomon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., yeasts, enterococci, Enterobacteriaceae other th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atheter-associated UT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k factors: female sex; duration of catheterization; disconnecting the junction between the catheter and the collecting tu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3" descr="image 15"/>
          <p:cNvPicPr/>
          <p:nvPr/>
        </p:nvPicPr>
        <p:blipFill>
          <a:blip r:embed="rId1"/>
          <a:stretch/>
        </p:blipFill>
        <p:spPr>
          <a:xfrm>
            <a:off x="353880" y="74520"/>
            <a:ext cx="843444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5569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ong-term bladder catheterization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of significant bacteriuria in patients who are not receiving antibiotics is 8% to 10%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85% of patients have at least two strains of bacteria and 10% have more than five st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pecies (notably, enterococci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seudomon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te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notoriously tend to pers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5480" y="771120"/>
            <a:ext cx="690876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sta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000" y="1978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psing acute urinary tract infection in men caused by the same bacterial species often suggests chronic prostatitis with periodic spill-over into the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pelvic “heaviness,” rectal or perineal pain, urinary hesitancy, dribbling, and bu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sk of catheter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>
            <a:lum contrast="6000"/>
          </a:blip>
          <a:srcRect l="8334" t="6735" r="8334" b="4034"/>
          <a:stretch/>
        </p:blipFill>
        <p:spPr>
          <a:xfrm>
            <a:off x="380880" y="1455840"/>
            <a:ext cx="8305920" cy="4890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TI by age and sex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GNOSI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510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Diagnosis of UTI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2039760"/>
            <a:ext cx="49528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ysical exam (P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ri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rine cul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Imaging stud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569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linical Presentation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rapubic pai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in or burning during urin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↑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and urgency of ur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u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ctu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at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udy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l or strong urine o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: fever, chills, malaise, N/V, weight loss, flank or back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50920" y="19224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stovertebral angle (CVA) tende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bdominal tenderness or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lpabl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ibbling, poor stream, or straining to v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he pelvic &amp; vaginal area in wom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r signs of irritation, vaginitis, trauma, or sexual ab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require a digital rectal examination to determine if prostate enlargement i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457200" y="6361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istory and Physical Examination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28240" y="1665360"/>
            <a:ext cx="873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uria : bacteria identified on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t bacteriuria 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 &gt; 100.000 colony /ml fresh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old stand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iagnostic U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rin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941400" y="6174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gnosis of 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gnosis of UT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80880" y="1523880"/>
            <a:ext cx="868680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termination of the number and type of bacteria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important diagnostic procedur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≥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FU bacteria/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ptom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≥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FU bacteria/ml on 2 consecutive  speci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heterized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≥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FU bacteria/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tibiotic, high urea concentration, high osmolarity, low pH 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inhibits bacterial multiplication 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low bacterial colony cou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Urinalysis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51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clues for an accurate dia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lor and cloudiness of ur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cid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hite blood cells (leukocyt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can be started without the need for further tests if the following urinalysis results are present in patients with symptoms and signs of UT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 high white cell cou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loudy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rinaly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1484280"/>
          <a:ext cx="8229600" cy="5092560"/>
        </p:xfrm>
        <a:graphic>
          <a:graphicData uri="http://schemas.openxmlformats.org/drawingml/2006/table">
            <a:tbl>
              <a:tblPr/>
              <a:tblGrid>
                <a:gridCol w="2459160"/>
                <a:gridCol w="3456000"/>
                <a:gridCol w="23144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rmal val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-8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rite t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5 / hp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5 /  hp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17440" y="41868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te blood cell cas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2911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significa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suggests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6" descr="WBCcast"/>
          <p:cNvPicPr/>
          <p:nvPr/>
        </p:nvPicPr>
        <p:blipFill>
          <a:blip r:embed="rId1"/>
          <a:stretch/>
        </p:blipFill>
        <p:spPr>
          <a:xfrm>
            <a:off x="3929040" y="1752480"/>
            <a:ext cx="399564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05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SA-ISK1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General Principles of treatment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833120"/>
            <a:ext cx="8964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xcept in acute uncomplicated cystitis in women, a urine culture, a Gram stain, or an alternative rapid diagnostic test should be performed to confirm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nfectio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before treatment is begu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.  Factors predisposing should be identified and correc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3.  Relief of clinical symptoms ≠ bacteriologic cu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ach course of treatment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failure or cu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general, lower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ract </a:t>
            </a:r>
            <a:r>
              <a:rPr b="1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ort courses, upper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ract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onger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munity-acquired infections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ntibiotic-sensitive strai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7.  In patients with repeated infections, instrumentation, or recent hospitalization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ntibiotic-resistant strains should be suspec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488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Goals of Therapy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97820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or treat systemic 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e symp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dicate invading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uropathogenic bacterial strains from fecal &amp; vaginal reservo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reoccurrence of infe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long-term sequel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687096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Antimicrobial Selection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22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 Therap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based on most probable pathoge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local rates of resista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acute infection vs chro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reinfection or relap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- indwelling catheter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urine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effects on fecal and vaginal fl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ble safety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-eff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65736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ntimicrobial Therapy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stitis - usually responds to 3 days of treatmen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ffective concentrations into the urine &gt; ser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complicated pyelonephritis - 2 weeks treatmen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ffective concentrations into the urine = ser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licated infections / prostatitis - 6 week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V antibiotics may be required in seriously ill patients, but oral drugs usually effec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533376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ntimicrobial Therapy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Acute Uncomplicated cystit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methoprim/sulfamethoxazo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MP/SM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S (160/800 mg) BI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oquinol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rofloxacin 250 mg BI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ofloxacin 250mg Q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ifloxacin 200 mg Q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furantoin: 100 mg QD x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phalosporins, doxycycline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xicillin/clavula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39640" y="1219320"/>
            <a:ext cx="8050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Acute pyelonephrit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on therapy= 7-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MP/SM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S (160/800 mg) BID x 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oquino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rofloxacin 500 mg BID x 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ofloxacin 250mg QD x 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ifloxacin 250 mg QDx 14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phalosporins, doxycyclin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xicillin/clavula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 seriously ill patients → IV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61892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timicrobial Therap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I in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9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ould be screened for UTI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igh risk for UTIs and their complications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ymptomatic bacteriuria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ave a 30% risk for acute PN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hort course of antibiotics (3 to 5 days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complicated UTI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need longer-term antibiotics (7 to 10 days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lfonamides, nitrofurantoin, ampicillin, cephalexin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afe in early pregna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void: sulfonamides (near term </a:t>
            </a:r>
            <a:r>
              <a:rPr b="0" i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kern icterus ), TMP (toxic effects in the fetus at high doses), fluoroquinolone (fetal cartilage development)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3" descr="image 11"/>
          <p:cNvPicPr/>
          <p:nvPr/>
        </p:nvPicPr>
        <p:blipFill>
          <a:blip r:embed="rId1"/>
          <a:stretch/>
        </p:blipFill>
        <p:spPr>
          <a:xfrm>
            <a:off x="100080" y="163440"/>
            <a:ext cx="89424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TI in Me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9280" y="1231560"/>
            <a:ext cx="88934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ommon in younger than 5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der than 50 year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sumed from prostate or kidn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rent infectio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stained focus within the pro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y of eradication of prostatic fo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failure antimicrobial diffuse into the prostatic g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ostate may harbor calculi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lock drainage or act as a foreign 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enlarged &amp; inflamed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ladder outlet obstru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ve therapy: at least 4-6 weeks with TMP/SMX, fluoroquinol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treat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tomic fa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 due to E. faecalis or P. aerugin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ment relaps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ng term antimicrobial suppression, repeated treatment courses for each relapse and surgical removal of infected prostate g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nosis for most women with cystitis and pyelonephritis is good; about 25% of women with cystitis will experience a recurr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nosis for emphysematous pyelonephritis is not as good and is discussed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Concer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ed cysts in polycystic kidney disease respond to treatment slow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gn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117440" y="419040"/>
            <a:ext cx="690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image 16"/>
          <p:cNvPicPr/>
          <p:nvPr/>
        </p:nvPicPr>
        <p:blipFill>
          <a:blip r:embed="rId1"/>
          <a:stretch/>
        </p:blipFill>
        <p:spPr>
          <a:xfrm>
            <a:off x="100080" y="112680"/>
            <a:ext cx="894240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4560" y="1566360"/>
            <a:ext cx="89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industrialized countries, kidney damage with long-term complications as a consequence of urinary tract infection per se is currently less common than in the early 20th century, when pyelonephritis was a frequent cause of hypertension and ESRD in young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hange is probably a result of improved overall healthcare and close follow-up of children after an episode of pyelonephrit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Progn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E:\DATA HP MINI\FOTO\Ranu Kumbolo\DSLR\DSC_0277r.jpg"/>
          <p:cNvPicPr/>
          <p:nvPr/>
        </p:nvPicPr>
        <p:blipFill>
          <a:blip r:embed="rId1"/>
          <a:stretch/>
        </p:blipFill>
        <p:spPr>
          <a:xfrm>
            <a:off x="3597120" y="2781360"/>
            <a:ext cx="194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E:\DATA HP MINI\FOTO\Ranu Kumbolo\DSLR\DSC_0277.JPG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1524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ased on ana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pper UTI (pyelonephr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wer UTI ( cystitis, urethr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ased on clinical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ymptomatic 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ymptomatic 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Based on com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ncomplicated UTI: infection involving a structurally and functionally normal urinary tr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licated UTI : UTI with any underlying neurologic,structural or medical problems (include UTI in m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r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" y="1125360"/>
            <a:ext cx="8991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Urinary Tract Infectio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microbial colonization of the urine and infection of the structure of urinary tr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Bacteriuria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: the presence of the bacteria in th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Significant bacteriuria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→ ≥ 100.000 cfu/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Frequent recurren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→ &gt; 4 events every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Relaps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→ same organism, after era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Re-infec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→ different organism, after era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Persisten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s the continued infection of the same microorganism despite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r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UTI”: infection above the level of th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UTI”: infection at or below the level of th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hral syndrome”: clinical manifestations of lower UTI (dysuria, frequency, urgency) without significant bacteri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uria: the presence of leukocytes]in urine, which may or may not be caused by U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4:41:38Z</dcterms:created>
  <dc:creator>dpc</dc:creator>
  <dc:description/>
  <dc:language>en-US</dc:language>
  <cp:lastModifiedBy>Asus</cp:lastModifiedBy>
  <dcterms:modified xsi:type="dcterms:W3CDTF">2013-02-26T15:28:13Z</dcterms:modified>
  <cp:revision>295</cp:revision>
  <dc:subject/>
  <dc:title>Slide 1</dc:title>
</cp:coreProperties>
</file>