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9B20-1430-456F-A1F1-FEDF9399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1E24-D337-4113-B47C-B52A1B198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7AA-3291-4DAF-B097-8393E08AE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for leucocy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091-A712-44A6-A4F6-7676DD4FF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A55-9B1C-40B6-B9ED-33A4511BF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8BF-AFDD-4985-82C8-8E3E491A96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4001-3050-445D-930F-A3C3EB2C7F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7016-0DE3-410E-844D-1B7A0241C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EDF-48AF-48A6-A54D-11842F1E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F34-B6EF-4DB5-A393-FD009BB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8DA-4118-4F7F-827E-07D5F7D4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062-B4F6-4E55-96CD-1C2AE78B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185D-55EB-49BD-AC94-C396F00B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07D-0D2B-4116-B831-C7597F6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C0F-9243-484A-990D-A6740971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98E6-9E4E-4CDE-88E4-D8FE846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3939-9706-4915-9A4F-2B64E16F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569-09EE-4C22-9B73-760ADB08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C973-6C7B-4195-91E7-3598390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E20-1329-4D90-9D30-F87FC19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2D21-3CC6-4DD5-8303-E7955722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F400-3D16-443B-ADB0-8FA4576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688C-4AE3-49B4-AB81-6DD6E4A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CEA-74EE-4FB1-8DDB-4A1438A9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444-365B-4052-89F6-014D299F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27E-4D3F-4805-A63B-019BA720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BE1-284F-4683-9781-CE212D04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EDC-03C2-483E-84FD-FB74C56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704-59AF-4A4A-A3C0-851C63F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A1F-F4C5-486C-8E54-8D9F4D3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7A7-105F-4396-BA0A-0EBDDE6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E8E-68AB-4058-B537-EF3D94E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9DD-91FC-416C-8390-A5F5913C4B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9DB-2C89-48E7-9066-60301AFC3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Urinary Tract Infec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920" y="418680"/>
            <a:ext cx="82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equency of significant bacteriuri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7920" y="1887480"/>
            <a:ext cx="8686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one bladder catheterization: 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outpatients: 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gnancy at term: 1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ertensive patients: 14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betes mellitus: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 with cystocoele: 2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73756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equency of significant bacteriuria (2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8507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genital urologic disease: 57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nephrosis; nephrolithiasis: 8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welling catheter, open drainage &gt; 48 hours: 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2286000" y="6227640"/>
            <a:ext cx="66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kson et al, Arch Intern Med 1962; 110: 66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0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tiology of UT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ty-acquired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978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erobic gram-negative rods most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counts for about 9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hylococcus saprophytic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s been increasingly appreciated in recent yea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re: anaerobes; pyogenic cocci; viru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socomial UT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762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most common 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lso common are other Enterobacteriacae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erobac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rat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es) and Pseudomonadaceae (notabl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eruginos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ococci: often in obstructive 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s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d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bic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6000" y="342720"/>
            <a:ext cx="74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rease-producing microorganism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3680" y="176220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ase splits urea into ammonia, which has a direct toxic effect on the kidney; inactivates C4, and alkalinizes the urine with production of struvite crystals (Mg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 crys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 mirabil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;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rgan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. saprophyti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orynebacterium D2;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childr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borns: overall rate is about 1% (higher in males than in femal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chool children: UTI is 10 to 20 times more common in gir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-aged children: about 1.2% of schoolgirls have bacteriuria on any given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ad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: bacteriuria increases with age and sexual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: bacteriuria is rare before age 50. Subsequently, bacteriuria increases with onset of prosta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400" y="4186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ole of bacterial virulence in UT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690560"/>
            <a:ext cx="8856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adherence to uroepithelial cells involves specific binding of bacterial surface receptor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hes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to complementary components on the epithelial cell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cep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adhere to uroepithelial cells is associated with the presence of pili or fimbri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le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ltiple factors, including adhesins, hemolysin, capsular polysaccharide, aerobacti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image 9"/>
          <p:cNvPicPr/>
          <p:nvPr/>
        </p:nvPicPr>
        <p:blipFill>
          <a:blip r:embed="rId1"/>
          <a:stretch/>
        </p:blipFill>
        <p:spPr>
          <a:xfrm>
            <a:off x="100080" y="138240"/>
            <a:ext cx="89424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:\DATA HP MINI\FOTO\Ranu Kumbolo\DSLR\DSC_0201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027" descr="image 10"/>
          <p:cNvPicPr/>
          <p:nvPr/>
        </p:nvPicPr>
        <p:blipFill>
          <a:blip r:embed="rId1"/>
          <a:srcRect l="9957" t="11639" r="9943" b="5117"/>
          <a:stretch/>
        </p:blipFill>
        <p:spPr>
          <a:xfrm>
            <a:off x="0" y="0"/>
            <a:ext cx="91090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1360" y="2171880"/>
            <a:ext cx="7518240" cy="125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ost defens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875880"/>
            <a:ext cx="8207280" cy="12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tibacterial properties of urin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molality (extremes of high or low osmolalities inhibit bacterial grow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urea concen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rganic acid concen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i-adherence mechanis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1866960"/>
            <a:ext cx="82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interference (naturally endogenous bacteria in the urethra, vagina, and periurethral reg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oligosaccharides (have the potential to detach epithelial-boun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E. 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m-Horsfall protein (uromucoid): coating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protein might prevent attac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iscellaneou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922040"/>
            <a:ext cx="87138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copolysaccharide lining of the blad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rinary immunoglobul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ontaneous exfoliation of uroepithelial cells with bacterial detach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flushing of mictur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649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echanisms of UTI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68360" y="26208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hway Of Renal Inf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1227240" y="1068480"/>
            <a:ext cx="6784920" cy="5474160"/>
            <a:chOff x="1227240" y="1068480"/>
            <a:chExt cx="6784920" cy="5474160"/>
          </a:xfrm>
        </p:grpSpPr>
        <p:sp>
          <p:nvSpPr>
            <p:cNvPr id="244" name="Line 4"/>
            <p:cNvSpPr/>
            <p:nvPr/>
          </p:nvSpPr>
          <p:spPr>
            <a:xfrm flipV="1">
              <a:off x="4843440" y="60858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5"/>
            <p:cNvGrpSpPr/>
            <p:nvPr/>
          </p:nvGrpSpPr>
          <p:grpSpPr>
            <a:xfrm>
              <a:off x="3372120" y="1768320"/>
              <a:ext cx="2950920" cy="4102920"/>
              <a:chOff x="3372120" y="1768320"/>
              <a:chExt cx="2950920" cy="4102920"/>
            </a:xfrm>
          </p:grpSpPr>
          <p:pic>
            <p:nvPicPr>
              <p:cNvPr id="246" name="Picture 6" descr="Ginjal - rute ISK a"/>
              <p:cNvPicPr/>
              <p:nvPr/>
            </p:nvPicPr>
            <p:blipFill>
              <a:blip r:embed="rId1"/>
              <a:stretch/>
            </p:blipFill>
            <p:spPr>
              <a:xfrm>
                <a:off x="3844080" y="1768320"/>
                <a:ext cx="1956960" cy="16336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pic>
            <p:nvPicPr>
              <p:cNvPr id="247" name="Picture 7" descr="Ginjal - rute ISK b"/>
              <p:cNvPicPr/>
              <p:nvPr/>
            </p:nvPicPr>
            <p:blipFill>
              <a:blip r:embed="rId2"/>
              <a:stretch/>
            </p:blipFill>
            <p:spPr>
              <a:xfrm>
                <a:off x="3372120" y="2098800"/>
                <a:ext cx="2950920" cy="37724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</p:grpSp>
        <p:sp>
          <p:nvSpPr>
            <p:cNvPr id="248" name="Text Box 8"/>
            <p:cNvSpPr/>
            <p:nvPr/>
          </p:nvSpPr>
          <p:spPr>
            <a:xfrm>
              <a:off x="1857600" y="5271840"/>
              <a:ext cx="2881080" cy="127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ASCENDING INF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on agents 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.co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te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obac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4954680" y="5957640"/>
              <a:ext cx="2160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ial coloniz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5572440" y="5613120"/>
              <a:ext cx="2160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ia enter blad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5851800" y="5140080"/>
              <a:ext cx="2160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ranged vesicoureteral jun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12"/>
            <p:cNvSpPr/>
            <p:nvPr/>
          </p:nvSpPr>
          <p:spPr>
            <a:xfrm>
              <a:off x="5819760" y="4444920"/>
              <a:ext cx="2160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esicoureteral refl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5675400" y="3436560"/>
              <a:ext cx="1584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rarenal refl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5099040" y="1852560"/>
              <a:ext cx="86364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OR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3340080" y="2036520"/>
              <a:ext cx="10796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em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16"/>
            <p:cNvGrpSpPr/>
            <p:nvPr/>
          </p:nvGrpSpPr>
          <p:grpSpPr>
            <a:xfrm>
              <a:off x="1227240" y="1068480"/>
              <a:ext cx="3559320" cy="1488240"/>
              <a:chOff x="1227240" y="1068480"/>
              <a:chExt cx="3559320" cy="1488240"/>
            </a:xfrm>
          </p:grpSpPr>
          <p:sp>
            <p:nvSpPr>
              <p:cNvPr id="257" name="Text Box 17"/>
              <p:cNvSpPr/>
              <p:nvPr/>
            </p:nvSpPr>
            <p:spPr>
              <a:xfrm>
                <a:off x="1227240" y="1068480"/>
                <a:ext cx="2881440" cy="1057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Arial"/>
                  </a:rPr>
                  <a:t>HEMATOGENOUS INFECTI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mon agents 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625320" indent="-16812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taphylococc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625320" indent="-16812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.col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8" name="Group 18"/>
              <p:cNvGrpSpPr/>
              <p:nvPr/>
            </p:nvGrpSpPr>
            <p:grpSpPr>
              <a:xfrm>
                <a:off x="4051440" y="1188720"/>
                <a:ext cx="735120" cy="1368000"/>
                <a:chOff x="4051440" y="1188720"/>
                <a:chExt cx="735120" cy="1368000"/>
              </a:xfrm>
            </p:grpSpPr>
            <p:sp>
              <p:nvSpPr>
                <p:cNvPr id="259" name="Line 19"/>
                <p:cNvSpPr/>
                <p:nvPr/>
              </p:nvSpPr>
              <p:spPr>
                <a:xfrm>
                  <a:off x="4051440" y="1196280"/>
                  <a:ext cx="71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86560" y="1188720"/>
                  <a:ext cx="0" cy="136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Line 21"/>
            <p:cNvSpPr/>
            <p:nvPr/>
          </p:nvSpPr>
          <p:spPr>
            <a:xfrm>
              <a:off x="4043520" y="630216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4235760" y="2196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 flipV="1">
              <a:off x="5978520" y="32940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5531040" y="459720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 flipH="1">
              <a:off x="5396040" y="5381280"/>
              <a:ext cx="43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 flipH="1">
              <a:off x="5283000" y="575748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2920" y="11556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HOGENES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3320" y="912960"/>
            <a:ext cx="89154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t fl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opatho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niz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ier normal muc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st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TERIA  VIRUL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OST’S IMMUNE DEF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V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Intrarenal Re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Urinary tra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Foreign bodies (cate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Pyelonephr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arr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rose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Asc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AutoShape 4"/>
          <p:cNvGrpSpPr/>
          <p:nvPr/>
        </p:nvGrpSpPr>
        <p:grpSpPr>
          <a:xfrm>
            <a:off x="4468680" y="1122480"/>
            <a:ext cx="206640" cy="425160"/>
            <a:chOff x="4468680" y="1122480"/>
            <a:chExt cx="206640" cy="425160"/>
          </a:xfrm>
        </p:grpSpPr>
        <p:pic>
          <p:nvPicPr>
            <p:cNvPr id="270" name="AutoShape 4" descr=""/>
            <p:cNvPicPr/>
            <p:nvPr/>
          </p:nvPicPr>
          <p:blipFill>
            <a:blip r:embed="rId1"/>
            <a:stretch/>
          </p:blipFill>
          <p:spPr>
            <a:xfrm>
              <a:off x="4468680" y="1122480"/>
              <a:ext cx="20664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33840" y="1141560"/>
              <a:ext cx="76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AutoShape 5"/>
          <p:cNvGrpSpPr/>
          <p:nvPr/>
        </p:nvGrpSpPr>
        <p:grpSpPr>
          <a:xfrm>
            <a:off x="4462560" y="1731960"/>
            <a:ext cx="218880" cy="345960"/>
            <a:chOff x="4462560" y="1731960"/>
            <a:chExt cx="218880" cy="345960"/>
          </a:xfrm>
        </p:grpSpPr>
        <p:pic>
          <p:nvPicPr>
            <p:cNvPr id="273" name="AutoShape 5" descr=""/>
            <p:cNvPicPr/>
            <p:nvPr/>
          </p:nvPicPr>
          <p:blipFill>
            <a:blip r:embed="rId2"/>
            <a:stretch/>
          </p:blipFill>
          <p:spPr>
            <a:xfrm>
              <a:off x="4462560" y="1731960"/>
              <a:ext cx="21888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33840" y="175104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AutoShape 6"/>
          <p:cNvGrpSpPr/>
          <p:nvPr/>
        </p:nvGrpSpPr>
        <p:grpSpPr>
          <a:xfrm>
            <a:off x="4468680" y="2262240"/>
            <a:ext cx="206640" cy="425520"/>
            <a:chOff x="4468680" y="2262240"/>
            <a:chExt cx="206640" cy="425520"/>
          </a:xfrm>
        </p:grpSpPr>
        <p:pic>
          <p:nvPicPr>
            <p:cNvPr id="276" name="AutoShape 6" descr=""/>
            <p:cNvPicPr/>
            <p:nvPr/>
          </p:nvPicPr>
          <p:blipFill>
            <a:blip r:embed="rId3"/>
            <a:stretch/>
          </p:blipFill>
          <p:spPr>
            <a:xfrm>
              <a:off x="4468680" y="2262240"/>
              <a:ext cx="2066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33840" y="2284560"/>
              <a:ext cx="76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AutoShape 7"/>
          <p:cNvGrpSpPr/>
          <p:nvPr/>
        </p:nvGrpSpPr>
        <p:grpSpPr>
          <a:xfrm>
            <a:off x="4462560" y="2871720"/>
            <a:ext cx="218880" cy="273240"/>
            <a:chOff x="4462560" y="2871720"/>
            <a:chExt cx="218880" cy="273240"/>
          </a:xfrm>
        </p:grpSpPr>
        <p:pic>
          <p:nvPicPr>
            <p:cNvPr id="279" name="AutoShape 7" descr=""/>
            <p:cNvPicPr/>
            <p:nvPr/>
          </p:nvPicPr>
          <p:blipFill>
            <a:blip r:embed="rId4"/>
            <a:stretch/>
          </p:blipFill>
          <p:spPr>
            <a:xfrm>
              <a:off x="4462560" y="2871720"/>
              <a:ext cx="2188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533840" y="2894040"/>
              <a:ext cx="763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AutoShape 8"/>
          <p:cNvGrpSpPr/>
          <p:nvPr/>
        </p:nvGrpSpPr>
        <p:grpSpPr>
          <a:xfrm>
            <a:off x="4475160" y="3408480"/>
            <a:ext cx="193680" cy="2133360"/>
            <a:chOff x="4475160" y="3408480"/>
            <a:chExt cx="193680" cy="2133360"/>
          </a:xfrm>
        </p:grpSpPr>
        <p:pic>
          <p:nvPicPr>
            <p:cNvPr id="282" name="AutoShape 8" descr=""/>
            <p:cNvPicPr/>
            <p:nvPr/>
          </p:nvPicPr>
          <p:blipFill>
            <a:blip r:embed="rId5"/>
            <a:stretch/>
          </p:blipFill>
          <p:spPr>
            <a:xfrm>
              <a:off x="4475160" y="3408480"/>
              <a:ext cx="19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533840" y="3427560"/>
              <a:ext cx="763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AutoShape 9"/>
          <p:cNvSpPr/>
          <p:nvPr/>
        </p:nvSpPr>
        <p:spPr>
          <a:xfrm>
            <a:off x="3048120" y="350352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 rot="10660200">
            <a:off x="4723920" y="350316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AutoShape 13"/>
          <p:cNvGrpSpPr/>
          <p:nvPr/>
        </p:nvGrpSpPr>
        <p:grpSpPr>
          <a:xfrm>
            <a:off x="3852720" y="5767560"/>
            <a:ext cx="219240" cy="352080"/>
            <a:chOff x="3852720" y="5767560"/>
            <a:chExt cx="219240" cy="352080"/>
          </a:xfrm>
        </p:grpSpPr>
        <p:pic>
          <p:nvPicPr>
            <p:cNvPr id="287" name="AutoShape 13" descr=""/>
            <p:cNvPicPr/>
            <p:nvPr/>
          </p:nvPicPr>
          <p:blipFill>
            <a:blip r:embed="rId6"/>
            <a:stretch/>
          </p:blipFill>
          <p:spPr>
            <a:xfrm>
              <a:off x="3852720" y="5767560"/>
              <a:ext cx="219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24360" y="578952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AutoShape 14"/>
          <p:cNvGrpSpPr/>
          <p:nvPr/>
        </p:nvGrpSpPr>
        <p:grpSpPr>
          <a:xfrm>
            <a:off x="5224320" y="5767560"/>
            <a:ext cx="219240" cy="352080"/>
            <a:chOff x="5224320" y="5767560"/>
            <a:chExt cx="219240" cy="352080"/>
          </a:xfrm>
        </p:grpSpPr>
        <p:pic>
          <p:nvPicPr>
            <p:cNvPr id="290" name="AutoShape 14" descr=""/>
            <p:cNvPicPr/>
            <p:nvPr/>
          </p:nvPicPr>
          <p:blipFill>
            <a:blip r:embed="rId7"/>
            <a:stretch/>
          </p:blipFill>
          <p:spPr>
            <a:xfrm>
              <a:off x="5224320" y="5767560"/>
              <a:ext cx="219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95960" y="578952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Text Box 15"/>
          <p:cNvSpPr/>
          <p:nvPr/>
        </p:nvSpPr>
        <p:spPr>
          <a:xfrm>
            <a:off x="228600" y="3656160"/>
            <a:ext cx="335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-fimb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&amp; K sero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emolic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istine 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bact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tericidal action  resist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chanisms of lower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ly, 99.9% of a bladder inoculum of bacteria is promptly excreted by voi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cient antibodies in vaginal secretions; and biochemical differences in receptors on uroepithelial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chanisms of upper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77768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t of bacteria from the bladder to the kidneys is promoted by obstruction and by reflu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, motile bacteria can ascend against the flow of a column of urine. Gram-negative bacteria (or endotoxin derived from them) can inhibit ureteral peristal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7440" y="475920"/>
            <a:ext cx="69091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view of UTI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6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s: “presence of micro organisms within the urinary trac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difficult to distinguish between contamination, colonisation or infection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re in men and in children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in fem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/3rds of patients are women; 40% to 50% of women have UTI at some point during their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complications of pregnancy, diabetes mellitus, polycystic disease, renal transplantation, conditions that impede urine flow (structural and neurologi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left untreated, simple cystitis may progress to renal scarring ie/pyelonephritis which may develop 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8804160" cy="108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calization: upper vs. low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19782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di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attern of recurrence (i.e., same organism?); maximum urinary concentration; water loading test; serum antibodies; cellular excretion; urinary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enal biopsy; ureteral catheterization; antibody-coated bacteri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calization: upper vs. lowe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in practic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1929960"/>
            <a:ext cx="83516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, dysuria, and urgency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wer UTI symptoms.. sometime can occur with upper UTI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and flank pa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ute upper urinary tract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rring of the kidney by imaging procedures suggests chronic U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inction is sometimes diffic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ute 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70640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ed by sudden onset, multiple urinary symptoms, pyuria, and sometimes hematuria (uncomm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dysuria in young women usually indicates: acute bacterial cystitis; the urethral syndrome; or vag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0%)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. saprophytic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% to 15%), and occasional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us mirabil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other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ute uncomplicated pyelonephriti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14320"/>
            <a:ext cx="85690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ly a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 is usually present; about 20% have positive blood cultures; causative organisms the same as with cys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sposing factors: structural abnormalities; strain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unique markers; genetically-determined carbohydrate receptors on uroepithelial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urrent UTIs in wo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2000" y="1906560"/>
            <a:ext cx="85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0% and 25% of young women with acute uncomplicated cystitis have 2 or more infections per yea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due to reinfection with a differ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sposing factors: genetically-determined receptors on uroepithelial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icated U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: UTI in patients with predisposing anatomic, functional, or metabolic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of organisms is skewed toward difficult-to-treat pathogens (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., yeasts, enterococci, Enterobacteriaceae other th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theter-associated UT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k factors: female sex; duration of catheterization; disconnecting the junction between the catheter and the collecting tu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3" descr="image 15"/>
          <p:cNvPicPr/>
          <p:nvPr/>
        </p:nvPicPr>
        <p:blipFill>
          <a:blip r:embed="rId1"/>
          <a:stretch/>
        </p:blipFill>
        <p:spPr>
          <a:xfrm>
            <a:off x="353880" y="74520"/>
            <a:ext cx="843444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5569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ng-term bladder catheterizat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significant bacteriuria in patients who are not receiving antibiotics is 8% to 10%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85% of patients have at least two strains of bacteria and 10% have more than five st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pecies (notably, enterococci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notoriously tend to pers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5480" y="771120"/>
            <a:ext cx="690876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sta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000" y="1978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psing acute urinary tract infection in men caused by the same bacterial species often suggests chronic prostatitis with periodic spill-over into the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pelvic “heaviness,” rectal or perineal pain, urinary hesitancy, dribbling, and b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k of cathete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>
            <a:lum contrast="6000"/>
          </a:blip>
          <a:srcRect l="8334" t="6735" r="8334" b="4034"/>
          <a:stretch/>
        </p:blipFill>
        <p:spPr>
          <a:xfrm>
            <a:off x="380880" y="1455840"/>
            <a:ext cx="8305920" cy="489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TI by age and sex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510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2039760"/>
            <a:ext cx="49528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cal exam (P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rine cul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maging stud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569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linical Presentation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rapubic pai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in or burning during uri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↑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and urgency of ur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ct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at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u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l or strong urine o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: fever, chills, malaise, N/V, weight loss, flank or 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50920" y="19224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stovertebral angle (CVA) ten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bdominal tenderness or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lpabl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ibbling, poor stream, or straining to v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pelvic &amp; vaginal area in wo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r signs of irritation, vaginitis, trauma, or sexual ab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require a digital rectal examination to determine if prostate enlargement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57200" y="6361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istory and Physical Examinat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1665360"/>
            <a:ext cx="873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 : bacteria identified on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bacteriuria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 &gt; 100.000 colony /ml fresh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ld stand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iagnostic U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rin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941400" y="617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80880" y="1523880"/>
            <a:ext cx="86868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termination of the number and type of bacteria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mportant diagnostic procedur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 on 2 consecutive  speci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eterized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tibiotic, high urea concentration, high osmolarity, low pH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nhibits bacterial multiplication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low bacterial colony cou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Urinalysi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51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clues for an accurate dia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lor and cloudiness of ur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id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hite blood cells (leukocyt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can be started without the need for further tests if the following urinalysis results are present in patients with symptoms and signs of UT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high white cell cou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lou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484280"/>
          <a:ext cx="8229600" cy="5092560"/>
        </p:xfrm>
        <a:graphic>
          <a:graphicData uri="http://schemas.openxmlformats.org/drawingml/2006/table">
            <a:tbl>
              <a:tblPr/>
              <a:tblGrid>
                <a:gridCol w="2459160"/>
                <a:gridCol w="3456000"/>
                <a:gridCol w="23144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rmal va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-8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ite 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5 / hp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5 /  hp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7440" y="41868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te blood cell cas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2911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significa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suggests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6" descr="WBCcast"/>
          <p:cNvPicPr/>
          <p:nvPr/>
        </p:nvPicPr>
        <p:blipFill>
          <a:blip r:embed="rId1"/>
          <a:stretch/>
        </p:blipFill>
        <p:spPr>
          <a:xfrm>
            <a:off x="3929040" y="1752480"/>
            <a:ext cx="3995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0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SA-ISK1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General Principles of treatment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833120"/>
            <a:ext cx="896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xcept in acute uncomplicated cystitis in women, a urine culture, a Gram stain, or an alternative rapid diagnostic test should be performed to confirm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fectio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before treatment is begu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.  Factors predisposing should be identified and correc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.  Relief of clinical symptoms ≠ bacteriologic c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ch course of treatment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failure or c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general, lower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ract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rt courses, upper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rac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nger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munity-acquired infections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tibiotic-sensitive strai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7.  In patients with repeated infections, instrumentation, or recent hospitalization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tibiotic-resistant strains should be suspec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Goals of Therapy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97820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or treat systemic 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e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dicate invading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uropathogenic bacterial strains from fecal &amp; vaginal reservo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reoccurrence of inf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long-term sequel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Antimicrobial Selection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22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 Therap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based on most probable pathoge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local rates of resista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acute infection vs chro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reinfection or relap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indwelling catheter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urine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effects on fecal and vaginal fl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 safety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-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65736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stitis - usually responds to 3 days of treat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ffective concentrations into the urine &gt; ser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complicated pyelonephritis - 2 weeks treat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ffective concentrations into the urine = ser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icated infections / prostatitis - 6 week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V antibiotics may be required in seriously ill patients, but oral drugs usually effec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33376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Acute Uncomplicated cyst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methoprim/sulfamethoxazo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MP/SM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S (160/800 mg) BI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oquinol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 250 mg BI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ofloxacin 250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ifloxacin 200 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furantoin: 100 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sporins, doxycycline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xicillin/clavul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9640" y="1219320"/>
            <a:ext cx="8050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Acute pyelonephrit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n therapy= 7-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P/SM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S (160/800 mg) BI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oquino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 500 mg BI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ofloxacin 250mg Q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ifloxacin 250 mg QD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sporins, doxycyclin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xicillin/clavul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eriously ill patients → IV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61892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uld be screened for UTI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igh risk for UTIs and their complication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ymptomatic bacteriuri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ave a 30% risk for acute P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hort course of antibiotics (3 to 5 days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complicated UTI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ed longer-term antibiotics (7 to 10 days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lfonamides, nitrofurantoin, ampicillin, cephalexi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afe in early pregna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void: sulfonamides (near term </a:t>
            </a:r>
            <a:r>
              <a:rPr b="0" i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kern icterus ), TMP (toxic effects in the fetus at high doses), fluoroquinolone (fetal cartilage development)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3" descr="image 11"/>
          <p:cNvPicPr/>
          <p:nvPr/>
        </p:nvPicPr>
        <p:blipFill>
          <a:blip r:embed="rId1"/>
          <a:stretch/>
        </p:blipFill>
        <p:spPr>
          <a:xfrm>
            <a:off x="100080" y="163440"/>
            <a:ext cx="89424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TI in Me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231560"/>
            <a:ext cx="8893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mmon in younger than 5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er than 50 year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sumed from prostate or kid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rent infec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stained focus within the pro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of eradication of prostatic f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ailure antimicrobial diffuse into the prostatic 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state may harbor calculi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lock drainage or act as a foreign 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enlarged &amp; inflamed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ladder outlet obstr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ve therapy: at least 4-6 weeks with TMP/SMX, fluoroquinol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treat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tomic fa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 due to E. faecalis or P.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 relaps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ng term antimicrobial suppression, repeated treatment courses for each relapse and surgical removal of infected prostate 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nosis for most women with cystitis and pyelonephritis is good; about 25% of women with cystitis will experience a recurr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nosis for emphysematous pyelonephritis is not as good and is discussed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Concer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ed cysts in polycystic kidney disease respond to treatment slow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image 16"/>
          <p:cNvPicPr/>
          <p:nvPr/>
        </p:nvPicPr>
        <p:blipFill>
          <a:blip r:embed="rId1"/>
          <a:stretch/>
        </p:blipFill>
        <p:spPr>
          <a:xfrm>
            <a:off x="100080" y="112680"/>
            <a:ext cx="894240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4560" y="1566360"/>
            <a:ext cx="89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industrialized countries, kidney damage with long-term complications as a consequence of urinary tract infection per se is currently less common than in the early 20th century, when pyelonephritis was a frequent cause of hypertension and ESRD in you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hange is probably a result of improved overall healthcare and close follow-up of children after an episode of pyelonep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E:\DATA HP MINI\FOTO\Ranu Kumbolo\DSLR\DSC_0277r.jpg"/>
          <p:cNvPicPr/>
          <p:nvPr/>
        </p:nvPicPr>
        <p:blipFill>
          <a:blip r:embed="rId1"/>
          <a:stretch/>
        </p:blipFill>
        <p:spPr>
          <a:xfrm>
            <a:off x="3597120" y="2781360"/>
            <a:ext cx="194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DATA HP MINI\FOTO\Ranu Kumbolo\DSLR\DSC_0277.JP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152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per UTI (pyelonephr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wer UTI ( cystitis, urethr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clinical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ymptomatic 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ymptomatic 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com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complicated UTI: infection involving a structurally and functionally normal urinary 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licated UTI : UTI with any underlying neurologic,structural or medical problems (include UTI in 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r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" y="1125360"/>
            <a:ext cx="8991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Urinary Tract Infectio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microbial colonization of the urine and infection of the structure of urinary 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Bacteriuria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the presence of the bacteria in th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Significant bacteriuria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→ ≥ 100.000 cfu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Frequent recurr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→ &gt; 4 events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Relap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→ same organism, after era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Re-infec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→ different organism, after era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ersist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s the continued infection of the same microorganism despite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r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UTI”: infection above the level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UTI”: infection at or below the level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l syndrome”: clinical manifestations of lower UTI (dysuria, frequency, urgency) without significant bacter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uria: the presence of leukocytes]in urine, which may or may not be caused by U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4:41:38Z</dcterms:created>
  <dc:creator>dpc</dc:creator>
  <dc:description/>
  <dc:language>en-US</dc:language>
  <cp:lastModifiedBy>Asus</cp:lastModifiedBy>
  <dcterms:modified xsi:type="dcterms:W3CDTF">2013-02-26T15:28:13Z</dcterms:modified>
  <cp:revision>295</cp:revision>
  <dc:subject/>
  <dc:title>Slide 1</dc:title>
</cp:coreProperties>
</file>