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17C-E456-43A2-9711-E899B34A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DC4-2C8E-4751-9FB1-4571D93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95C-9366-42B9-AB8A-1968A366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292-BD81-4DA5-9019-70F918E1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261-B0BD-44B1-8986-3D73D21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BF7-D0A3-414F-A1C2-7D22C7C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292-23A0-4D74-97B1-117CC64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DF4-B7EB-47F8-9679-22BF93C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CD3-B6D5-455F-BC87-22FBA9E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111-C032-45B3-A511-EF025E0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564-84DC-4C3E-90B7-56A6E91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B20-40D3-4A2F-9617-F25D568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4848-DCD6-4518-9EAB-ADB74B16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013360"/>
            <a:ext cx="7129440" cy="647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90792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ANSMISI  MA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256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4480" y="971640"/>
            <a:ext cx="2865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YPE OF TRANS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46680" y="2065320"/>
            <a:ext cx="1521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elective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8320" y="1830240"/>
            <a:ext cx="1745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liding 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0640" y="2162160"/>
            <a:ext cx="193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onstant 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89680" y="2511360"/>
            <a:ext cx="1820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8480" y="3324240"/>
            <a:ext cx="1422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8880" y="3151080"/>
            <a:ext cx="2515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Fluid type ( fully hydraulic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02360" y="3540240"/>
            <a:ext cx="4269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Electric type ( Electronic Control Transmission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78960" y="3871800"/>
            <a:ext cx="3711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VT ( Continous Variable Transmission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52760" y="233208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52760" y="2332080"/>
            <a:ext cx="0" cy="136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369252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2041560"/>
            <a:ext cx="0" cy="67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7640" y="204156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7640" y="233208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7640" y="272088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8840" y="2332080"/>
            <a:ext cx="38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90800" y="3402000"/>
            <a:ext cx="0" cy="67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90800" y="340200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90800" y="369252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90800" y="408132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02000" y="3692520"/>
            <a:ext cx="38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74800" y="1471680"/>
          <a:ext cx="69976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471680"/>
                    <a:ext cx="69976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200" y="1292400"/>
            <a:ext cx="1812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liding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3400" y="5014800"/>
            <a:ext cx="6531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shift arm menggerakkan langsung roda gigi percepatan yang terpasang pada spline main shaft untuk menghubungkan dan memutuskan hubungan antara gigi percepatan dengan counter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16360" y="1555920"/>
          <a:ext cx="472572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55920"/>
                    <a:ext cx="472572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01480" y="1292400"/>
            <a:ext cx="200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Constant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762440"/>
            <a:ext cx="65325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main gear selalu berhubungan dengan gigi pada counter shaft, main gear dilengkapi dengan dog gear yang akan dirhubungkan dengan  sleeve yang terpasang pada output shaf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arm menggerakkan sleeve agar terjadi perpindahan putaran dari main gear ke main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1120" y="1292400"/>
            <a:ext cx="1940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ynchro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027160" y="1654200"/>
          <a:ext cx="477684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654200"/>
                    <a:ext cx="47768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74800" y="5054760"/>
            <a:ext cx="70182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Tipe ini mempunyai keuntungan perpindahan giginya lebih halus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mesh berfungsi untuk menyamakan putaran roda - roda gigi yang akan berhunbungan dengan cara melakukan pengerem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5200" y="971640"/>
            <a:ext cx="3673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KONSTRUKSI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7280" y="1739880"/>
          <a:ext cx="64152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1739880"/>
                    <a:ext cx="64152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55920" y="1457280"/>
          <a:ext cx="60242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1457280"/>
                    <a:ext cx="60242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65120" y="4336920"/>
            <a:ext cx="818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lutch hub terpasang pada spline main shaft dan terdapat 3 buah alur untuk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asangan shifting key ( insert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leeve dipasang pada spline clutch hub, dan alur pada sleeve dihubungkan pada shift 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ing key ( Insert ) terpasang pada clutch hub dan dipegang oleh key spring dan kedua ujung  shifting key  masuk ke dalam celah synchronizer r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nizer ring terletak diantara clutch hub dan dog gear yang bebentuk kerucut, synchronizer ring mempunyai tiga alur untuk penempatan shifting k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5200" y="971640"/>
            <a:ext cx="3673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KONSTRUKSI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6640" y="971640"/>
            <a:ext cx="3658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CARA KERJA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8800" y="1652760"/>
          <a:ext cx="213840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652760"/>
                    <a:ext cx="21384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32760" y="1555920"/>
            <a:ext cx="1591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perta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846440"/>
            <a:ext cx="6026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mendorong bagian atas shifting key, shifting key mendorong synchronizer ring hingga berhubungan dengan dog gear. Sehingga synchronizer ring ikut berp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8800" y="3110040"/>
          <a:ext cx="21384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800" y="3110040"/>
                    <a:ext cx="21384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829600" y="3110040"/>
            <a:ext cx="1400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kedu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7720" y="3402000"/>
            <a:ext cx="6026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mendorong dengan kuat chamfer dari blocker ring, dan blocker ring menekan dog gear menyebabkan kecepatan putar dari gigi percepatan sama dengan kecepatan putar hub slee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8800" y="4665600"/>
          <a:ext cx="2041560" cy="11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800" y="4665600"/>
                    <a:ext cx="2041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828880" y="4703760"/>
            <a:ext cx="1401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keti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4973760"/>
            <a:ext cx="60264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terus bergerak ke kanan dan alur – alur pada hub sleeve berkaitan dengan dog gear pada gigi percepat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582480" y="4470480"/>
          <a:ext cx="33051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4470480"/>
                    <a:ext cx="3305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9080" y="971640"/>
            <a:ext cx="4552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MEKANISME PENCEGAH GIGI L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960" y="1292400"/>
            <a:ext cx="2277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poros peminda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62440" y="1808280"/>
            <a:ext cx="37134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shaft mempunyai tiga alur dimana shift detent  ball akan ditekan oleh spring bila transmisi diposisikan masuk gigi &amp; net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2440" y="2838600"/>
            <a:ext cx="42958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detent mechanism berfungsi untuk mencegah gigi kemabli ke netral dan untuk meyakinkan pengemudi bahwa roda gigi telah berkait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040" y="4218120"/>
            <a:ext cx="178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hub slee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1360" y="4626000"/>
            <a:ext cx="4089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Alur – alur pada hub sleeve mempunyai bentuk runcing yang berkaitan dengan dog gear gig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rcepatan. Untuk mencegah gigi lonc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57280" y="5151600"/>
            <a:ext cx="486000" cy="290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1120" y="1749600"/>
          <a:ext cx="3984480" cy="18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120" y="1749600"/>
                    <a:ext cx="398448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85640" y="1457280"/>
          <a:ext cx="307368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457280"/>
                    <a:ext cx="307368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69800" y="971640"/>
            <a:ext cx="42375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Double meshing preven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81360" y="3984480"/>
            <a:ext cx="388800" cy="389160"/>
          </a:xfrm>
          <a:prstGeom prst="downArrow">
            <a:avLst>
              <a:gd name="adj1" fmla="val 50000"/>
              <a:gd name="adj2" fmla="val 25023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0360" y="3711600"/>
            <a:ext cx="10296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Arial"/>
              </a:rPr>
              <a:t>When shif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81320" y="1943280"/>
            <a:ext cx="46864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Mekanisme pencegah hubungan ganda dari transmissi ada yang menggunakan interlock ball &amp; pin. Yang terdiri dari sebuah interlock pin dan 4 buah interlock 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76800" y="3903840"/>
            <a:ext cx="46846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masuk gigi maka salah satu shifter rod akan bergerak dan menyebabkan interlock ball &amp; pin mengunci shifter lain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560" y="1335240"/>
            <a:ext cx="7050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ungsi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eruskan tenaga putar dari transmisi ke propeller shaft depan dan belaka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rubah momen pada saat dibutuhkan momen yang bes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960" y="2846520"/>
            <a:ext cx="2370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fer ada 2 macam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rt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3480" y="2166840"/>
            <a:ext cx="76010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da umumnya transfer digunakan pada kendaraan yang keempat rodanya dijadikan sebagai roda penggerak /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 WHEEL DRIVE ( 4 WD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7360" y="971640"/>
            <a:ext cx="25444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RANSMISI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4665600"/>
            <a:ext cx="845676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Uraia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kendaraan mulai berjalan atau menanjak, memerlukan moment yang besar untuk itu dibutuhkan beberapa bentuk mekanisme perubah mo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kendaraan berjalan pada kecepatan yang tinggi pada jalan datar moment yang besar tidak diperlukan lagi, karena moment mesin cukup untuk menggerakkan kendara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1584360"/>
            <a:ext cx="5184720" cy="297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1125360"/>
            <a:ext cx="2590920" cy="19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571920" y="836640"/>
          <a:ext cx="431316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36640"/>
                    <a:ext cx="43131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8680" y="1335240"/>
            <a:ext cx="3042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MPONEN - KOMPONEN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64440" y="3916440"/>
            <a:ext cx="44593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w speed input gea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&amp; low clutch hub sub assemb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speed input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idler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rear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front drive clutch hub sub – assemb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front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14720" y="1096920"/>
          <a:ext cx="285444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4720" y="1096920"/>
                    <a:ext cx="28544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69960" y="1625760"/>
            <a:ext cx="97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2 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9480" y="3527280"/>
            <a:ext cx="387360" cy="19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503520" y="1681200"/>
          <a:ext cx="25527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681200"/>
                    <a:ext cx="25527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960" y="1625760"/>
            <a:ext cx="97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4 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308400" y="1389240"/>
          <a:ext cx="271764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1389240"/>
                    <a:ext cx="271764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9240" y="1625760"/>
            <a:ext cx="947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4 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3760" y="971640"/>
            <a:ext cx="39024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MEKANISME PERUBAH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440" y="4724280"/>
            <a:ext cx="865188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Transmisi digunakan untuk mengatasi hal ini dengan cara merubah perbandingan gigi, untuk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rubah mom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rubah kecepatan kendara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mungkinkan kendaraan bergerak mund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mungkinkan kendaraan diam saat mesin hidup ( posisi netral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36248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17720" y="1457280"/>
          <a:ext cx="340200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7720" y="1457280"/>
                    <a:ext cx="34020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79680" y="3828960"/>
            <a:ext cx="442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rbandingan gigi dapat dihitung dengan rum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4320" y="4707000"/>
            <a:ext cx="519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36440" y="4665600"/>
            <a:ext cx="3834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41280" y="4470480"/>
            <a:ext cx="139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Yang dip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9480" y="4859280"/>
            <a:ext cx="1558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Yang mem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88480" y="4665600"/>
            <a:ext cx="3834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14640" y="4888080"/>
            <a:ext cx="4183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14640" y="4402080"/>
            <a:ext cx="4183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4440" y="4859280"/>
            <a:ext cx="136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6840" y="4859280"/>
            <a:ext cx="38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1280" y="4703760"/>
            <a:ext cx="170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 = Gea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916360" y="2211480"/>
          <a:ext cx="4081320" cy="26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11480"/>
                    <a:ext cx="4081320" cy="26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5120" y="1403280"/>
            <a:ext cx="7893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ransmisi terdapat dua pasang roda gigi, untuk memperoleh putaran input sahft dan output sahaft yang sear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4840" y="4640400"/>
            <a:ext cx="170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 = Gea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7720" y="5126040"/>
          <a:ext cx="377820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7720" y="5126040"/>
                    <a:ext cx="37782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080360" y="2138400"/>
            <a:ext cx="162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saat maj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1480" y="1360440"/>
            <a:ext cx="1887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saat mund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637240" y="3595680"/>
          <a:ext cx="233208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7240" y="3595680"/>
                    <a:ext cx="2332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5640" y="1824120"/>
            <a:ext cx="76010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Untuk menggerakkan kearah mundur, pada gigi transmisi ditambahkan Idle gear, untuk memperoleh putaran inputshaft dan output shaft yang berlawan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60440" y="3013200"/>
          <a:ext cx="355932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3013200"/>
                    <a:ext cx="355932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5560" y="971640"/>
            <a:ext cx="30290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KONSTRUKSI TRANS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41560" y="2720880"/>
          <a:ext cx="466416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2720880"/>
                    <a:ext cx="466416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65120" y="1500120"/>
            <a:ext cx="70182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Dibawah ini dijelaskan konstruksi transmisi yang digunakan pada kendara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ransmisi ini untuk semua kecepatan maju menggunakan synchromesh, sedangkan untuk mundur menggunakan mekanisme Sleedingmes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43280" y="1263600"/>
          <a:ext cx="4471920" cy="32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263600"/>
                    <a:ext cx="447192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526680" y="1292400"/>
            <a:ext cx="3943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Dirct control ( tipe pengontrol langsung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684680"/>
            <a:ext cx="4665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Keuntungan direct type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indahan gigi lebih cep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indahan lebih lembut dan mud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osisi pemindah dapat diketahui dengan mud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9800" y="971640"/>
            <a:ext cx="4248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GEAR SHIFT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373640" y="1263600"/>
          <a:ext cx="329256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3640" y="1263600"/>
                    <a:ext cx="329256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9800" y="971640"/>
            <a:ext cx="4248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GEAR SHIFT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280" y="1292400"/>
            <a:ext cx="4097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Remote control type ( tipe remote control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800" y="2720880"/>
            <a:ext cx="3888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tuas pemindah terpisah dari tansmisi. Shift control terletak dilantai atau di steering colum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9:12:36Z</dcterms:created>
  <dc:creator>herlan.herlaniadi</dc:creator>
  <dc:description/>
  <dc:language>en-US</dc:language>
  <cp:lastModifiedBy>TRAINING CENTER</cp:lastModifiedBy>
  <dcterms:modified xsi:type="dcterms:W3CDTF">2007-06-25T09:40:10Z</dcterms:modified>
  <cp:revision>3</cp:revision>
  <dc:subject/>
  <dc:title>Slide 1</dc:title>
</cp:coreProperties>
</file>