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655-53D6-4E44-9EAF-71594ACF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236-8311-4E48-AD21-2FD2FD14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09D-EF78-4F3E-AF2D-EC81F847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66C-CF62-4D41-9915-D56D07F1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443F-CE7E-43CA-93EB-4ED1A9F8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7A29-327D-4150-B1EE-6D123CED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ACB5-9251-45CE-9013-2F24213E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48FF-9156-48ED-AB2C-7A4F0E1F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0962-CF73-4743-9E5D-90DFCB0A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505D-2623-4FBB-9595-823D7144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6F76-C383-4C6D-8FAE-80115EDA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60A-F9A1-41D1-8082-77824FEF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8855-AEC1-42D7-853F-2685C9E1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8A5F-3247-46D6-8619-C285AFA9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8D06-9638-41F3-A009-0F23F525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FE55-0CB1-4608-9353-618BC61B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BDE3-9E5E-442A-9B38-E4E338F2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02F0-092F-45C7-94CE-126A2A77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024-B7E6-4F9F-8AA5-ED6EB2D1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89C-B72B-442E-81DA-1A74300C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A62-22B3-4E83-8F0E-153465D5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136-4E7D-4902-ADAD-3F71982B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202-1214-4E6E-891D-082BA65B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A12-3C8A-44D3-AD19-B892D87C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D0A4-7CAD-4D63-BA86-88159827B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1BD8-30FE-46EC-B6F5-33F817ED5E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b7e7ff"/>
                </a:solidFill>
                <a:latin typeface="Arial"/>
              </a:rPr>
              <a:t>การบริการในอินเตอร์เน็ต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Picture 3" descr="http://guru.sanook.com/picfront/sub/resize_3542b25p196b.jpg"/>
          <p:cNvPicPr/>
          <p:nvPr/>
        </p:nvPicPr>
        <p:blipFill>
          <a:blip r:embed="rId2"/>
          <a:stretch/>
        </p:blipFill>
        <p:spPr>
          <a:xfrm>
            <a:off x="1116000" y="1413000"/>
            <a:ext cx="6264360" cy="482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33360" y="259920"/>
            <a:ext cx="84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หน้าจอแสดงการโอนย้ายแฟ้มข้อมูลด้วย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T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บริการที่มีในอินเตอร์เน็ต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86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บริการต่างๆบนอินเตอร์เน็ต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1991880"/>
            <a:ext cx="87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การสืบค้นข้อมูล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Gopher, Archie, World wide Web)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หมายถึง การใช้เครือข่ายอินเตอร์เน็ตในการค้นหาข่าวสารที่มีอยู่มากม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แล้วช่วยจัดเรียงข้อมูลข่าวสารหัวข้ออย่างมีระบบ เป็นเมนูทำให้เราหาข้อมูลได้ง่ายหรือสะดวกมากขึ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b7e7ff"/>
                </a:solidFill>
                <a:latin typeface="Arial"/>
              </a:rPr>
              <a:t>หน้าจอแสดงการให้บริการข้อมูลข่าวสาร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Picture 5" descr="http://guru.sanook.com/picfront/sub/resize_3544b25p197a.jpg"/>
          <p:cNvPicPr/>
          <p:nvPr/>
        </p:nvPicPr>
        <p:blipFill>
          <a:blip r:embed="rId2"/>
          <a:stretch/>
        </p:blipFill>
        <p:spPr>
          <a:xfrm>
            <a:off x="1547640" y="1484280"/>
            <a:ext cx="633744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บริการที่มีในอินเตอร์เน็ต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บริการต่างๆบนอินเตอร์เน็ต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ารแลกเปลี่ยนข่าวสารและความคิดเห็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Usenet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เป็นการให้บริการแลกเปลี่ยนข่าวสารและแสดงความคิดเห็นที่ผู้ใช้บริการอินเตอร์เน็ตทั่วโลกสามารถพบปะกัน แสดงความคิดเห็นของตน โดยมีการจัดการผู้ใช้เป็นกลุ่มข่าวหรือนิวส์กรุ๊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wsgro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ซึ่งการให้บริการประเภทนี้ มีมากมายหลากหลายรูปแบบ อาท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ebboard</a:t>
            </a:r>
            <a:r>
              <a:rPr b="1" lang="th-TH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th-TH" sz="2400" spc="-1" strike="noStrike" u="sng">
                <a:solidFill>
                  <a:srgbClr val="ffffff"/>
                </a:solidFill>
                <a:uFillTx/>
                <a:latin typeface="Arial"/>
              </a:rPr>
              <a:t>และ บล็อก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Blog or Weblo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b7e7ff"/>
                </a:solidFill>
                <a:latin typeface="Arial"/>
              </a:rPr>
              <a:t>หน้าจอแสดงการใช้บริการ </a:t>
            </a: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IRC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7" descr="http://guru.sanook.com/picfront/sub/resize_3547b25p197b.jpg"/>
          <p:cNvPicPr/>
          <p:nvPr/>
        </p:nvPicPr>
        <p:blipFill>
          <a:blip r:embed="rId2"/>
          <a:stretch/>
        </p:blipFill>
        <p:spPr>
          <a:xfrm>
            <a:off x="900000" y="1773360"/>
            <a:ext cx="640872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b7e7ff"/>
                </a:solidFill>
                <a:latin typeface="Arial"/>
              </a:rPr>
              <a:t>หน้าจอแสดงการใช้บริการ </a:t>
            </a: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blogge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633708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บริการที่มีในอินเตอร์เน็ต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บริการต่างๆบนอินเตอร์เน็ต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ารซื้อขายสินค้าและบริกา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E-Commerce = Eletronic Commerce)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เป็นการจับจ่าย ซื้อ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สินค้าและบริการ เช่น ขายหนังสือ คอมพิวเตอร์ การท่องเที่ยว เป็นต้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ปัจจุบันมีบริษัทใช้อินเตอร์เน็ตในการทำธุรกิจและให้บริการลูกค้าตลอ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ชั่วโม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1916280"/>
            <a:ext cx="338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620640"/>
            <a:ext cx="73659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หน้าจอแสดงการซื้อขายผ่านเว็บไซด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7488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หน้าจอแสดงการให้บริการการท่องเที่ยวผ่านเว็บไซด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68360" y="2133720"/>
            <a:ext cx="480060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บริการที่มีในอินเตอร์เน็ต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บริการต่างๆบนอินเตอร์เน็ต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ารให้ความบันเทิ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Entertain)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ในอินเตอร์เน็ตมีบริการด้านความบันเทิงในทุกรูปแบบ เช่น เกมส์ เพลง รายการโทรทัศน์ รายการวิทยุ เป็นต้น เราสามารถเลือกใช้บริการเพื่อความบันเทิงได้ตลอ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ชั่วโมง และจากแหล่งต่างๆ ทั่วทุกมุมโลก ทั้งประเทศไทย อเมริกา ยุโรปและออสเตรเลีย เป็นต้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การบริการในอินเตอร์เน็ต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บริการในอินเตอร์เน็ต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อินเตอร์เน็ต เปรียบเหมือนสังคมขนาดใหญ่ ที่มีผู้เข้ามาร่วมใช้กันมากมายในระบบจึงมีการเตรียมบริการต่างๆไว้ให้เพื่อให้ผู้ใช้เข้ามาใช้งานต่างๆ ได้อย่างสะดวกและรวดเร็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การใช้บริการเว็บไซด์ที่ให้ความบันเทิง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0329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site youtu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0403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จัดทำโดย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นางสาวนภาพร  นันช่ว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10105120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คณะศึกษาศาสตร์  สาขาสังคมศึกษ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บริการที่มีในอินเตอร์เน็ต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บริการต่างๆบนอินเตอร์เน็ต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Webs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ไปรษณีย์อิเล็กทรอนิกส์ หรือ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-ma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การโอนถ่ายข้อมูล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TP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การสืบค้นข้อมู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Gopher, Archie, World wide We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การแลกเปลี่ยนข่าวสารและความคิดเห็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Usen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การซื้อขายสินค้าและบริกา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-Commerce = Eletronic Commer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การให้ความบันเทิ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nterta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บริการที่มีในอินเตอร์เน็ต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บริการต่างๆบนอินเตอร์เน็ต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Web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เว็บไซต์ คือ ศูนย์รวบรวมความรู้และแหล่งข้อมูลต่างๆ อาทิ เช่น ข้อมูล ข่าวสาร ประชาสัมพันธ์ บันเทิง กีฬา เป็นต้น ปัจจุบันเว็บไซต์ได้เข้ามามีบทบาทในแวดวงธุรกิจแทบทุกชนิด ไม่ว่าจะเป็นในรูปแบบของบริษัท ร้านค้าชั้นนำต่างๆ ทั่วไป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b7e7ff"/>
                </a:solidFill>
                <a:latin typeface="Arial"/>
              </a:rPr>
              <a:t>หน้าจอแสดงการใช้บริการ</a:t>
            </a:r>
            <a:r>
              <a:rPr b="0" lang="th-TH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Website </a:t>
            </a:r>
            <a:r>
              <a:rPr b="1" lang="th-TH" sz="3600" spc="-1" strike="noStrike">
                <a:solidFill>
                  <a:srgbClr val="b7e7ff"/>
                </a:solidFill>
                <a:latin typeface="Arial"/>
              </a:rPr>
              <a:t>ต่างๆ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site goo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63640" y="2637000"/>
            <a:ext cx="5832720" cy="38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b7e7ff"/>
                </a:solidFill>
                <a:latin typeface="Arial"/>
              </a:rPr>
              <a:t>หน้าจอแสดงการใช้บริการ</a:t>
            </a:r>
            <a:r>
              <a:rPr b="0" lang="th-TH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Website </a:t>
            </a:r>
            <a:r>
              <a:rPr b="1" lang="th-TH" sz="3600" spc="-1" strike="noStrike">
                <a:solidFill>
                  <a:srgbClr val="b7e7ff"/>
                </a:solidFill>
                <a:latin typeface="Arial"/>
              </a:rPr>
              <a:t>ต่างๆ </a:t>
            </a:r>
            <a:r>
              <a:rPr b="1" lang="th-TH" sz="36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th-TH" sz="36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th-TH" sz="36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site kap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5977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บริการที่มีในอินเตอร์เน็ต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บริการต่างๆบนอินเตอร์เน็ต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ไปรษณีย์อิเล็กทรอนิกส์ หรือ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mail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เป็นการส่งจดหมายอิเล็กทรอนิกส์ผ่านเครือข่ายอินเตอร์เน็ตโดยผู้ส่งจะต้องส่งข้อความไปยังที่อยู่ของผู้รับ ซึ่งเป็นที่อยู่ในรูปแบบของอีเมล์ เมื่อผู้ส่งเขียนจดหมายฉบับหนึ่ง แล้วส่งไปยังที่อยู่นั้น ผู้รับจะได้รับจดหมายภายในเวลาไม่กี่วินาที แม้จะอยู่ห่างกันคนละซีกโลกก็ตาม นอกจากนี้ยังสามารถส่งแฟ้มข้อมูลหรือไฟล์แนบไปกับอีเมล์ได้ด้วย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b7e7ff"/>
                </a:solidFill>
                <a:latin typeface="Arial"/>
              </a:rPr>
              <a:t>ตัวอย่างการใช้บริการไปรษณีย์อิเล็กทรอนิกส์ </a:t>
            </a:r>
            <a:br>
              <a:rPr sz="4400"/>
            </a:br>
            <a:r>
              <a:rPr b="1" lang="th-TH" sz="4400" spc="-1" strike="noStrike">
                <a:solidFill>
                  <a:srgbClr val="b7e7ff"/>
                </a:solidFill>
                <a:latin typeface="Arial"/>
              </a:rPr>
              <a:t>หรือ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E-mai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9" name="Picture 1" descr="http://guru.sanook.com/picfront/sub/resize_3541b25p196a.jpg"/>
          <p:cNvPicPr/>
          <p:nvPr/>
        </p:nvPicPr>
        <p:blipFill>
          <a:blip r:embed="rId2"/>
          <a:stretch/>
        </p:blipFill>
        <p:spPr>
          <a:xfrm>
            <a:off x="1692360" y="2133720"/>
            <a:ext cx="489564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บริการที่มีในอินเตอร์เน็ต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ต่อ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บริการต่างๆบนอินเตอร์เน็ต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การโอนถ่ายข้อมูล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T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เป็นบริการอีกรูปแบบหนึ่งของระบบอินเตอร์เน็ต เราสามารถค้นห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และเรียกข้อมูลจากแหล่งต่างๆ มาเก็บไว้ในเครื่องของเร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ได้ทั้งข้อมูล ประเภทตัวหนังสือ รูปภาพ และเสีย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9:18:54Z</dcterms:created>
  <dc:creator>User</dc:creator>
  <dc:description/>
  <dc:language>en-US</dc:language>
  <cp:lastModifiedBy>User</cp:lastModifiedBy>
  <dcterms:modified xsi:type="dcterms:W3CDTF">2010-07-15T09:21:53Z</dcterms:modified>
  <cp:revision>2</cp:revision>
  <dc:subject/>
  <dc:title>การบริการในอินเตอร์เน็ต</dc:title>
</cp:coreProperties>
</file>