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25A-B5E6-4C3F-9AC6-4597E5AA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C06-8838-452E-A933-824D03F0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89E-05FD-4F31-A16C-D11E544C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CE4-39C7-42E3-A391-AC92A773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4D79-E19A-40DE-9BE6-BBC90579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1CB3-504F-4B87-94BD-FC5C7B81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9237-8BE6-4046-AB58-7D65EDC6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C27A-699C-41FB-9EBA-483A3E4B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F15B-E4C1-46C5-B872-2B976732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5DDC-9304-4385-B936-E08099CC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4A1B-6DBA-4F94-99A7-C22558E9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782-2C14-44E1-8851-F4B63E16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128C-0B33-4BE6-9E73-3A677093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8A63-4171-4728-8003-C55C5CB6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751E-12D3-4C7C-9530-3EF9030E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6DE6-1253-44F1-941E-2E9CC238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F1DA-286A-48D2-98FF-A91FCF72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1DB-464C-4DF4-9A2C-1D1F3580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588-5814-497F-9993-BF30FE6A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FD6-D69B-4C67-90E4-DF66583C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356-A350-457B-A1F6-5F4B8906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0F9-ED59-4128-B631-F2C6F397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51A-3922-45E2-B662-8263182E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06D-E99F-4D6D-98DD-E8118C0B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9DA6-DA00-46EE-82F4-D6427785E9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6E1F-19F4-49AE-B07A-8F9A94428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b7e7ff"/>
                </a:solidFill>
                <a:latin typeface="Arial"/>
              </a:rPr>
              <a:t>การบริการในอินเตอร์เน็ต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Picture 3" descr="http://guru.sanook.com/picfront/sub/resize_3542b25p196b.jpg"/>
          <p:cNvPicPr/>
          <p:nvPr/>
        </p:nvPicPr>
        <p:blipFill>
          <a:blip r:embed="rId2"/>
          <a:stretch/>
        </p:blipFill>
        <p:spPr>
          <a:xfrm>
            <a:off x="1116000" y="1413000"/>
            <a:ext cx="6264360" cy="482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33360" y="259920"/>
            <a:ext cx="84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หน้าจอแสดงการโอนย้ายแฟ้มข้อมูลด้วย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T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บริการที่มีในอินเตอร์เน็ต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(</a:t>
            </a: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ต่อ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86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บริการต่างๆบนอินเตอร์เน็ต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ต่อ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1991880"/>
            <a:ext cx="87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การสืบค้นข้อมูล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Gopher, Archie, World wide Web)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หมายถึง การใช้เครือข่ายอินเตอร์เน็ตในการค้นหาข่าวสารที่มีอยู่มากม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แล้วช่วยจัดเรียงข้อมูลข่าวสารหัวข้ออย่างมีระบบ เป็นเมนูทำให้เราหาข้อมูลได้ง่ายหรือสะดวกมากขึ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b7e7ff"/>
                </a:solidFill>
                <a:latin typeface="Arial"/>
              </a:rPr>
              <a:t>หน้าจอแสดงการให้บริการข้อมูลข่าวสาร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Picture 5" descr="http://guru.sanook.com/picfront/sub/resize_3544b25p197a.jpg"/>
          <p:cNvPicPr/>
          <p:nvPr/>
        </p:nvPicPr>
        <p:blipFill>
          <a:blip r:embed="rId2"/>
          <a:stretch/>
        </p:blipFill>
        <p:spPr>
          <a:xfrm>
            <a:off x="1547640" y="1484280"/>
            <a:ext cx="633744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บริการที่มีในอินเตอร์เน็ต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(</a:t>
            </a: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ต่อ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บริการต่างๆบนอินเตอร์เน็ต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่อ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ารแลกเปลี่ยนข่าวสารและความคิดเห็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Usenet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เป็นการให้บริการแลกเปลี่ยนข่าวสารและแสดงความคิดเห็นที่ผู้ใช้บริการอินเตอร์เน็ตทั่วโลกสามารถพบปะกัน แสดงความคิดเห็นของตน โดยมีการจัดการผู้ใช้เป็นกลุ่มข่าวหรือนิวส์กรุ๊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ewsgrou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ซึ่งการให้บริการประเภทนี้ มีมากมายหลากหลายรูปแบบ อาท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ebboard</a:t>
            </a:r>
            <a:r>
              <a:rPr b="1" lang="th-TH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th-TH" sz="2400" spc="-1" strike="noStrike" u="sng">
                <a:solidFill>
                  <a:srgbClr val="ffffff"/>
                </a:solidFill>
                <a:uFillTx/>
                <a:latin typeface="Arial"/>
              </a:rPr>
              <a:t>และ บล็อก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Blog or Weblo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b7e7ff"/>
                </a:solidFill>
                <a:latin typeface="Arial"/>
              </a:rPr>
              <a:t>หน้าจอแสดงการใช้บริการ </a:t>
            </a: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IRC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Picture 7" descr="http://guru.sanook.com/picfront/sub/resize_3547b25p197b.jpg"/>
          <p:cNvPicPr/>
          <p:nvPr/>
        </p:nvPicPr>
        <p:blipFill>
          <a:blip r:embed="rId2"/>
          <a:stretch/>
        </p:blipFill>
        <p:spPr>
          <a:xfrm>
            <a:off x="900000" y="1773360"/>
            <a:ext cx="640872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b7e7ff"/>
                </a:solidFill>
                <a:latin typeface="Arial"/>
              </a:rPr>
              <a:t>หน้าจอแสดงการใช้บริการ </a:t>
            </a: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blogger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633708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บริการที่มีในอินเตอร์เน็ต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(</a:t>
            </a: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ต่อ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บริการต่างๆบนอินเตอร์เน็ต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่อ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ารซื้อขายสินค้าและบริกา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E-Commerce = Eletronic Commerce)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เป็นการจับจ่าย ซื้อ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สินค้าและบริการ เช่น ขายหนังสือ คอมพิวเตอร์ การท่องเที่ยว เป็นต้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ปัจจุบันมีบริษัทใช้อินเตอร์เน็ตในการทำธุรกิจและให้บริการลูกค้าตลอ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ชั่วโม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7280" y="1916280"/>
            <a:ext cx="338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620640"/>
            <a:ext cx="73659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หน้าจอแสดงการซื้อขายผ่านเว็บไซด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7488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หน้าจอแสดงการให้บริการการท่องเที่ยวผ่านเว็บไซด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68360" y="2133720"/>
            <a:ext cx="480060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บริการที่มีในอินเตอร์เน็ต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(</a:t>
            </a: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ต่อ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บริการต่างๆบนอินเตอร์เน็ต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่อ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ารให้ความบันเทิ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Entertain)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ในอินเตอร์เน็ตมีบริการด้านความบันเทิงในทุกรูปแบบ เช่น เกมส์ เพลง รายการโทรทัศน์ รายการวิทยุ เป็นต้น เราสามารถเลือกใช้บริการเพื่อความบันเทิงได้ตลอ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ชั่วโมง และจากแหล่งต่างๆ ทั่วทุกมุมโลก ทั้งประเทศไทย อเมริกา ยุโรปและออสเตรเลีย เป็นต้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การบริการในอินเตอร์เน็ต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บริการในอินเตอร์เน็ต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อินเตอร์เน็ต เปรียบเหมือนสังคมขนาดใหญ่ ที่มีผู้เข้ามาร่วมใช้กันมากมายในระบบจึงมีการเตรียมบริการต่างๆไว้ให้เพื่อให้ผู้ใช้เข้ามาใช้งานต่างๆ ได้อย่างสะดวกและรวดเร็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การใช้บริการเว็บไซด์ที่ให้ความบันเทิง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0329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site youtu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50403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จัดทำโดย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นางสาวนภาพร  นันช่ว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10105120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คณะศึกษาศาสตร์  สาขาสังคมศึกษ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บริการที่มีในอินเตอร์เน็ต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(</a:t>
            </a: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ต่อ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บริการต่างๆบนอินเตอร์เน็ต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Webs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ไปรษณีย์อิเล็กทรอนิกส์ หรือ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-ma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การโอนถ่ายข้อมูล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TP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การสืบค้นข้อมู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Gopher, Archie, World wide We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การแลกเปลี่ยนข่าวสารและความคิดเห็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Usen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การซื้อขายสินค้าและบริกา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-Commerce = Eletronic Commer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การให้ความบันเทิ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nterta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บริการที่มีในอินเตอร์เน็ต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(</a:t>
            </a: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ต่อ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บริการต่างๆบนอินเตอร์เน็ต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่อ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Web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เว็บไซต์ คือ ศูนย์รวบรวมความรู้และแหล่งข้อมูลต่างๆ อาทิ เช่น ข้อมูล ข่าวสาร ประชาสัมพันธ์ บันเทิง กีฬา เป็นต้น ปัจจุบันเว็บไซต์ได้เข้ามามีบทบาทในแวดวงธุรกิจแทบทุกชนิด ไม่ว่าจะเป็นในรูปแบบของบริษัท ร้านค้าชั้นนำต่างๆ ทั่วไป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b7e7ff"/>
                </a:solidFill>
                <a:latin typeface="Arial"/>
              </a:rPr>
              <a:t>หน้าจอแสดงการใช้บริการ</a:t>
            </a:r>
            <a:r>
              <a:rPr b="0" lang="th-TH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Website </a:t>
            </a:r>
            <a:r>
              <a:rPr b="1" lang="th-TH" sz="3600" spc="-1" strike="noStrike">
                <a:solidFill>
                  <a:srgbClr val="b7e7ff"/>
                </a:solidFill>
                <a:latin typeface="Arial"/>
              </a:rPr>
              <a:t>ต่างๆ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site goo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63640" y="2637000"/>
            <a:ext cx="5832720" cy="38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b7e7ff"/>
                </a:solidFill>
                <a:latin typeface="Arial"/>
              </a:rPr>
              <a:t>หน้าจอแสดงการใช้บริการ</a:t>
            </a:r>
            <a:r>
              <a:rPr b="0" lang="th-TH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Website </a:t>
            </a:r>
            <a:r>
              <a:rPr b="1" lang="th-TH" sz="3600" spc="-1" strike="noStrike">
                <a:solidFill>
                  <a:srgbClr val="b7e7ff"/>
                </a:solidFill>
                <a:latin typeface="Arial"/>
              </a:rPr>
              <a:t>ต่างๆ </a:t>
            </a:r>
            <a:r>
              <a:rPr b="1" lang="th-TH" sz="3600" spc="-1" strike="noStrike">
                <a:solidFill>
                  <a:srgbClr val="b7e7ff"/>
                </a:solidFill>
                <a:latin typeface="Arial"/>
              </a:rPr>
              <a:t>(</a:t>
            </a:r>
            <a:r>
              <a:rPr b="1" lang="th-TH" sz="3600" spc="-1" strike="noStrike">
                <a:solidFill>
                  <a:srgbClr val="b7e7ff"/>
                </a:solidFill>
                <a:latin typeface="Arial"/>
              </a:rPr>
              <a:t>ต่อ</a:t>
            </a:r>
            <a:r>
              <a:rPr b="1" lang="th-TH" sz="36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site kap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5977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บริการที่มีในอินเตอร์เน็ต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(</a:t>
            </a: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ต่อ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บริการต่างๆบนอินเตอร์เน็ต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่อ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ไปรษณีย์อิเล็กทรอนิกส์ หรือ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mail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เป็นการส่งจดหมายอิเล็กทรอนิกส์ผ่านเครือข่ายอินเตอร์เน็ตโดยผู้ส่งจะต้องส่งข้อความไปยังที่อยู่ของผู้รับ ซึ่งเป็นที่อยู่ในรูปแบบของอีเมล์ เมื่อผู้ส่งเขียนจดหมายฉบับหนึ่ง แล้วส่งไปยังที่อยู่นั้น ผู้รับจะได้รับจดหมายภายในเวลาไม่กี่วินาที แม้จะอยู่ห่างกันคนละซีกโลกก็ตาม นอกจากนี้ยังสามารถส่งแฟ้มข้อมูลหรือไฟล์แนบไปกับอีเมล์ได้ด้วย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b7e7ff"/>
                </a:solidFill>
                <a:latin typeface="Arial"/>
              </a:rPr>
              <a:t>ตัวอย่างการใช้บริการไปรษณีย์อิเล็กทรอนิกส์ </a:t>
            </a:r>
            <a:br>
              <a:rPr sz="4400"/>
            </a:br>
            <a:r>
              <a:rPr b="1" lang="th-TH" sz="4400" spc="-1" strike="noStrike">
                <a:solidFill>
                  <a:srgbClr val="b7e7ff"/>
                </a:solidFill>
                <a:latin typeface="Arial"/>
              </a:rPr>
              <a:t>หรือ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E-mai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9" name="Picture 1" descr="http://guru.sanook.com/picfront/sub/resize_3541b25p196a.jpg"/>
          <p:cNvPicPr/>
          <p:nvPr/>
        </p:nvPicPr>
        <p:blipFill>
          <a:blip r:embed="rId2"/>
          <a:stretch/>
        </p:blipFill>
        <p:spPr>
          <a:xfrm>
            <a:off x="1692360" y="2133720"/>
            <a:ext cx="489564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บริการที่มีในอินเตอร์เน็ต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(</a:t>
            </a: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ต่อ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บริการต่างๆบนอินเตอร์เน็ต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่อ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ารโอนถ่ายข้อมูล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FT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เป็นบริการอีกรูปแบบหนึ่งของระบบอินเตอร์เน็ต เราสามารถค้นห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และเรียกข้อมูลจากแหล่งต่างๆ มาเก็บไว้ในเครื่องของเร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ได้ทั้งข้อมูล ประเภทตัวหนังสือ รูปภาพ และเสีย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9:18:54Z</dcterms:created>
  <dc:creator>User</dc:creator>
  <dc:description/>
  <dc:language>en-US</dc:language>
  <cp:lastModifiedBy>User</cp:lastModifiedBy>
  <dcterms:modified xsi:type="dcterms:W3CDTF">2010-07-15T09:21:53Z</dcterms:modified>
  <cp:revision>2</cp:revision>
  <dc:subject/>
  <dc:title>การบริการในอินเตอร์เน็ต</dc:title>
</cp:coreProperties>
</file>