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4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80D3-174D-477F-8DD4-211493CFF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AC70-3B63-4B6C-A716-35772751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E609-B8EB-46D7-84A6-F9DE7EF19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1243-CE0D-4BEB-BEB8-019F91BCB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2B9A-C8A1-45A0-927D-6A10E891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7AA4-BD17-4CB6-904E-B5BD9CF8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5AED-096F-49C3-8D71-9766B07F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A3A5-4044-4A11-A030-4E6CEC80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13C1-DE16-4C51-A892-37A7E338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AC9D-45E9-4F14-B54B-A975FF7B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6085-1372-4FC2-9249-704912E8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7AA6-D2EF-4523-B7B9-8809C474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239D-B7A1-43BF-9AA4-F03ADE40D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gif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19280" y="3284640"/>
            <a:ext cx="66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ET  THE  LARGEST  CRUISE  SHIP IN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5373720"/>
            <a:ext cx="8497800" cy="360360"/>
          </a:xfrm>
          <a:prstGeom prst="rect">
            <a:avLst/>
          </a:prstGeom>
          <a:solidFill>
            <a:srgbClr val="bbe0e3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37372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OF THE HOT TU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6165720"/>
            <a:ext cx="8497800" cy="36036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616572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OF THE HOT TU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6308640"/>
            <a:ext cx="8497800" cy="360360"/>
          </a:xfrm>
          <a:prstGeom prst="rect">
            <a:avLst/>
          </a:prstGeom>
          <a:solidFill>
            <a:srgbClr val="bbe0e3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630864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2O 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7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6237360"/>
            <a:ext cx="8497800" cy="360360"/>
          </a:xfrm>
          <a:prstGeom prst="rect">
            <a:avLst/>
          </a:prstGeom>
          <a:solidFill>
            <a:srgbClr val="bbe0e3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623736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OW  R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7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0920" y="6021360"/>
            <a:ext cx="84978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602136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OLA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 thruBlk="true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6308640"/>
            <a:ext cx="8497800" cy="36036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6308640"/>
            <a:ext cx="64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SWIMMING P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6308640"/>
            <a:ext cx="8497800" cy="36036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0360" y="630864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YAL PROMEN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 thruBlk="true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7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20000" y="1197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 thruBlk="true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7000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7000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6308640"/>
            <a:ext cx="8497800" cy="360360"/>
          </a:xfrm>
          <a:prstGeom prst="rect">
            <a:avLst/>
          </a:prstGeom>
          <a:solidFill>
            <a:srgbClr val="bbe0e3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630864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ANCE TO THE DINNING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 thruBlk="true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7000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7000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6237360"/>
            <a:ext cx="8497800" cy="36036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623736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CADIA THE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 thruBlk="true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7000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7000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7000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6308640"/>
            <a:ext cx="8497800" cy="360360"/>
          </a:xfrm>
          <a:prstGeom prst="rect">
            <a:avLst/>
          </a:prstGeom>
          <a:solidFill>
            <a:srgbClr val="bbe0e3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630864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E SKATING SHOW AT STUDIO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 thruBlk="true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7000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7000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95280" y="6237360"/>
            <a:ext cx="8497800" cy="360360"/>
          </a:xfrm>
          <a:prstGeom prst="rect">
            <a:avLst/>
          </a:prstGeom>
          <a:solidFill>
            <a:srgbClr val="bbe0e3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623736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XING RING AT THE G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0920" y="6308640"/>
            <a:ext cx="8497800" cy="36036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630864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 CRYPT ( DISCO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 thruBlk="true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7000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7000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7000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7000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14680" y="547560"/>
            <a:ext cx="5715000" cy="57628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050920" y="595008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med">
    <p:fade thruBlk="true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3" dur="500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7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7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6093000"/>
            <a:ext cx="84978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6093000"/>
            <a:ext cx="64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2.000 Gross T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7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7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7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0T01:04:59Z</dcterms:created>
  <dc:creator>Rozieh</dc:creator>
  <dc:description/>
  <cp:keywords>funnybytes.net</cp:keywords>
  <dc:language>en-US</dc:language>
  <cp:lastModifiedBy>Smets</cp:lastModifiedBy>
  <dcterms:modified xsi:type="dcterms:W3CDTF">2008-09-20T06:32:31Z</dcterms:modified>
  <cp:revision>8</cp:revision>
  <dc:subject/>
  <dc:title>Slide 1</dc:title>
</cp:coreProperties>
</file>