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F5F-BCBF-47F8-A910-43A60A8D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39F-557A-4BF3-918A-E1FA667B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559-04E8-42E3-A8CF-A2C49C63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123-67B9-44C7-93C5-4E8A8F72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DC1B-79CF-4DBC-BE68-11345F0A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3AFF-2A78-4681-9167-A82F0661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590-0E57-4558-9DE3-67FB3AB3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B4EE-3B75-47B8-8CD8-3EC8F4DE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AD15-B449-44C8-8539-108427D8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C1B-847A-4727-B73D-602F0440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B19-05D1-4928-AA86-498E6472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B830-7104-4E85-B60A-CE9173B5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AA42B-45F4-4802-8F87-5CCF0D9CF06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9511F-F488-4146-9FE7-93C1C12E1AE1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7:32:20Z</dcterms:created>
  <dc:creator>최봉수</dc:creator>
  <dc:description/>
  <dc:language>en-US</dc:language>
  <cp:lastModifiedBy>맛있다 군만두</cp:lastModifiedBy>
  <dcterms:modified xsi:type="dcterms:W3CDTF">2023-07-13T07:49:27Z</dcterms:modified>
  <cp:revision>3</cp:revision>
  <dc:subject/>
  <dc:title>슬라이드 1</dc:title>
</cp:coreProperties>
</file>