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C62-BCCA-49AA-835A-13A03877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3F7-62E4-4E16-8003-C05F2E4D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C79-3B3C-4A8C-82E9-A35B5CA2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383-E58C-4248-BE3F-40FB0F3F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257-6507-4709-A2A9-5F0E654E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1488-A47E-4F36-969D-3251C38C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F10-508C-4AA5-AAEB-AFD5E579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812-6ADC-4BB1-859F-EF83B0AB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0B8-2702-4D39-8C6F-ED54518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375-A7E8-4D58-BA31-3FFF2C11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720-073B-4FCE-B497-9AEC49D4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012-5C65-4EED-A8CC-A7830AE7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6E91C-D2BF-4D6C-8377-27E0092720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91AA4-9F84-49D8-AD2B-B3B43A669D0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7:32:20Z</dcterms:created>
  <dc:creator>최봉수</dc:creator>
  <dc:description/>
  <dc:language>en-US</dc:language>
  <cp:lastModifiedBy>맛있다 군만두</cp:lastModifiedBy>
  <dcterms:modified xsi:type="dcterms:W3CDTF">2023-07-13T07:49:27Z</dcterms:modified>
  <cp:revision>3</cp:revision>
  <dc:subject/>
  <dc:title>슬라이드 1</dc:title>
</cp:coreProperties>
</file>