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9EB-E594-454C-9C51-1C9BD9F9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43C-29BF-45E9-ACA9-5DEB7D4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712-6B11-4EC5-A635-8CFD2BFA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331-C01B-4C2B-8E01-2BBC926C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8DF-7FF7-47B2-9326-57095DE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A53-9146-4E0E-808C-3BAFC04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DD2-62B7-4BA5-8A35-8E528D1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F8A-81DE-4989-AE0E-76522C19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D5E-FF62-4B4C-80C2-5EDAE998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517-03AD-42EA-A624-8D3BE76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637-040D-44C6-A1C2-F393112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2CD-DFEA-457B-AB5E-0773056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5C2-2523-4751-BB3B-D4DEBF42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KARSINOMA  NASOFARING</a:t>
            </a:r>
            <a:br>
              <a:rPr sz="2000"/>
            </a:br>
            <a:br>
              <a:rPr sz="2000"/>
            </a:b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LOK .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O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r.B.R.HERTATI.SIAHAAN.,M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Jenis tumor jinak lain yang ditemukan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ada Nasofari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 Papil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 Neurofib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TI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belum jelas diketah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umumnya terjadi pada laki laki dekad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ntara 7 – 19 tahun, jarang terjadi p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usia &gt; 25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PA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Tumor pertama kali tumbuh dibawah mukosa ditepi posterior &amp; lateral koana diatap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akan tumbuh besar dan meluas dibawah mukosa, sepanjang atap nasofaring, mencapai tepi posterior septum dan meluas kearah bawah membentuk tonjolan masa keatap rongga hidung pos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rluasan kearah anterior akan mengisi rongga hidung, mendorong septum kesisi kontra lateral dan memipihkan ko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rluasan kearah lateral, tumor melebar kearah foramen sphenopalatina, masuk ke fosa intratemporal yang akan menimbulkan benjolan dipipi, dan rasa penuh diwaj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pabila tumor telah mendorong salah satu atau kedua bola mata maka tamp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yang khas pada waj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yang disebut “ wajah kodok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rluasan ke intrakranial dapat terjadi melalui fosa infra temporal dan pterigomaksila masuk ke fosa cerebri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ari sinus etmoid masuk ke fosa cerebri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tau dari sinus sfenoid ke sinus cavernosum dan fosa hipof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hidung tersumbat yang progre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epistaksis berulang yang ma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obstruksi hidung memudahkan terjadinya penimbunan sekret sehingga timbul rinorea kronis yang diikuti oleh gangguan penci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tuba eustachius akan menimbulkan  ketulian  atau otal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sefalgia hebat  menunjukkan bahwa tumor sudah meluas ke intrakra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TUMOR  L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jinak Laring tidak banyak ditemukan hanya kurang lebih 5 % dari semua jenis tumor l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arsinoma  Nasof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Tumor ganas didaerah kepala dan leher yang terbanyak di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60 % tumor ganas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8 % tumor ganas hidung &amp; sinus paran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6 % tumor ganas l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ganas rongga mulut, tonsil, hip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 JINAK 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Dapat  berup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 Papiloma Laring ( &gt;&gt;&gt;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2. Aden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3. Kond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4. Mioblastoma sel gran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5. Hemangi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6. Lip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7. Neurofib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APILOMA 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umor ini dapat digolongkan dalam 2 jen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Papiloma Laring Juve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ditemukan pada a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berbentuk multi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mengalami regresi pada waktu dew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2.Pada orang dew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biasanya berbentuk tungg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tidak akan mengalami resol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merupakan preka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uara parau ( utam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kadang kadang ba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ila papiloma telah menutup rim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aka timbul sesak napas dengan st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erdasark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An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kl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iopsi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→ pemeriksaan P.Anat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MOR  GANAS L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ukanlah hal yang jarang ditemukan dan masih merupakan masa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S.Cipto Karsinoma Laring menduduki urutan ke 3 setelah Ca.Nasofaring dan tumor ganas hidung dan sinus paran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ti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elum diketahui dengan p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orang yang berisiko tingg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pero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▪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sinar radioak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ISTOPATOL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Carcinoma Sel Skuamosa (95 – 98 %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dibagi 3 tingkat differensi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a. Grade 1 : differensiasi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b. Grade 2 : differensiasi sed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c. Grade 3 : differensi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suara serak ( utam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dispnea dan st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nyeri tengg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dis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rasa nyeri ketika men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atuk dan hemopt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erat badan tu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anam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kl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lab.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Radiol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pemeriksaan CT.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A  P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iopsi L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Biopsi jarum h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Kirim ke Lab.Patologi Anat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Hasil yang terbanya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 “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KARSINOMA  SEL  SKUAMO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as mongoloid merupakan faktor dominan timbulnya kanker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Cukup tinggi pada Cina selatan, Hongkong, Vietnam, Thailand, Malaysia, Singapur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yebabnya Virus Epstein - B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Gejala dan T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apat  dibagi  4 kelompok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Nasof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Tel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Sa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Nasofar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epistak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Telinga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tinitus, otal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Ma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dipl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ejala sara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- gangguan saraf otak ke IX, X, XI, X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tastase ke Kel.Leher dalam bentuk Benjolan dil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Diagnosis P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Biopsi Nasof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HISTOPATOLO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elah disetujui oleh WHO ada 3 bentu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sel skuamosa ( berkeratinis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tidak berkeratin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karsinoma tidak berdifferins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Arial"/>
              </a:rPr>
              <a:t>TER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- RADIOTER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ANGIOFIBROMA  NASOF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-  Tumor jinak pembuluh darah di Nasof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ecara Histologis  Ji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ecara klinis ganas, karena mempunyai kemampuan mendestruksi tulang dan meluas kejaringan sekitarnya, seperti ke sinus paranasal, pipi, mata, tengkorak, serta sangat mudah berdarah yang sulit dihenti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0:23Z</dcterms:created>
  <dc:creator>Dr. Hertati Siahaan</dc:creator>
  <dc:description/>
  <dc:language>en-US</dc:language>
  <cp:lastModifiedBy>hertatis</cp:lastModifiedBy>
  <dcterms:modified xsi:type="dcterms:W3CDTF">2012-04-20T05:05:04Z</dcterms:modified>
  <cp:revision>9</cp:revision>
  <dc:subject/>
  <dc:title>KARSINOMA  NASOFARING  BLOK . XX</dc:title>
</cp:coreProperties>
</file>