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9B8-1C6F-4563-9594-DAEAF1A7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AE94-F442-4BCB-BDE7-AEEF4995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E65-9397-46FA-9B1D-0F2DFC3E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CC7-AEDC-4450-9BDB-79866BA4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9FF-96EA-49B7-9367-2EEABEC7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6B61-0450-458D-AEFA-518EF0E5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564-54EF-436D-8DF0-FB9E3615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513B-340A-42D5-8739-C6520662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34C-CF36-459C-8C9D-B2E0F60D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6EB-828D-467F-82E7-74F8BA66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156-8F99-47CA-BCE3-7F24CDD9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EBB-EFBC-4312-947B-E5EA4A52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F18F-1222-4635-B079-7D06EF77D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Arial"/>
              </a:rPr>
              <a:t>KARSINOMA  NASOFARING</a:t>
            </a:r>
            <a:br>
              <a:rPr sz="2000"/>
            </a:br>
            <a:br>
              <a:rPr sz="2000"/>
            </a:b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BLOK .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OL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Dr.B.R.HERTATI.SIAHAAN.,M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Jenis tumor jinak lain yang ditemukan</a:t>
            </a:r>
            <a:br>
              <a:rPr sz="3200"/>
            </a:b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pada Nasofaring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 Papil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 Neurofib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ETIOLO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belum jelas diketah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umumnya terjadi pada laki laki dekade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antara 7 – 19 tahun, jarang terjadi p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usia &gt; 25 tah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Arial"/>
              </a:rPr>
              <a:t>PAT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 Tumor pertama kali tumbuh dibawah mukosa ditepi posterior &amp; lateral koana diatap nasof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Tumor akan tumbuh besar dan meluas dibawah mukosa, sepanjang atap nasofaring, mencapai tepi posterior septum dan meluas kearah bawah membentuk tonjolan masa keatap rongga hidung pos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Perluasan kearah anterior akan mengisi rongga hidung, mendorong septum kesisi kontra lateral dan memipihkan ko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Perluasan kearah lateral, tumor melebar kearah foramen sphenopalatina, masuk ke fosa intratemporal yang akan menimbulkan benjolan dipipi, dan rasa penuh diwaja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Apabila tumor telah mendorong salah satu atau kedua bola mata maka tampa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gejala yang khas pada waja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yang disebut “ wajah kodok 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Perluasan ke intrakranial dapat terjadi melalui fosa infra temporal dan pterigomaksila masuk ke fosa cerebri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Dari sinus etmoid masuk ke fosa cerebri a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Atau dari sinus sfenoid ke sinus cavernosum dan fosa hipof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Arial"/>
              </a:rPr>
              <a:t>Gejal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hidung tersumbat yang progre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epistaksis berulang yang ma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obstruksi hidung memudahkan terjadinya penimbunan sekret sehingga timbul rinorea kronis yang diikuti oleh gangguan penci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tuba eustachius akan menimbulkan  ketulian  atau otal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sefalgia hebat  menunjukkan bahwa tumor sudah meluas ke intrakra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Arial"/>
              </a:rPr>
              <a:t>TUMOR  L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Tumor jinak Laring tidak banyak ditemukan hanya kurang lebih 5 % dari semua jenis tumor la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Karsinoma  Nasof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Tumor ganas didaerah kepala dan leher yang terbanyak di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60 % tumor ganas nasof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18 % tumor ganas hidung &amp; sinus parana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16 % tumor ganas l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Tumor ganas rongga mulut, tonsil, hipof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TUMOR  JINAK  L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Dapat  berup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1. Papiloma Laring ( &gt;&gt;&gt;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2. Aden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3. Kondr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4. Mioblastoma sel gran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5. Hemangi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6. Lip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7. Neurofibr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PAPILOMA  L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Tumor ini dapat digolongkan dalam 2 jeni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1.Papiloma Laring Juve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ditemukan pada a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berbentuk multi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mengalami regresi pada waktu dew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2.Pada orang dewa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biasanya berbentuk tungg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tidak akan mengalami resolu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merupakan preka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GEJAL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Suara parau ( utam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kadang kadang bat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bila papiloma telah menutup rima glo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maka timbul sesak napas dengan str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Diagn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Berdasarka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Anam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Gejala kli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Biopsi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→ pemeriksaan P.Anato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TUMOR  GANAS L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Bukanlah hal yang jarang ditemukan dan masih merupakan masal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RS.Cipto Karsinoma Laring menduduki urutan ke 3 setelah Ca.Nasofaring dan tumor ganas hidung dan sinus parana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Etiolo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belum diketahui dengan pa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orang yang berisiko tingg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▪  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perok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▪  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alk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▪  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sinar radioak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HISTOPATOLO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Carcinoma Sel Skuamosa (95 – 98 %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dibagi 3 tingkat differensias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a. Grade 1 : differensiasi ba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b. Grade 2 : differensiasi sed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c. Grade 3 : differensia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Gejal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 suara serak ( utam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 dispnea dan str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 nyeri tenggo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 disfa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rasa nyeri ketika mene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 batuk dan hemopt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 berat badan tu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DIAGN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anam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pemeriksaan kli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pemeriksaan lab.d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pemeriksaan Radiol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pemeriksaan CT.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DIAGNOSA  P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 Biopsi L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 Biopsi jarum ha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→  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Kirim ke Lab.Patologi Anato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Hasil yang terbanyak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 “ 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KARSINOMA  SEL  SKUAMOS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Ras mongoloid merupakan faktor dominan timbulnya kanker nasof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Cukup tinggi pada Cina selatan, Hongkong, Vietnam, Thailand, Malaysia, Singapur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Penyebabnya Virus Epstein - Ba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Gejala dan T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Dapat  dibagi  4 kelompok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Gejala Nasof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Gejala Teli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Gejala 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Gejala Sar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Gejala Nasofar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- epistak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Gejala Telinga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- tinitus, otal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Gejala Mat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- diplo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Gejala sara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- gangguan saraf otak ke IX, X, XI, X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etastase ke Kel.Leher dalam bentuk Benjolan dile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Diagnosis P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Biopsi Nasof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Arial"/>
              </a:rPr>
              <a:t>HISTOPATOLOG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Telah disetujui oleh WHO ada 3 bentuk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karsinoma sel skuamosa ( berkeratinisa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karsinoma tidak berkeratin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karsinoma tidak berdifferins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Arial"/>
              </a:rPr>
              <a:t>TER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RADIOTER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Arial"/>
              </a:rPr>
              <a:t>ANGIOFIBROMA  NASOFA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 Tumor jinak pembuluh darah di Nasof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Secara Histologis  Ji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Secara klinis ganas, karena mempunyai kemampuan mendestruksi tulang dan meluas kejaringan sekitarnya, seperti ke sinus paranasal, pipi, mata, tengkorak, serta sangat mudah berdarah yang sulit dihentik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6:00:23Z</dcterms:created>
  <dc:creator>Dr. Hertati Siahaan</dc:creator>
  <dc:description/>
  <dc:language>en-US</dc:language>
  <cp:lastModifiedBy>hertatis</cp:lastModifiedBy>
  <dcterms:modified xsi:type="dcterms:W3CDTF">2012-04-20T05:05:04Z</dcterms:modified>
  <cp:revision>9</cp:revision>
  <dc:subject/>
  <dc:title>KARSINOMA  NASOFARING  BLOK . XX</dc:title>
</cp:coreProperties>
</file>