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antovani%20-%20Three%20Coins%20in%20the%20Fountain.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97B-D648-4DD4-ADEC-027E6AB0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AA7-116F-463F-9B11-F7A93176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8B1-936F-4D59-9D97-B62F28A4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D72-B7BA-42F2-A907-315D3F09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5AE-DDAC-4C10-A599-CB5EBE86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48E-D050-4F14-B289-956FADE8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915-AA05-4DD4-A761-32BE165A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3A7-860A-4A55-AA09-972C528D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071-B724-42F4-ABA4-AB8FF282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E73-A78A-4576-836F-28AD343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67E-6771-481C-9F6F-F291983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9CF-9A46-4A37-B5C1-489BFBEA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1A92-79AA-48AD-A1D8-3D1B30D04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ntovani%20-%20Three%20Coins%20in%20the%20Fountain.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549360"/>
            <a:ext cx="5040000" cy="3816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Monotype Corsiva"/>
              </a:rPr>
              <a:t>Rozenknop door Alice Na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37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Muziek:  Mantovani - Three Coins in the F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549360"/>
            <a:ext cx="5040360" cy="3743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k Hou niet van volbloeide roz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ie heur hart heeft uitgezei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549360"/>
            <a:ext cx="5040360" cy="381636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86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ie bij 't oop'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Van heur broze weel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’eerte stervenstrane schr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49360"/>
            <a:ext cx="5040360" cy="37432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k Zie ze liever wachtend drag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Wat een knop niet openwoe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549360"/>
            <a:ext cx="4896000" cy="367164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86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t Stil geslu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Van zó teêr verlang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at een and're roos het voel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Want, door elk geluk moet schrei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Schemering van droefen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86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Als een lief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ie door bei gewe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Nog onuitgesproken 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Liefde, hou me lang verb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t Schroeien van uw pracht'ge glo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86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t Is de pa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van het zonne-zoe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ie een roze sterven doe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1:13:25Z</dcterms:created>
  <dc:creator>http://users.telenet.be//powerpointsannie</dc:creator>
  <dc:description/>
  <dc:language>en-US</dc:language>
  <cp:lastModifiedBy>Smets</cp:lastModifiedBy>
  <dcterms:modified xsi:type="dcterms:W3CDTF">2008-09-04T03:58:05Z</dcterms:modified>
  <cp:revision>8</cp:revision>
  <dc:subject/>
  <dc:title>Dia 1</dc:title>
</cp:coreProperties>
</file>