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Mantovani%20-%20Three%20Coins%20in%20the%20Fountain..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CC6-9CA3-445D-9FD8-15C4DF1D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577-15BD-44E0-BB8C-C6BE0909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C06-2321-4604-AC60-8486F5B7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C3F-A613-4B11-8CE8-C6965B89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6C3-0A77-4D66-96E7-DFEE7E0E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19F-1AE4-44DA-A8B2-A1C964CC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5636-AF25-412C-9660-4F90FD9D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1FA-817E-44EE-9C9B-3F6F2655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38E-0B89-4ED6-9146-76AA3373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F80-0A26-43EF-A58D-A1DC21C1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8A7-0DB9-4E35-9839-4E843030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5E29-0644-4FBE-BB0A-5EB9BC18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37E3-A8F0-4460-BEFB-46551514F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antovani%20-%20Three%20Coins%20in%20the%20Fountain..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5040000" cy="3778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4360" y="549360"/>
            <a:ext cx="5040000" cy="3816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0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Monotype Corsiva"/>
              </a:rPr>
              <a:t>Rozenknop door Alice Nah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968720" cy="3724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549360"/>
            <a:ext cx="4968720" cy="3743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37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Muziek:  Mantovani - Three Coins in the Fou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05092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968720" cy="3724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549360"/>
            <a:ext cx="5040360" cy="37432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86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'k Hou niet van volbloeide roz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Die heur hart heeft uitgezei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549360"/>
            <a:ext cx="5040360" cy="381636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86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Die bij 't oop'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Van heur broze weel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D’eerte stervenstrane schr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968720" cy="3724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549360"/>
            <a:ext cx="5040360" cy="37432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6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'k Zie ze liever wachtend drag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Wat een knop niet openwoe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4896000" cy="3670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549360"/>
            <a:ext cx="4896000" cy="367164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786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't Stil geslu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Van zó teêr verlang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Dat een and're roos het voel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968720" cy="3724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49360"/>
            <a:ext cx="4968720" cy="374328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86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Want, door elk geluk moet schrei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Schemering van droefeni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968720" cy="3724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549360"/>
            <a:ext cx="4968720" cy="37432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86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Als een lief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Die door bei gewet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Nog onuitgesproken i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968720" cy="3724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549360"/>
            <a:ext cx="4968720" cy="37432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86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Liefde, hou me lang verb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't Schroeien van uw pracht'ge glo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968720" cy="3724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549360"/>
            <a:ext cx="4968720" cy="374328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86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't Is de pa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van het zonne-zoen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Die een roze sterven doe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1:13:25Z</dcterms:created>
  <dc:creator>http://users.telenet.be//powerpointsannie</dc:creator>
  <dc:description/>
  <dc:language>en-US</dc:language>
  <cp:lastModifiedBy>Smets</cp:lastModifiedBy>
  <dcterms:modified xsi:type="dcterms:W3CDTF">2008-09-04T03:58:05Z</dcterms:modified>
  <cp:revision>8</cp:revision>
  <dc:subject/>
  <dc:title>Dia 1</dc:title>
</cp:coreProperties>
</file>