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558-627B-4316-80DA-2B872529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761-C882-463E-8515-DD4C89D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D30-B836-48CB-A23B-A85FCBB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406-8644-4F0B-9120-DF15A744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8F0-98C8-41B1-86DF-D306F915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37F-C17A-4981-992A-3767EF9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053-A80D-4CCF-91F0-8583423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6A3-CABE-4A37-A05D-3E27DBF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8FE-39CF-4B9E-9787-0C9DA97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4D8-6D33-4C80-8E11-E58C4AA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A56-8FE2-4ADD-B459-A581414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8B3-BD41-4A54-AF05-1C744E5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35292-0738-4F9F-B9F8-F21B343AC4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A9F5F-1605-4552-ACC6-F352E4023E03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6:03:45Z</dcterms:created>
  <dc:creator>최봉수</dc:creator>
  <dc:description/>
  <dc:language>en-US</dc:language>
  <cp:lastModifiedBy>맛있다 군만두</cp:lastModifiedBy>
  <dcterms:modified xsi:type="dcterms:W3CDTF">2024-09-24T08:03:16Z</dcterms:modified>
  <cp:revision>4</cp:revision>
  <dc:subject/>
  <dc:title>슬라이드 1</dc:title>
</cp:coreProperties>
</file>