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631-3BF5-4FC5-9C5D-0F07C4D4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705-1A62-47E7-84D4-E3F7515B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450-BA94-4962-87D2-5787B0D5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CF6-C7C3-43D0-A356-50EB7DD9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958-6CC7-4AFD-A86C-80A60FB8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5BA-9C9A-4A1B-8184-2FD624AD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DC9-BF89-4E91-A847-E1CA1F44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FD5-3F04-43B4-AB26-1755AE58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E05-3C51-456D-8D32-268DD4F0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974-7F18-44A2-A96D-57D33FC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A02-F9F6-424E-8316-2DCE969F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BBF-54CA-484F-B160-60793A38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2D822-E080-4F99-9092-08CA5E9BAA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E6924-66AD-4EE2-9811-D3A5E7007E91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6:03:45Z</dcterms:created>
  <dc:creator>최봉수</dc:creator>
  <dc:description/>
  <dc:language>en-US</dc:language>
  <cp:lastModifiedBy>맛있다 군만두</cp:lastModifiedBy>
  <dcterms:modified xsi:type="dcterms:W3CDTF">2024-09-24T08:03:16Z</dcterms:modified>
  <cp:revision>4</cp:revision>
  <dc:subject/>
  <dc:title>슬라이드 1</dc:title>
</cp:coreProperties>
</file>