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318CA-78E5-4980-8753-57F5ED6A9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CB811-99EF-4E8E-84FB-598084522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2939B-809B-40B7-B70E-10FE6B2A5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5835D-CF03-4C20-A934-CEF90BBE5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CF161-DEA7-465D-8C26-FF58FF2E6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66DC2-6E05-4243-AEC7-81F43E2AE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76BCE-24D0-44FE-9935-482BFA957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9C74E-6BA7-4CB8-8E89-03CE04069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76E2E-D6BD-47E1-9565-816CD6B78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07BE7-DCD1-43AB-B046-879EF249F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A8D72-F2A4-41B9-B0A2-16CCCF083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5BAE0-780A-48E9-A2DE-BC447D880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E179D-AEF0-43D0-B35A-1F1724EF7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ECFE2-41B1-4095-A904-B275D5B66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26A4A-F823-49C9-B38D-C5B83D568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EAEA3-6FAA-44E4-9936-079BE0CC5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E5D86-48B8-4B35-B5E0-2291F5C82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D8337-F455-4C22-8ED7-FBEF9890A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98CC8-AD02-4CE5-A6AE-CEFE15589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B0630-DE49-4F6E-BB72-F8A7DDB8E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B15B2-3534-4C17-AE2D-5BDAFD3C8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EFE4A-6EB0-40FE-A39F-E37694E33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76BDF-6DFE-4270-9E6B-79CFF35A4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E2EA4-68FC-4E42-B69D-B90142598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6878-41B2-4FC1-AD98-92609B9D32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205C-9556-401B-8C01-EDB38EC312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980640"/>
            <a:ext cx="7846920" cy="43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Plan communal d’intervention en cas de risque majeur</a:t>
            </a: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Dr Rabah TOUAIBI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s principales étapes dans lesquelles les élus doivent s’impliquer sont:</a:t>
            </a:r>
            <a:br>
              <a:rPr sz="2800"/>
            </a:br>
            <a:endParaRPr b="0" lang="en-US" sz="2800" spc="-1" strike="noStrike">
              <a:solidFill>
                <a:srgbClr val="ccecff"/>
              </a:solidFill>
              <a:latin typeface="Arial"/>
            </a:endParaRPr>
          </a:p>
        </p:txBody>
      </p:sp>
      <p:sp>
        <p:nvSpPr>
          <p:cNvPr id="226" name="PlaceHolder 2"/>
          <p:cNvSpPr>
            <a:spLocks noGrp="1"/>
          </p:cNvSpPr>
          <p:nvPr>
            <p:ph/>
          </p:nvPr>
        </p:nvSpPr>
        <p:spPr>
          <a:xfrm>
            <a:off x="324000" y="1052640"/>
            <a:ext cx="8229600" cy="218592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début des travaux,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ensibilisation de l’équipe municipale,</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définition des objectifs,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épartition des actions entre les acteurs (commune, organismes externes, citoyens…),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éalisation du plan d’actions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 la validation des différentes étapes.</a:t>
            </a:r>
            <a:endParaRPr b="0" lang="en-US" sz="2000" spc="-1" strike="noStrike">
              <a:solidFill>
                <a:srgbClr val="ffffff"/>
              </a:solidFill>
              <a:latin typeface="Arial"/>
            </a:endParaRPr>
          </a:p>
        </p:txBody>
      </p:sp>
      <p:grpSp>
        <p:nvGrpSpPr>
          <p:cNvPr id="227" name=""/>
          <p:cNvGrpSpPr/>
          <p:nvPr/>
        </p:nvGrpSpPr>
        <p:grpSpPr>
          <a:xfrm>
            <a:off x="608400" y="3906720"/>
            <a:ext cx="4890960" cy="2148480"/>
            <a:chOff x="608400" y="3906720"/>
            <a:chExt cx="4890960" cy="2148480"/>
          </a:xfrm>
        </p:grpSpPr>
        <p:cxnSp>
          <p:nvCxnSpPr>
            <p:cNvPr id="228" name="_s18463"/>
            <p:cNvCxnSpPr>
              <a:stCxn id="229" idx="0"/>
              <a:endCxn id="230" idx="2"/>
            </p:cNvCxnSpPr>
            <p:nvPr/>
          </p:nvCxnSpPr>
          <p:spPr>
            <a:xfrm flipH="1" flipV="1" rot="5400000">
              <a:off x="2884680" y="3763440"/>
              <a:ext cx="196920" cy="2446200"/>
            </a:xfrm>
            <a:prstGeom prst="bentConnector3">
              <a:avLst>
                <a:gd name="adj1" fmla="val 49450"/>
              </a:avLst>
            </a:prstGeom>
            <a:ln w="28440">
              <a:solidFill>
                <a:srgbClr val="ffffff"/>
              </a:solidFill>
              <a:miter/>
            </a:ln>
          </p:spPr>
        </p:cxnSp>
        <p:cxnSp>
          <p:nvCxnSpPr>
            <p:cNvPr id="231" name="_s18455"/>
            <p:cNvCxnSpPr>
              <a:stCxn id="232" idx="1"/>
              <a:endCxn id="233" idx="2"/>
            </p:cNvCxnSpPr>
            <p:nvPr/>
          </p:nvCxnSpPr>
          <p:spPr>
            <a:xfrm flipH="1" rot="10800000">
              <a:off x="3276000" y="5477400"/>
              <a:ext cx="969840" cy="379800"/>
            </a:xfrm>
            <a:prstGeom prst="bentConnector4">
              <a:avLst>
                <a:gd name="adj1" fmla="val -11771"/>
                <a:gd name="adj2" fmla="val 75711"/>
              </a:avLst>
            </a:prstGeom>
            <a:ln w="28440">
              <a:solidFill>
                <a:srgbClr val="ffffff"/>
              </a:solidFill>
              <a:miter/>
            </a:ln>
          </p:spPr>
        </p:cxnSp>
        <p:cxnSp>
          <p:nvCxnSpPr>
            <p:cNvPr id="234" name="_s18449"/>
            <p:cNvCxnSpPr>
              <a:stCxn id="233" idx="0"/>
              <a:endCxn id="230" idx="2"/>
            </p:cNvCxnSpPr>
            <p:nvPr/>
          </p:nvCxnSpPr>
          <p:spPr>
            <a:xfrm flipV="1" rot="16200000">
              <a:off x="4127040" y="4966200"/>
              <a:ext cx="196920" cy="40680"/>
            </a:xfrm>
            <a:prstGeom prst="bentConnector3">
              <a:avLst>
                <a:gd name="adj1" fmla="val 49450"/>
              </a:avLst>
            </a:prstGeom>
            <a:ln w="28440">
              <a:solidFill>
                <a:srgbClr val="ffffff"/>
              </a:solidFill>
              <a:miter/>
            </a:ln>
          </p:spPr>
        </p:cxnSp>
        <p:cxnSp>
          <p:nvCxnSpPr>
            <p:cNvPr id="235" name="_s18446"/>
            <p:cNvCxnSpPr>
              <a:stCxn id="230" idx="0"/>
              <a:endCxn id="236" idx="2"/>
            </p:cNvCxnSpPr>
            <p:nvPr/>
          </p:nvCxnSpPr>
          <p:spPr>
            <a:xfrm flipV="1" rot="16200000">
              <a:off x="4082760" y="4384800"/>
              <a:ext cx="210600" cy="35280"/>
            </a:xfrm>
            <a:prstGeom prst="bentConnector3">
              <a:avLst>
                <a:gd name="adj1" fmla="val 50000"/>
              </a:avLst>
            </a:prstGeom>
            <a:ln w="28440">
              <a:solidFill>
                <a:srgbClr val="ffffff"/>
              </a:solidFill>
              <a:miter/>
            </a:ln>
          </p:spPr>
        </p:cxnSp>
        <p:sp>
          <p:nvSpPr>
            <p:cNvPr id="236" name="_s18441"/>
            <p:cNvSpPr/>
            <p:nvPr/>
          </p:nvSpPr>
          <p:spPr>
            <a:xfrm>
              <a:off x="2985840" y="3906720"/>
              <a:ext cx="2370600" cy="3913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anditaire (Commune)</a:t>
              </a:r>
              <a:endParaRPr b="0" lang="en-US" sz="1400" spc="-1" strike="noStrike">
                <a:solidFill>
                  <a:srgbClr val="ffffff"/>
                </a:solidFill>
                <a:latin typeface="Arial"/>
              </a:endParaRPr>
            </a:p>
          </p:txBody>
        </p:sp>
        <p:sp>
          <p:nvSpPr>
            <p:cNvPr id="230" name="_s18443"/>
            <p:cNvSpPr/>
            <p:nvPr/>
          </p:nvSpPr>
          <p:spPr>
            <a:xfrm>
              <a:off x="3059280" y="4508280"/>
              <a:ext cx="2296800" cy="38016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ité de pilotage</a:t>
              </a:r>
              <a:endParaRPr b="0" lang="en-US" sz="1400" spc="-1" strike="noStrike">
                <a:solidFill>
                  <a:srgbClr val="ffffff"/>
                </a:solidFill>
                <a:latin typeface="Arial"/>
              </a:endParaRPr>
            </a:p>
          </p:txBody>
        </p:sp>
        <p:sp>
          <p:nvSpPr>
            <p:cNvPr id="233" name="_s18448"/>
            <p:cNvSpPr/>
            <p:nvPr/>
          </p:nvSpPr>
          <p:spPr>
            <a:xfrm>
              <a:off x="3134160" y="5085000"/>
              <a:ext cx="2221920" cy="39276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ef de projet</a:t>
              </a:r>
              <a:endParaRPr b="0" lang="en-US" sz="1400" spc="-1" strike="noStrike">
                <a:solidFill>
                  <a:srgbClr val="ffffff"/>
                </a:solidFill>
                <a:latin typeface="Arial"/>
              </a:endParaRPr>
            </a:p>
          </p:txBody>
        </p:sp>
        <p:sp>
          <p:nvSpPr>
            <p:cNvPr id="232" name="_s18454"/>
            <p:cNvSpPr/>
            <p:nvPr/>
          </p:nvSpPr>
          <p:spPr>
            <a:xfrm>
              <a:off x="3276360" y="5661000"/>
              <a:ext cx="2223000" cy="3942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oupes de travail</a:t>
              </a:r>
              <a:endParaRPr b="0" lang="en-US" sz="1400" spc="-1" strike="noStrike">
                <a:solidFill>
                  <a:srgbClr val="ffffff"/>
                </a:solidFill>
                <a:latin typeface="Arial"/>
              </a:endParaRPr>
            </a:p>
          </p:txBody>
        </p:sp>
        <p:sp>
          <p:nvSpPr>
            <p:cNvPr id="229" name="_s18462"/>
            <p:cNvSpPr/>
            <p:nvPr/>
          </p:nvSpPr>
          <p:spPr>
            <a:xfrm>
              <a:off x="608400" y="5085000"/>
              <a:ext cx="2303280" cy="57564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Éventuellement chef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projet extern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estataire)</a:t>
              </a:r>
              <a:endParaRPr b="0" lang="en-US" sz="1400" spc="-1" strike="noStrike">
                <a:solidFill>
                  <a:srgbClr val="ffffff"/>
                </a:solidFill>
                <a:latin typeface="Arial"/>
              </a:endParaRPr>
            </a:p>
          </p:txBody>
        </p:sp>
      </p:grpSp>
      <p:sp>
        <p:nvSpPr>
          <p:cNvPr id="237" name=""/>
          <p:cNvSpPr/>
          <p:nvPr/>
        </p:nvSpPr>
        <p:spPr>
          <a:xfrm>
            <a:off x="6443640" y="4508640"/>
            <a:ext cx="216072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SCHEMAS D’ORGANISATIO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tte structure doit être adaptée à la taille et aux moyens de la commu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e comité de pilotage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ssure la conduite du projet,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est l’organe décisionnel,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valide les étapes du processus,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informe et mobilise les acteurs de la collectivité.</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e chef de projet communal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la maîtrise d’œuvre du projet en étroite collaboration avec le comité de pilotage,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organise, anime la démarche,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coordonne les actions et les acteurs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 réalise la synthèse des travau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Une fois le PCI rédigé, il est nécessaire de maintenir les acteurs de ce plan mobilisés autour du sujet :</a:t>
            </a:r>
            <a:endParaRPr b="0" lang="en-US" sz="2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 réunions d’information périodiqu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ibilisation régulière des personnes qui détiennent de l’information devant être maintenue à jour (liste des moyens matériels par exemp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éalisation d’exercices de simul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277920"/>
            <a:ext cx="8147160" cy="56721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e plan d’intervention devrait permettre à tous les acteurs de la commune de réagir de manière coordonnée, avant, pendant et après la catastrophe ou risque majeur.</a:t>
            </a:r>
            <a:r>
              <a:rPr b="0" lang="en-US" sz="4400" spc="-1" strike="noStrike">
                <a:solidFill>
                  <a:srgbClr val="ccecff"/>
                </a:solidFill>
                <a:latin typeface="Arial"/>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vant la catastrophe</a:t>
            </a:r>
            <a:r>
              <a:rPr b="1" lang="en-US" sz="2400" spc="-1" strike="noStrike">
                <a:solidFill>
                  <a:srgbClr val="ff0000"/>
                </a:solidFill>
                <a:latin typeface="Arial"/>
              </a:rPr>
              <a:t> : </a:t>
            </a:r>
            <a:br>
              <a:rPr sz="2400"/>
            </a:br>
            <a:r>
              <a:rPr b="1" lang="en-US" sz="2400" spc="-1" strike="noStrike">
                <a:solidFill>
                  <a:srgbClr val="ff0000"/>
                </a:solidFill>
                <a:latin typeface="Arial"/>
              </a:rPr>
              <a:t>ÉVALUATION DES RISQUES POUR RÉDUIRE LA VULNÉRABILITÉ</a:t>
            </a:r>
            <a:endParaRPr b="0" lang="en-US" sz="2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réventi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ures d’aménagement du territoi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ures techniques (de construction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ures écologiques</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réparati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sation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ification des moyen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ification d’engagement</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rcice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é alerte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AU MOMENT DE LA CATASTROPHE ET APRES</a:t>
            </a:r>
            <a:br>
              <a:rPr sz="2400"/>
            </a:br>
            <a:r>
              <a:rPr b="1" lang="en-US" sz="2400" spc="-1" strike="noStrike">
                <a:solidFill>
                  <a:srgbClr val="ff0000"/>
                </a:solidFill>
                <a:latin typeface="Arial"/>
              </a:rPr>
              <a:t>GESTION : LIMITER L’AMPLEUR :</a:t>
            </a:r>
            <a:endParaRPr b="0" lang="en-US" sz="2400" spc="-1" strike="noStrike">
              <a:solidFill>
                <a:srgbClr val="ccecff"/>
              </a:solidFill>
              <a:latin typeface="Arial"/>
            </a:endParaRPr>
          </a:p>
        </p:txBody>
      </p:sp>
      <p:sp>
        <p:nvSpPr>
          <p:cNvPr id="24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Engagement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arme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uvetage</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tte contre les sinistres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gnes de comportement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Remise en état</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ise en état provisoire</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visionnement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limination des déchet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s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Évaluation de la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Reconstructio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ise en état définitive</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nstruction des bâtiment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forc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ans le domaine de la sécurité civile, des évènements marquants nous rappellent régulièrement que les situations susceptibles de perturber le fonctionnement quotidien de nos organisations sont nombreuses. Il suffit de penser au séisme de Chlef ou celui de Boumerdes, aux inondations de Bab El Oued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ques majeurs (1)</a:t>
            </a:r>
            <a:endParaRPr b="0" lang="en-US" sz="4400" spc="-1" strike="noStrike">
              <a:solidFill>
                <a:srgbClr val="ccecf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s que définit dans la Loi n° 04 – 20 du 25 Décembre 2004 relative à la prévention des risques majeurs et à la gestion des catastrophes dans le cadre du développement durable (Art. 2 et Art. 10)</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 qualifiée de risque majeur toute menace probable pour l’homme et son environnement pouvant survenir du fait d’aléas naturels exceptionnels et/ou du fait d’activités huma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ques majeurs (2)</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10</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éismes et risques géologiqu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inondation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risques chimiqu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feux de forêt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risques industriels et énergétiqu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risques radiologiques et nucléair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risques portant sur la santé humain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risques portant sur la santé animale et végétal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pollutions atmosphériques, telluriques, marine ou hydriqu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catastrophes dues à des regroupements humains importa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68360" y="620640"/>
            <a:ext cx="8229600" cy="56880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risque majeur ou la catastrophe se caractérise par sa fréquence si faible, que l’on pourrait être tenté de l’oubli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ans tous les cas, le désarroi, les attentes des citoyens les amènent à interpeller la puissance publique dont ils attendent qu’elle soit capable d’apporter dans l’urgence des réponses à ces situations imprévues ou inopiné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Du fait de leur proximité et de leur responsabilité, les acteurs de la puissance publique vers lesquels les citoyens se tournent en priorité sont les Présidents d’AP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332640">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est pourquoi, les communes doivent se préparer à faire face à tout risque majeur auquel elles peuvent être exposées, en élaborant un plan d’intervention qui doit préparer et les élus et la population à réagir dans un cadre organisé loin de toute improvisa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fontScale="99000"/>
          </a:bodyPr>
          <a:p>
            <a:pPr marL="339480" indent="-3394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Élaborer un PCI</a:t>
            </a:r>
            <a:r>
              <a:rPr b="0" lang="en-US" sz="3600" spc="-1" strike="noStrike">
                <a:solidFill>
                  <a:srgbClr val="ffffff"/>
                </a:solidFill>
                <a:latin typeface="Arial"/>
              </a:rPr>
              <a:t> ne signifie pas créer de nouveaux moyens mais d’organiser l’existant.</a:t>
            </a:r>
            <a:endParaRPr b="0" lang="en-US" sz="3600" spc="-1" strike="noStrike">
              <a:solidFill>
                <a:srgbClr val="ffffff"/>
              </a:solidFill>
              <a:latin typeface="Arial"/>
            </a:endParaRPr>
          </a:p>
          <a:p>
            <a:pPr marL="339480" indent="-33948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Objectifs:</a:t>
            </a:r>
            <a:endParaRPr b="0" lang="en-US" sz="3600" spc="-1" strike="noStrike">
              <a:solidFill>
                <a:srgbClr val="ffffff"/>
              </a:solidFill>
              <a:latin typeface="Arial"/>
            </a:endParaRPr>
          </a:p>
          <a:p>
            <a:pPr lvl="1" marL="735480" indent="-282960">
              <a:spcBef>
                <a:spcPts val="9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épondre à une obligation règlementaire   (Loi n° 04-20) </a:t>
            </a:r>
            <a:endParaRPr b="0" lang="en-US" sz="3600" spc="-1" strike="noStrike">
              <a:solidFill>
                <a:srgbClr val="ffffff"/>
              </a:solidFill>
              <a:latin typeface="Arial"/>
            </a:endParaRPr>
          </a:p>
          <a:p>
            <a:pPr lvl="1" marL="735480" indent="-282960">
              <a:spcBef>
                <a:spcPts val="9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ttre en place une organisation fonctionnelle et réactive pour faire face à un risque majeur ou une catastroph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ent conduire le projet?</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nt de s’engager dans la démarche d’élaboration, il est indispensable de définir:</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 la mener à bie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s quoi la commune souhaite aller?</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ns quel environnement ce projet va s’inscrire?</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projet doit être transversal et nécessite l’engagement de chaque élu, de chaque service et de tous les acteurs de la collectivité.</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otivation des élus, en particulier le P.APC est le facteur le plus important pour la réussite de ce futur plan et ce, quelle que soit la taille de la commun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es principales étapes du projet</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e du projet et plans d’actio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tic des risques (établir la carte des risques de la commun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priorités (alerte et information de la population)</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recensement des moye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épartition des rôles sur les différents acteu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e en place des outils d’aide à la gestion d’un évènement (formalisation)</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tion, information, exercices et retour d’expér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20:35:51Z</dcterms:created>
  <dc:creator>TOUAIBIA Rabah</dc:creator>
  <dc:description/>
  <dc:language>en-US</dc:language>
  <cp:lastModifiedBy>TOUAIBIA Rabah</cp:lastModifiedBy>
  <dcterms:modified xsi:type="dcterms:W3CDTF">2008-05-12T21:05:39Z</dcterms:modified>
  <cp:revision>6</cp:revision>
  <dc:subject/>
  <dc:title>Plan communal d’intervention en cas de risque majeur</dc:title>
</cp:coreProperties>
</file>