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93A-6CC9-4163-BBF0-30BEDBD0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1CF-EDB7-4262-97AB-B5C8A42C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2917-143A-4DD9-B00F-BE875148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EAD5-3D47-406E-935A-83B0DD25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94B-F1E3-4136-B868-64176609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188-B9AD-438B-B111-595B3B4E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B40-5505-4A8C-9DD7-791165F8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5F7-D2A0-4FBE-968B-054C4B09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402-3508-48EE-B123-0B6D94A9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52E-7D94-417A-951E-769B5544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82D-73DF-4DF5-B811-87F2C6F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F91-6FC6-4520-B2A2-B9BBFF7D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AB57-15B0-4356-8A94-6B09BC20366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8.jpeg"/><Relationship Id="rId6" Type="http://schemas.openxmlformats.org/officeDocument/2006/relationships/slide" Target="slide8.xml"/><Relationship Id="rId7" Type="http://schemas.openxmlformats.org/officeDocument/2006/relationships/image" Target="../media/image9.jpeg"/><Relationship Id="rId8" Type="http://schemas.openxmlformats.org/officeDocument/2006/relationships/hyperlink" Target="file:///../../&#1601;&#1607;&#1585;&#1587;%20&#1575;&#1604;&#1578;&#1585;&#1575;&#1606;&#1610;&#1605;.pps" TargetMode="External"/><Relationship Id="rId9" Type="http://schemas.openxmlformats.org/officeDocument/2006/relationships/image" Target="../media/image9.jpeg"/><Relationship Id="rId10" Type="http://schemas.openxmlformats.org/officeDocument/2006/relationships/slide" Target="slide1.xm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46000" y="932040"/>
            <a:ext cx="80280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1998720"/>
            <a:ext cx="850896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و غيرك امتلك الكي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040" y="3065400"/>
            <a:ext cx="850896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ن أين كنت سأعر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40" y="4208400"/>
            <a:ext cx="8767800" cy="2530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لك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محبة و</a:t>
            </a:r>
            <a:r>
              <a:rPr b="1" lang="ar-EG" sz="8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حنا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8440" y="1160640"/>
            <a:ext cx="83055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لمن سواك أذه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40040" y="211464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سواك ينف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60360" y="32338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نفس ليست تهد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7200" y="4237200"/>
            <a:ext cx="761976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ا لم إليك ترج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47760" y="1112760"/>
            <a:ext cx="83055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10348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بي يتحك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2464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أين كنت سأُرح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4313160"/>
            <a:ext cx="76197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فأنت وحدك ترح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8480" y="1192320"/>
            <a:ext cx="83059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6880" y="230508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نت منه أقي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36240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أين كنت سأُرف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4429080"/>
            <a:ext cx="76201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بذا المقام أُكرم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8440" y="1160640"/>
            <a:ext cx="83055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لمن سواك أذه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40040" y="211464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سواك ينف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60360" y="32338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نفس ليست تهد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7200" y="4237200"/>
            <a:ext cx="761976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ا لم إليك ترج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1480" y="1112760"/>
            <a:ext cx="83059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7120" y="2103480"/>
            <a:ext cx="63151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نا أهيـــم مشـــردا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63600" y="32464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يــن الدروب بحيــرة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6400" y="4313160"/>
            <a:ext cx="762012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ن بي يسافـر مرشــداً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0f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28440" y="1009800"/>
            <a:ext cx="9171000" cy="115884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و كان غيرك سيدي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00080" y="2076480"/>
            <a:ext cx="7151760" cy="22251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ين الذئاب وسـط الظـلام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0560" y="3219480"/>
            <a:ext cx="7319880" cy="22251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من كنت فيه سأحتمـــي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0040" y="4286160"/>
            <a:ext cx="8413920" cy="222516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حــيا بأمنه و</a:t>
            </a:r>
            <a:r>
              <a:rPr b="1" lang="ar-EG" sz="7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ســـلام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76320" y="-7632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68440" y="1160640"/>
            <a:ext cx="830556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سوع لمن سواك أذه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40040" y="2114640"/>
            <a:ext cx="541008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ن سواك ينف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0360" y="3233880"/>
            <a:ext cx="6629400" cy="22870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لنفس ليست تهدأ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7200" y="4237200"/>
            <a:ext cx="7619760" cy="11898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ا لم إليك ترجع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5148360" y="1413000"/>
            <a:ext cx="3960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لو كان بي يتحك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5148360" y="2433600"/>
            <a:ext cx="396072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و أنا أهيم مشرد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6" action="ppaction://hlinksldjump"/>
          </p:cNvPr>
          <p:cNvSpPr/>
          <p:nvPr/>
        </p:nvSpPr>
        <p:spPr>
          <a:xfrm>
            <a:off x="108000" y="1281240"/>
            <a:ext cx="45021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القرار : يسوع لمن سواك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0" action="ppaction://hlinksldjump"/>
          </p:cNvPr>
          <p:cNvSpPr/>
          <p:nvPr/>
        </p:nvSpPr>
        <p:spPr>
          <a:xfrm>
            <a:off x="5148360" y="417600"/>
            <a:ext cx="396072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لو غيرك أمتل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19:17:45Z</dcterms:created>
  <dc:creator/>
  <dc:description/>
  <dc:language>en-US</dc:language>
  <cp:lastModifiedBy>Sp2</cp:lastModifiedBy>
  <dcterms:modified xsi:type="dcterms:W3CDTF">2009-01-05T00:52:14Z</dcterms:modified>
  <cp:revision>24</cp:revision>
  <dc:subject/>
  <dc:title>No Slide Title</dc:title>
</cp:coreProperties>
</file>