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F72-FEA2-4E51-8CEA-B30C598A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4A2-E9FE-400F-9A27-D015D1A7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1E0-3CEE-435F-9F3A-58280E43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F6B-F4CB-4F41-969C-91E30C9B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F33-3A03-4642-9440-485005E4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454-910E-4B18-9263-5CB1D4C0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367-39BC-46A5-BB51-63BC8557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98D-E8ED-4C42-BE82-52FB0693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6DB-9D6B-4F6B-84E5-28F1A37D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B29-6174-4309-8EEA-72FEF9DE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9C7-105F-4A35-9DC5-FF471AEA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B4E-F189-44E2-B961-12C55F90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71D1-8CD5-4ECF-A44B-95E6DC57DFD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8.jpeg"/><Relationship Id="rId6" Type="http://schemas.openxmlformats.org/officeDocument/2006/relationships/slide" Target="slide8.xml"/><Relationship Id="rId7" Type="http://schemas.openxmlformats.org/officeDocument/2006/relationships/image" Target="../media/image9.jpeg"/><Relationship Id="rId8" Type="http://schemas.openxmlformats.org/officeDocument/2006/relationships/hyperlink" Target="file:///../../&#1601;&#1607;&#1585;&#1587;%20&#1575;&#1604;&#1578;&#1585;&#1575;&#1606;&#1610;&#1605;.pps" TargetMode="External"/><Relationship Id="rId9" Type="http://schemas.openxmlformats.org/officeDocument/2006/relationships/image" Target="../media/image9.jpeg"/><Relationship Id="rId10" Type="http://schemas.openxmlformats.org/officeDocument/2006/relationships/slide" Target="slide1.xm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0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46000" y="932040"/>
            <a:ext cx="802800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و كان غيرك سيد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360" y="1998720"/>
            <a:ext cx="850896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و غيرك امتلك الكيا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040" y="3065400"/>
            <a:ext cx="850896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ن أين كنت سأعر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40" y="4208400"/>
            <a:ext cx="876780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لك</a:t>
            </a: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محبة و</a:t>
            </a:r>
            <a:r>
              <a:rPr b="1" lang="ar-EG" sz="8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حنا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0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76320" y="-7632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8440" y="1160640"/>
            <a:ext cx="830556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سوع لمن سواك أذه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40040" y="2114640"/>
            <a:ext cx="54100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ن سواك ينفع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60360" y="3233880"/>
            <a:ext cx="66294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لنفس ليست تهدأ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7200" y="4237200"/>
            <a:ext cx="761976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ا لم إليك ترجع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0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7760" y="1112760"/>
            <a:ext cx="830556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و كان غيرك سيد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2103480"/>
            <a:ext cx="54100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و كان بي يتحك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246480"/>
            <a:ext cx="66294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ن أين كنت سأُرحم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4313160"/>
            <a:ext cx="761976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أنت وحدك ترح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0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8480" y="1192320"/>
            <a:ext cx="83059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و كان غيرك سيد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36880" y="2305080"/>
            <a:ext cx="54100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و كنت منه أقيم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362400"/>
            <a:ext cx="66294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ن أين كنت سأُرفع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4429080"/>
            <a:ext cx="76201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بذا المقام أُكرم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76320" y="-7632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68440" y="1160640"/>
            <a:ext cx="830556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سوع لمن سواك أذه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40040" y="2114640"/>
            <a:ext cx="54100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ن سواك ينفع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60360" y="3233880"/>
            <a:ext cx="66294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لنفس ليست تهدأ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7200" y="4237200"/>
            <a:ext cx="761976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ا لم إليك ترجع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0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1480" y="1112760"/>
            <a:ext cx="83059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و كان غيرك سيد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7120" y="2103480"/>
            <a:ext cx="63151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نا أهيـــم مشـــرداً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63600" y="3246480"/>
            <a:ext cx="66294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يــن الدروب بحيــرة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6400" y="4313160"/>
            <a:ext cx="76201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من بي يسافـر مرشــداً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0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28440" y="1009800"/>
            <a:ext cx="9171000" cy="11588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و كان غيرك سيدي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0080" y="2076480"/>
            <a:ext cx="7151760" cy="22251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ين الذئاب وسـط الظـلام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0560" y="3219480"/>
            <a:ext cx="7319880" cy="22251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من كنت فيه سأحتمـــي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0040" y="4286160"/>
            <a:ext cx="8413920" cy="22251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حــيا بأمنه و</a:t>
            </a:r>
            <a:r>
              <a:rPr b="1" lang="ar-EG" sz="7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ســـلام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76320" y="-7632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68440" y="1160640"/>
            <a:ext cx="830556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سوع لمن سواك أذه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40040" y="2114640"/>
            <a:ext cx="54100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ن سواك ينفع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60360" y="3233880"/>
            <a:ext cx="66294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لنفس ليست تهدأ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7200" y="4237200"/>
            <a:ext cx="761976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ا لم إليك ترجع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5148360" y="1413000"/>
            <a:ext cx="39607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لو كان بي يتحك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4" action="ppaction://hlinksldjump"/>
          </p:cNvPr>
          <p:cNvSpPr/>
          <p:nvPr/>
        </p:nvSpPr>
        <p:spPr>
          <a:xfrm>
            <a:off x="5148360" y="2433600"/>
            <a:ext cx="396072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و أنا أهيم مشرد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6" action="ppaction://hlinksldjump"/>
          </p:cNvPr>
          <p:cNvSpPr/>
          <p:nvPr/>
        </p:nvSpPr>
        <p:spPr>
          <a:xfrm>
            <a:off x="108000" y="1281240"/>
            <a:ext cx="45021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القرار : يسوع لمن سواك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0" action="ppaction://hlinksldjump"/>
          </p:cNvPr>
          <p:cNvSpPr/>
          <p:nvPr/>
        </p:nvSpPr>
        <p:spPr>
          <a:xfrm>
            <a:off x="5148360" y="417600"/>
            <a:ext cx="396072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لو غيرك أمت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19:17:45Z</dcterms:created>
  <dc:creator/>
  <dc:description/>
  <dc:language>en-US</dc:language>
  <cp:lastModifiedBy>Sp2</cp:lastModifiedBy>
  <dcterms:modified xsi:type="dcterms:W3CDTF">2009-01-05T00:52:14Z</dcterms:modified>
  <cp:revision>24</cp:revision>
  <dc:subject/>
  <dc:title>No Slide Title</dc:title>
</cp:coreProperties>
</file>