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DAD-BB14-4C40-8E9D-6E473C86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930-D216-47E5-85EF-837AF1E9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6DC-0B3F-4DD1-B1E7-5FFCB076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B30-2D20-4FAA-9249-16BE1E68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6F1-8AAC-4985-86C4-F02C26B9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47F-BF54-45FF-A304-EC7C6EBF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6F8-E65B-4C4B-82C8-A2BB90DB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1F1-2465-4DFC-AB69-78808A4D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47C-C32E-4ACD-9F86-6AFE4B0F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109-84FF-407C-A8D5-ADC6E80C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2DA-9D06-4287-8470-F0C61DE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C82-4632-44A6-8842-BC4C448F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BAF3B-5384-444F-B19C-4A849AA4B1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05DFF-C831-4706-B282-04DF2211000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6:54:13Z</dcterms:created>
  <dc:creator>최봉수</dc:creator>
  <dc:description/>
  <dc:language>en-US</dc:language>
  <cp:lastModifiedBy>맛있다 군만두</cp:lastModifiedBy>
  <dcterms:modified xsi:type="dcterms:W3CDTF">2024-10-01T03:03:07Z</dcterms:modified>
  <cp:revision>3</cp:revision>
  <dc:subject/>
  <dc:title>슬라이드 1</dc:title>
</cp:coreProperties>
</file>