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BD0-7F86-475C-A817-DFE505BC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8EE-A619-41B1-9970-8097F1E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FF1-D966-4578-953E-34B0D12A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6C99-0E85-43FC-BC6F-CF2263BE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3DD-201E-4EED-85FB-DCDB6833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F23-DEC5-435A-AA19-346CC6E4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EBC-32D9-4296-BD5B-211BDFA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A22-E948-46CD-B274-3EB9B18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DD0-69EA-4324-B124-E2B6DD4F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CA1-03C3-4591-B7D3-0C298FB4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8D3-1481-45B3-AFD5-5F41644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8A0-6DAF-4A9D-8BB3-6E9B1814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89DAB-9201-42AD-86A7-0D0258BE61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FFBC0-C86E-4937-9146-22132D40CC6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6:54:13Z</dcterms:created>
  <dc:creator>최봉수</dc:creator>
  <dc:description/>
  <dc:language>en-US</dc:language>
  <cp:lastModifiedBy>맛있다 군만두</cp:lastModifiedBy>
  <dcterms:modified xsi:type="dcterms:W3CDTF">2024-10-01T03:03:07Z</dcterms:modified>
  <cp:revision>3</cp:revision>
  <dc:subject/>
  <dc:title>슬라이드 1</dc:title>
</cp:coreProperties>
</file>