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6.jpeg" ContentType="image/jpeg"/>
  <Override PartName="/ppt/media/image27.jpeg" ContentType="image/jpeg"/>
  <Override PartName="/ppt/media/image33.gif" ContentType="image/gif"/>
  <Override PartName="/ppt/media/image34.gif" ContentType="image/gif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Jean%20Ferrat%20-%20C'est%20beau%20la%20vie.wav" ContentType="audio/x-wav"/>
  <Override PartName="/ppt/media/image16.jpeg" ContentType="image/jpeg"/>
  <Override PartName="/ppt/media/image13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F8A-7C6B-4221-8E38-0C8366FB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0D1-5C16-4F1D-B332-6BECE9A6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CA7-8A36-451B-AB48-97B8730B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E83-FF4F-4DE9-BB85-C8FAD40C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89B95-8FBF-44AC-95DC-78B2E944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26758-FB21-4F81-A290-16A3644C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E4745-56CD-4163-A730-C7CF240F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6EA98-A20D-4773-A9AF-E006CB3C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4F666-5258-4B0B-9C7D-477D757B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915AC-ADA8-4ED8-90A9-88C4100C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B2356-049F-4ABE-93B3-5986695C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CD7-FA12-4C54-8A0D-780330A6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B6550-C784-4539-B4A1-48F06EF2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2B184-515C-4075-AE8E-A458FC07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BB2F9-AF9C-4F29-B645-A4C5587F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6FF08-6DF0-4925-955A-AC8FB2DA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BE283-516C-4730-8830-D190CEF9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4E8-0A42-40B5-8263-E07D03E7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065-8BB0-4492-9102-6EB05ED1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634-EDB0-42AF-A45F-3A81B67B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161-94F2-4405-8CAC-DF782C36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542D-A464-4997-9587-8AACBB8E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FBEB-750C-45FE-8F30-D4C95A5B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148-B73C-4CC9-BBAF-58BAF47E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8D87-CDFD-4E1E-9668-5A7597FC2460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49D2-63D7-48D6-8145-CD81DB3997FF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Jean%20Ferrat%20-%20C&apos;est%20beau%20la%20vi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image" Target="../media/image34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9640" y="1268280"/>
            <a:ext cx="38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33cccc"/>
                </a:solidFill>
                <a:latin typeface="Monotype Corsiva"/>
              </a:rPr>
              <a:t>Het leven is moo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vert"/>
    <p:sndAc>
      <p:stSnd>
        <p:snd r:embed="rId4" name="Jean%20Ferrat%20-%20C'est%20beau%20la%20vi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5640" y="5493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99"/>
                </a:solidFill>
                <a:latin typeface="Monotype Corsiva"/>
              </a:rPr>
              <a:t>Een besneeuwde bergflan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4076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99"/>
                </a:solidFill>
                <a:latin typeface="Monotype Corsiva"/>
              </a:rPr>
              <a:t>Alles wat leeft en streef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003640" y="620640"/>
            <a:ext cx="374508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ff"/>
                </a:solidFill>
                <a:latin typeface="Monotype Corsiva"/>
              </a:rPr>
              <a:t>Alles wat vanzelf sprekend w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ff"/>
                </a:solidFill>
                <a:latin typeface="Monotype Corsiva"/>
              </a:rPr>
              <a:t>Ben ik nooit verget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620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5580000" cy="5013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62064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33cccc"/>
                </a:solidFill>
                <a:latin typeface="Monotype Corsiva"/>
              </a:rPr>
              <a:t>Kunnen zi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521000"/>
            <a:ext cx="5337000" cy="5337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69228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cccc"/>
                </a:solidFill>
                <a:latin typeface="Monotype Corsiva"/>
              </a:rPr>
              <a:t>Kunnen luister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4360" y="2276640"/>
            <a:ext cx="316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33cccc"/>
                </a:solidFill>
                <a:latin typeface="Monotype Corsiva"/>
              </a:rPr>
              <a:t>En vooral kunnen zing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62064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000099"/>
                </a:solidFill>
                <a:latin typeface="Monotype Corsiva"/>
              </a:rPr>
              <a:t>Het leven is moo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003640" y="1125360"/>
            <a:ext cx="367200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ff5050"/>
                </a:solidFill>
                <a:latin typeface="Monotype Corsiva"/>
              </a:rPr>
              <a:t>De jazz opent de avo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ff5050"/>
                </a:solidFill>
                <a:latin typeface="Monotype Corsiva"/>
              </a:rPr>
              <a:t>Zijn trompet volgt 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620640"/>
            <a:ext cx="432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cc00"/>
                </a:solidFill>
                <a:latin typeface="Monotype Corsiva"/>
              </a:rPr>
              <a:t>In de straten van Parij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0000" y="62064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000099"/>
                </a:solidFill>
                <a:latin typeface="Monotype Corsiva"/>
              </a:rPr>
              <a:t>Het leven is moo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995640" y="25653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0000"/>
                </a:solidFill>
                <a:latin typeface="Monotype Corsiva"/>
              </a:rPr>
              <a:t>Het rood van de bloe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56360" y="2276640"/>
            <a:ext cx="273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Monotype Corsiva"/>
              </a:rPr>
              <a:t>De wind door de blonde har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42920" y="3716280"/>
            <a:ext cx="48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10199"/>
                </a:solidFill>
                <a:latin typeface="Monotype Corsiva"/>
              </a:rPr>
              <a:t>Het trillende neon licht dat onze schaduwen doet bev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407664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000099"/>
                </a:solidFill>
                <a:latin typeface="Monotype Corsiva"/>
              </a:rPr>
              <a:t>Het leven is moo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4360" y="549360"/>
            <a:ext cx="79912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ff"/>
                </a:solidFill>
                <a:latin typeface="Monotype Corsiva"/>
              </a:rPr>
              <a:t>Alles wat ik bijna was verlor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ff"/>
                </a:solidFill>
                <a:latin typeface="Monotype Corsiva"/>
              </a:rPr>
              <a:t>Alles wat ik heb terug gevond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4360" y="1052640"/>
            <a:ext cx="770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99"/>
                </a:solidFill>
                <a:latin typeface="Monotype Corsiva"/>
              </a:rPr>
              <a:t>Vandaag voel ik mij verheven bij het vallen van de nac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277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32360" y="981000"/>
            <a:ext cx="38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ff"/>
                </a:solidFill>
                <a:latin typeface="Monotype Corsiva"/>
              </a:rPr>
              <a:t>Mijn jeugd en idealen kunnen del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71640" y="76500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ffffff"/>
                </a:solidFill>
                <a:latin typeface="Monotype Corsiva"/>
              </a:rPr>
              <a:t>Met mij terug gevonden liefd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00000" y="501336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000099"/>
                </a:solidFill>
                <a:latin typeface="Monotype Corsiva"/>
              </a:rPr>
              <a:t>Het leven is moo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4000680" cy="4572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1280" y="765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ff0000"/>
                </a:solidFill>
                <a:latin typeface="Monotype Corsiva"/>
              </a:rPr>
              <a:t>Met je kunnen prat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27640" y="292428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ff0000"/>
                </a:solidFill>
                <a:latin typeface="Monotype Corsiva"/>
              </a:rPr>
              <a:t>Je kunnen omhels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71640" y="3141720"/>
            <a:ext cx="712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600" spc="-1" strike="noStrike">
                <a:solidFill>
                  <a:srgbClr val="ffffff"/>
                </a:solidFill>
                <a:latin typeface="Monotype Corsiva"/>
              </a:rPr>
              <a:t>Een reden om te zinge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00000" y="62064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000099"/>
                </a:solidFill>
                <a:latin typeface="Monotype Corsiva"/>
              </a:rPr>
              <a:t>Het leven is moo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48000"/>
            </a:blip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5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9640" y="472428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ff5050"/>
                </a:solidFill>
                <a:latin typeface="Monotype Corsiva"/>
              </a:rPr>
              <a:t>De zonsonderga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1280" y="522936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Monotype Corsiva"/>
              </a:rPr>
              <a:t>Een mooie melod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640" y="620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99"/>
                </a:solidFill>
                <a:latin typeface="Monotype Corsiva"/>
              </a:rPr>
              <a:t>Het leven is moo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4360" y="18900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99"/>
                </a:solidFill>
                <a:latin typeface="Monotype Corsiva"/>
              </a:rPr>
              <a:t>De zang van een vog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4360" y="404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99"/>
                </a:solidFill>
                <a:latin typeface="Monotype Corsiva"/>
              </a:rPr>
              <a:t>De kleuren van een bo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1280" y="765000"/>
            <a:ext cx="72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ff"/>
                </a:solidFill>
                <a:latin typeface="Monotype Corsiva"/>
              </a:rPr>
              <a:t>De schreeuw van een meeu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00000" y="62064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000099"/>
                </a:solidFill>
                <a:latin typeface="Monotype Corsiva"/>
              </a:rPr>
              <a:t>Het leven is moo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8:33:33Z</dcterms:created>
  <dc:creator/>
  <dc:description/>
  <dc:language>en-US</dc:language>
  <cp:lastModifiedBy>Smets</cp:lastModifiedBy>
  <dcterms:modified xsi:type="dcterms:W3CDTF">2011-11-01T03:59:36Z</dcterms:modified>
  <cp:revision>11</cp:revision>
  <dc:subject/>
  <dc:title>Dia 1</dc:title>
</cp:coreProperties>
</file>