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6.jpeg" ContentType="image/jpeg"/>
  <Override PartName="/ppt/media/image27.jpeg" ContentType="image/jpeg"/>
  <Override PartName="/ppt/media/image33.gif" ContentType="image/gif"/>
  <Override PartName="/ppt/media/image34.gif" ContentType="image/gif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Jean%20Ferrat%20-%20C'est%20beau%20la%20vie.wav" ContentType="audio/x-wav"/>
  <Override PartName="/ppt/media/image16.jpeg" ContentType="image/jpeg"/>
  <Override PartName="/ppt/media/image13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C004-90AB-4722-9925-35C3DC7A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F031-3B79-4950-B1DE-77A8DBFC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EF43-5007-48FF-A0E2-7CBFAAE0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E4D4-C5E5-4652-BD71-E912427E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94D09-90F2-47A4-A494-2BD959EE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DE790-41D2-409B-A067-17F960CD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CBAEE-0D2B-45F9-B415-4A95925D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27DC2-8A60-4388-B556-11DF7D13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0E26C-9539-414E-B576-33D8DD52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8C026-543F-42EF-9389-1372AEBA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5F30B-29A1-441E-9733-3C1AB9A8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3033-145E-454F-846A-0B6BA22A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57EFA-03FF-4515-A916-A602454E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67002-4D6B-442A-BAEF-357C41B1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E3A9C-E31D-4862-939E-701B6A38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E9276-8184-4FC5-88BC-B824FC07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D5513-25C0-4D1B-8493-6C68C8D8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9D15-AA7D-4B58-8DAB-505CEF1A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3D7F-C9EF-426E-A94A-CE9E2A37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B5E9-1F5E-4673-BDF0-AC20E441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A45A-E1F2-40F2-BAEE-E8B96528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2B05-6FED-46AE-80CE-E62FF263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D94F-A128-4A8C-A27A-EB524D60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7143-FFF6-4689-8186-8A96C585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B921-F03B-4F2F-A71B-2B7E4F1588DA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88B2-337D-4922-B7C3-03578F6A5F8F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Jean%20Ferrat%20-%20C&apos;est%20beau%20la%20vi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image" Target="../media/image34.gif"/><Relationship Id="rId7" Type="http://schemas.openxmlformats.org/officeDocument/2006/relationships/image" Target="../media/image34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39640" y="1268280"/>
            <a:ext cx="38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33cccc"/>
                </a:solidFill>
                <a:latin typeface="Monotype Corsiva"/>
              </a:rPr>
              <a:t>Het leven is moo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hecker dir="vert"/>
    <p:sndAc>
      <p:stSnd>
        <p:snd r:embed="rId4" name="Jean%20Ferrat%20-%20C'est%20beau%20la%20vi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55640" y="54936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99"/>
                </a:solidFill>
                <a:latin typeface="Monotype Corsiva"/>
              </a:rPr>
              <a:t>Een besneeuwde bergflan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9640" y="4076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99"/>
                </a:solidFill>
                <a:latin typeface="Monotype Corsiva"/>
              </a:rPr>
              <a:t>Alles wat leeft en streef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003640" y="620640"/>
            <a:ext cx="374508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ffffff"/>
                </a:solidFill>
                <a:latin typeface="Monotype Corsiva"/>
              </a:rPr>
              <a:t>Alles wat vanzelf sprekend wa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ffffff"/>
                </a:solidFill>
                <a:latin typeface="Monotype Corsiva"/>
              </a:rPr>
              <a:t>Ben ik nooit verget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620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5580000" cy="5013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55640" y="62064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33cccc"/>
                </a:solidFill>
                <a:latin typeface="Monotype Corsiva"/>
              </a:rPr>
              <a:t>Kunnen zi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1521000"/>
            <a:ext cx="5337000" cy="5337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5280" y="69228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33cccc"/>
                </a:solidFill>
                <a:latin typeface="Monotype Corsiva"/>
              </a:rPr>
              <a:t>Kunnen luister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24360" y="2276640"/>
            <a:ext cx="316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33cccc"/>
                </a:solidFill>
                <a:latin typeface="Monotype Corsiva"/>
              </a:rPr>
              <a:t>En vooral kunnen zing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620640"/>
            <a:ext cx="73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000099"/>
                </a:solidFill>
                <a:latin typeface="Monotype Corsiva"/>
              </a:rPr>
              <a:t>Het leven is moo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003640" y="1125360"/>
            <a:ext cx="367200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ff5050"/>
                </a:solidFill>
                <a:latin typeface="Monotype Corsiva"/>
              </a:rPr>
              <a:t>De jazz opent de avo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ff5050"/>
                </a:solidFill>
                <a:latin typeface="Monotype Corsiva"/>
              </a:rPr>
              <a:t>Zijn trompet volgt 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1280" y="620640"/>
            <a:ext cx="432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cc00"/>
                </a:solidFill>
                <a:latin typeface="Monotype Corsiva"/>
              </a:rPr>
              <a:t>In de straten van Parij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00000" y="620640"/>
            <a:ext cx="73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000099"/>
                </a:solidFill>
                <a:latin typeface="Monotype Corsiva"/>
              </a:rPr>
              <a:t>Het leven is moo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995640" y="256536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0000"/>
                </a:solidFill>
                <a:latin typeface="Monotype Corsiva"/>
              </a:rPr>
              <a:t>Het rood van de bloe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156360" y="2276640"/>
            <a:ext cx="273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Monotype Corsiva"/>
              </a:rPr>
              <a:t>De wind door de blonde har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042920" y="3716280"/>
            <a:ext cx="48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10199"/>
                </a:solidFill>
                <a:latin typeface="Monotype Corsiva"/>
              </a:rPr>
              <a:t>Het trillende neon licht dat onze schaduwen doet bev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9640" y="4076640"/>
            <a:ext cx="73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000099"/>
                </a:solidFill>
                <a:latin typeface="Monotype Corsiva"/>
              </a:rPr>
              <a:t>Het leven is moo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84360" y="549360"/>
            <a:ext cx="79912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ffffff"/>
                </a:solidFill>
                <a:latin typeface="Monotype Corsiva"/>
              </a:rPr>
              <a:t>Alles wat ik bijna was verlor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ffffff"/>
                </a:solidFill>
                <a:latin typeface="Monotype Corsiva"/>
              </a:rPr>
              <a:t>Alles wat ik heb terug gevond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4360" y="1052640"/>
            <a:ext cx="770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99"/>
                </a:solidFill>
                <a:latin typeface="Monotype Corsiva"/>
              </a:rPr>
              <a:t>Vandaag voel ik mij verheven bij het vallen van de nach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2772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932360" y="981000"/>
            <a:ext cx="381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ffffff"/>
                </a:solidFill>
                <a:latin typeface="Monotype Corsiva"/>
              </a:rPr>
              <a:t>Mijn jeugd en idealen kunnen del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71640" y="765000"/>
            <a:ext cx="705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ffffff"/>
                </a:solidFill>
                <a:latin typeface="Monotype Corsiva"/>
              </a:rPr>
              <a:t>Met mij terug gevonden liefd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00000" y="5013360"/>
            <a:ext cx="73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000099"/>
                </a:solidFill>
                <a:latin typeface="Monotype Corsiva"/>
              </a:rPr>
              <a:t>Het leven is moo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4000680" cy="4572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11280" y="765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ff0000"/>
                </a:solidFill>
                <a:latin typeface="Monotype Corsiva"/>
              </a:rPr>
              <a:t>Met je kunnen prat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27640" y="2924280"/>
            <a:ext cx="43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ff0000"/>
                </a:solidFill>
                <a:latin typeface="Monotype Corsiva"/>
              </a:rPr>
              <a:t>Je kunnen omhels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71640" y="3141720"/>
            <a:ext cx="712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600" spc="-1" strike="noStrike">
                <a:solidFill>
                  <a:srgbClr val="ffffff"/>
                </a:solidFill>
                <a:latin typeface="Monotype Corsiva"/>
              </a:rPr>
              <a:t>Een reden om te zinge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00000" y="620640"/>
            <a:ext cx="73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000099"/>
                </a:solidFill>
                <a:latin typeface="Monotype Corsiva"/>
              </a:rPr>
              <a:t>Het leven is moo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3">
              <a:alphaModFix amt="48000"/>
            </a:blip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slow">
    <p:split dir="out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5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1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9640" y="472428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ff5050"/>
                </a:solidFill>
                <a:latin typeface="Monotype Corsiva"/>
              </a:rPr>
              <a:t>De zonsonderga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11280" y="522936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Monotype Corsiva"/>
              </a:rPr>
              <a:t>Een mooie melod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9640" y="620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99"/>
                </a:solidFill>
                <a:latin typeface="Monotype Corsiva"/>
              </a:rPr>
              <a:t>Het leven is moo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4360" y="18900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99"/>
                </a:solidFill>
                <a:latin typeface="Monotype Corsiva"/>
              </a:rPr>
              <a:t>De zang van een vog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4360" y="40464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99"/>
                </a:solidFill>
                <a:latin typeface="Monotype Corsiva"/>
              </a:rPr>
              <a:t>De kleuren van een bo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11280" y="765000"/>
            <a:ext cx="727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ffffff"/>
                </a:solidFill>
                <a:latin typeface="Monotype Corsiva"/>
              </a:rPr>
              <a:t>De schreeuw van een meeu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00000" y="620640"/>
            <a:ext cx="73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000099"/>
                </a:solidFill>
                <a:latin typeface="Monotype Corsiva"/>
              </a:rPr>
              <a:t>Het leven is moo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8:33:33Z</dcterms:created>
  <dc:creator/>
  <dc:description/>
  <dc:language>en-US</dc:language>
  <cp:lastModifiedBy>Smets</cp:lastModifiedBy>
  <dcterms:modified xsi:type="dcterms:W3CDTF">2011-11-01T03:59:36Z</dcterms:modified>
  <cp:revision>11</cp:revision>
  <dc:subject/>
  <dc:title>Dia 1</dc:title>
</cp:coreProperties>
</file>