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0B8-0294-4EF7-9620-D5FEC3B1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AA8-23B1-4395-9AFF-4D34CE41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76E-1F33-489D-8262-D732FD22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8BE-0C9B-4EC3-BD52-EFA77DB6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CD23-982B-4F04-A392-10D38A4B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C582-FBAE-4326-B7CC-84EC01A5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7919-34EB-46BB-986C-3EF563D3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7FBE-7050-41C7-8FBA-D957F207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0987-F502-4970-A9AB-16FF0A6A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3A0A-9DE7-4B00-9034-C2CED6A5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6095-DBB3-400C-8DF4-673FEE4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0B4-D065-46F9-A323-9C8CA6DB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84B4-7231-4195-948B-1A28F2A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68B9-3459-4D8D-8358-45BCC5E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8CAC-E844-4CCB-A18B-90D9A6D3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994E-1561-41C2-A315-4B76C466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AF1-B556-45C5-9B97-3F675FB4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F1A-3B42-4698-ACFD-2B23CFF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403-35F7-4730-8282-E5577CFC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169-BC2C-48D8-B85B-91671835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D8B-7405-46B1-9FA2-DEA17FCA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2B7-55EB-4751-8C9E-E9EC2BB4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45C-CFF7-415E-8212-952C494C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349-7EAA-4EED-8684-263BCD3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49DB-8A34-4473-9685-AC279EFC37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F13A-01B0-4883-8B10-DB4A3F7B18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361960" y="609480"/>
            <a:ext cx="6553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9907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Aku merindukan sebuah 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Yang koordinator sekolahnya  bernama bang bijaks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Yang setiap kebijakannya sangat bijaks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1337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Aku merindukan sebuah 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yang anggotanya bernama bang ramah dan mbak ram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Mereka ramah pada kami dan kamipun ramah pada mer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2004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Aku merindukan sebuah 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Yang para muridnya bernama si baik dan si cer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Mereka senang melakukan kebaikan dan selalu berfikir cer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426708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Aku merindukan sebuah 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Yang suasana belajarnya berlangsung menyenangkan &amp; s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Lagu, puisi, drama, humor dan yel-yel penyemang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Mewarnai suasana bel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Senyum dan tawa menghiasi inte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antar anggota men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Aku merindukan sebuah mentoring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971800" y="15228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Dream Mentor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700"/>
                            </p:stCondLst>
                            <p:childTnLst>
                              <p:par>
                                <p:cTn id="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700"/>
                            </p:stCondLst>
                            <p:childTnLst>
                              <p:par>
                                <p:cTn id="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99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30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480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68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OMITME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GAN GANGGU &amp; HALANGI SAYA MENGGAPAI MIMPI-MIMPI YANG SAYA INGIN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A TIDAK INGIN MENJADI “PEMIMPI..!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L LANGKAH-LANGKAH KECIL SEJAK SEKARANG..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4:05:41Z</dcterms:created>
  <dc:creator>Heri</dc:creator>
  <dc:description/>
  <dc:language>en-US</dc:language>
  <cp:lastModifiedBy>MTB3</cp:lastModifiedBy>
  <dcterms:modified xsi:type="dcterms:W3CDTF">2005-10-02T03:48:56Z</dcterms:modified>
  <cp:revision>29</cp:revision>
  <dc:subject/>
  <dc:title>Sekuens  Be a STAR Holiday Camp – Bea Cukai</dc:title>
</cp:coreProperties>
</file>