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089-EC5C-43D3-85E7-2CB398B4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9FB-95C4-42CD-8ECD-0950CDA4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E5B-6AD0-4F71-9237-A9B6DE05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24F-079D-4D5B-BFF6-5DAACF3C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6597-3663-40A6-AD48-61EB6F1B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D06A-61A3-4EC4-9748-19BDB306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5ECD-DC9A-4318-BC8B-75B48E13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4D36-48AD-437B-8B1B-0DBE85C8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7484-AC3C-42DA-8F47-D032E6B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4DC8-58F5-4957-8DE7-558DAC94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71F-4B5D-4DBF-8A21-DD92FA3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A75-8D47-4B1E-9353-98E8E437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0F71-3117-4438-A063-8CC5E71E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9E86-2FA4-4C2A-8738-5ECA449D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989D-4E15-4954-8A75-7800B87F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6BB6-6C41-498B-A97C-948A79C4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5D6C-B1A1-4F9C-BF73-5C341EEC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40D-05BC-4F3D-A8F6-C4766EA8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7F0-0674-483E-AC00-96900074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94A-8783-48FE-BDF9-A276CF69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1A5-56CC-48B4-AC78-A5FBD753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786-FD99-4AC1-8E99-E8B6D4A1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41C-2C5C-4195-B0A3-658FDB60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F2C-BF0D-4E4C-898A-4D371AE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D00A-96C9-45EA-861D-7A9C5A0C3F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46C2-E878-41AF-9053-4093FE1A1D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361960" y="609480"/>
            <a:ext cx="6553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9907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Aku merindukan sebuah 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Yang koordinator sekolahnya  bernama bang bijaks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Yang setiap kebijakannya sangat bijaks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1337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Aku merindukan sebuah 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yang anggotanya bernama bang ramah dan mbak ram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c"/>
                </a:solidFill>
                <a:latin typeface="Arial"/>
              </a:rPr>
              <a:t>Mereka ramah pada kami dan kamipun ramah pada mere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2004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Aku merindukan sebuah 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Yang para muridnya bernama si baik dan si cer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Mereka senang melakukan kebaikan dan selalu berfikir cer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426708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Aku merindukan sebuah 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Yang suasana belajarnya berlangsung menyenangkan &amp; se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Lagu, puisi, drama, humor dan yel-yel penyemang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Mewarnai suasana bel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Senyum dan tawa menghiasi inte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36c03"/>
                </a:solidFill>
                <a:latin typeface="Arial"/>
              </a:rPr>
              <a:t>antar anggota men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6324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Aku merindukan sebuah mentoring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971800" y="15228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Dream Mentor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700"/>
                            </p:stCondLst>
                            <p:childTnLst>
                              <p:par>
                                <p:cTn id="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700"/>
                            </p:stCondLst>
                            <p:childTnLst>
                              <p:par>
                                <p:cTn id="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99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300"/>
                            </p:stCondLst>
                            <p:childTnLst>
                              <p:par>
                                <p:cTn id="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480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68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KOMITME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GAN GANGGU &amp; HALANGI SAYA MENGGAPAI MIMPI-MIMPI YANG SAYA INGIN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A TIDAK INGIN MENJADI “PEMIMPI..!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L LANGKAH-LANGKAH KECIL SEJAK SEKARANG..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4:05:41Z</dcterms:created>
  <dc:creator>Heri</dc:creator>
  <dc:description/>
  <dc:language>en-US</dc:language>
  <cp:lastModifiedBy>MTB3</cp:lastModifiedBy>
  <dcterms:modified xsi:type="dcterms:W3CDTF">2005-10-02T03:48:56Z</dcterms:modified>
  <cp:revision>29</cp:revision>
  <dc:subject/>
  <dc:title>Sekuens  Be a STAR Holiday Camp – Bea Cukai</dc:title>
</cp:coreProperties>
</file>