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8.jpeg" ContentType="image/jpeg"/>
  <Override PartName="/ppt/media/image10.jpeg" ContentType="image/jpeg"/>
  <Override PartName="/ppt/media/Enya_OnlyTi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023-BC77-46EA-AE26-B30CBA64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783-B60D-4DCE-A3AA-39961A0D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BE8-CA1E-42C9-8655-0F3725C2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285-ACF7-40EA-90D5-C61D598F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726-845E-42B3-8A2B-CD89FCF7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D3B9-9023-49B9-A00A-E5FA9573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7AC5-C639-4D51-B72B-6A4CED7C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AEC6-FCEB-451C-AC26-C11AF37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BB1-3466-4EB3-9F71-CC4293C9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BF3A-0191-4B3A-92D0-79E3491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3CE6-C5B2-4BF3-B86B-B7B92B6F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D56-2822-4B0C-8141-390C0C1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F11-7A1F-4A2E-B642-A18D51A0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26CC-B0F6-4D37-B926-AAEDFBB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B7A1-DCB9-4DE4-B434-6B3CE3CD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334-879D-454B-80C5-78B141D9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262E-9AD4-4380-822D-D586BE61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AC3-B734-4DF0-B16F-77AF3554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A61-4CA3-457B-BE55-9CDC9CB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9CA-5D8E-4A18-A83B-FB30859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F25-3028-4CF8-96D7-C90AB6D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0D1-EB5A-4C23-90FF-B9EE804F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5DC-2889-48B8-BB2B-0F95995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B94-BA5E-4061-9CE9-55A67CB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AE2-0634-4F03-8A75-37D5587DE6B9}" type="slidenum"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65D-1B6D-46F2-B0E5-10CA272422E0}" type="slidenum">
              <a:rPr b="0" lang="nl-N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ya_Only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838080"/>
            <a:ext cx="5790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riend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970720" y="571500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emaakt door de K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2680" y="879480"/>
            <a:ext cx="21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emand met w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je je leven dee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12640" y="568008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mand die met je speel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1000" y="803160"/>
            <a:ext cx="25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or iedere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et er zo i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zij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440" y="333360"/>
            <a:ext cx="8763120" cy="6191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7800" y="36226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aarom zijn vrienden zo fij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99000" y="1143000"/>
            <a:ext cx="47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k ben blij met de vrienden die ik he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40840" y="209880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00"/>
                </a:solidFill>
                <a:latin typeface="Times New Roman"/>
              </a:rPr>
              <a:t>Groetjes Frank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25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25"/>
                            </p:stCondLst>
                            <p:childTnLst>
                              <p:par>
                                <p:cTn id="24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6560" y="205740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emand om bij te schuil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37960"/>
            <a:ext cx="8763120" cy="6620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2600" y="55627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emand om bij te huil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04480" y="5745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emand waar je mee pra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9080" y="119160"/>
            <a:ext cx="7305840" cy="661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33920" y="83808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emand die je versta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5520" y="533520"/>
            <a:ext cx="37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emand naast je in de mor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30360" y="331776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mand die je helpt met je zor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58960" y="121932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2b"/>
                </a:solidFill>
                <a:latin typeface="Times New Roman"/>
              </a:rPr>
              <a:t>Iemand die je troost met je verdr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440" y="119160"/>
            <a:ext cx="8763120" cy="661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31960" y="3622680"/>
            <a:ext cx="20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emand die o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je vreugde zi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19:21:38Z</dcterms:created>
  <dc:creator>frank</dc:creator>
  <dc:description/>
  <dc:language>en-US</dc:language>
  <cp:lastModifiedBy>Smets</cp:lastModifiedBy>
  <dcterms:modified xsi:type="dcterms:W3CDTF">2010-02-15T20:04:23Z</dcterms:modified>
  <cp:revision>3</cp:revision>
  <dc:subject/>
  <dc:title>PowerPoint-presentatie</dc:title>
</cp:coreProperties>
</file>