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image8.jpeg" ContentType="image/jpeg"/>
  <Override PartName="/ppt/media/image10.jpeg" ContentType="image/jpeg"/>
  <Override PartName="/ppt/media/Enya_OnlyTim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769-F809-4B3A-9671-D43C4E0B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989-E88F-47E7-AB84-176A78BF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5EC-B1AA-416F-880F-AA7B7809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81D-7228-4CC1-8794-95827C2F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9444-89A0-459F-99EC-68A9F863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8470-DB6C-4125-AF22-279A8093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F484-B1A9-4302-A954-F305275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7514-1A09-4A47-915C-ED5F274A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484F-6E79-435B-8066-2B75005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2A29-465D-49EE-A351-CB51A262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FE23-BA48-45FB-B032-991515A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45D-FE38-4D2F-A20B-0607BE7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8740-1546-426C-AE07-F75CF29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6D0D-181A-4542-95E7-787BDE58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F159-36D5-4FB4-A23F-79BAA6EE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7B3-53FB-4E8A-9AFD-60CB83D4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E30F-EF0E-43A9-87BD-5892A7C7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6FD-0EC5-4455-AD41-D6D3467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D77-BD69-4061-8AD2-5DF2B983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3F4-D21E-4EB8-A64F-CFAB3820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016-852C-4C95-AB96-C3A59DD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EB3-23D1-4CAB-936D-D27C7AC6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023-B8A6-408D-837A-9C824FF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AAA-EDE0-4013-8529-6E09385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E103-2C34-4C9B-912E-696245F1F693}" type="slidenum"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84FB-8216-411E-96A7-4C18E43956BC}" type="slidenum"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_OnlyTim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76520" y="838080"/>
            <a:ext cx="5790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riend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970720" y="571500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Gemaakt door de K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42680" y="879480"/>
            <a:ext cx="21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emand met w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je je leven deel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12640" y="568008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mand die met je speel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01000" y="803160"/>
            <a:ext cx="25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or iedere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et er zo i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ij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440" y="333360"/>
            <a:ext cx="8763120" cy="6191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37800" y="3622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arom zijn vrienden zo fij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99000" y="1143000"/>
            <a:ext cx="47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k ben blij met de vrienden die ik he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40840" y="209880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00"/>
                </a:solidFill>
                <a:latin typeface="Times New Roman"/>
              </a:rPr>
              <a:t>Groetjes Frank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25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25"/>
                            </p:stCondLst>
                            <p:childTnLst>
                              <p:par>
                                <p:cTn id="24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6560" y="205740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emand om bij te schuil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37960"/>
            <a:ext cx="8763120" cy="6620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72600" y="55627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emand om bij te huil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04480" y="5745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emand waar je mee pra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9080" y="119160"/>
            <a:ext cx="7305840" cy="6619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33920" y="83808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Iemand die je versta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5520" y="533520"/>
            <a:ext cx="37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emand naast je in de mor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330360" y="331776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mand die je helpt met je zor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7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58960" y="121932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002b"/>
                </a:solidFill>
                <a:latin typeface="Times New Roman"/>
              </a:rPr>
              <a:t>Iemand die je troost met je verdri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31960" y="3622680"/>
            <a:ext cx="20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Iemand die o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je vreugde zi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9:21:38Z</dcterms:created>
  <dc:creator>frank</dc:creator>
  <dc:description/>
  <dc:language>en-US</dc:language>
  <cp:lastModifiedBy>Smets</cp:lastModifiedBy>
  <dcterms:modified xsi:type="dcterms:W3CDTF">2010-02-15T20:04:23Z</dcterms:modified>
  <cp:revision>3</cp:revision>
  <dc:subject/>
  <dc:title>PowerPoint-presentatie</dc:title>
</cp:coreProperties>
</file>