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834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955-3C04-4991-A222-EE982DC2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DD5B-6FDD-442B-9A9D-25402F87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18C-03A0-49FE-A7D6-88039F4A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4C2-7AD7-4611-B49E-17F1BB33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1E6D-7FEE-42A4-9FB4-EC02DB93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D6D8-B4E8-416C-A08F-9142BD6D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57F9-A040-4424-92FE-2039E064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FB9B-E0CD-4144-9CCA-094B348E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DD98-F25B-44DC-B3F2-F9EB51FD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6F1-1615-41FF-A024-1C30BD96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9A9D-F1AA-4D71-85D6-CECB787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E1D-16F9-4544-8D33-3CD9E21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AE3D-7C25-44B2-8680-8029C2C8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9D28-DC4F-41ED-9E34-8A658FB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811-0941-4673-9E54-F8D77C8A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E303-2C6E-4F81-999C-1F62DF0F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B2DA-B44E-4DFD-ADD0-52B953F4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C10B-3EEA-4984-AE2E-74B490F1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67B8-71E2-40D9-BE0D-EA0EFC3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8578-8031-4D2A-98EC-444BCA45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35F2-3DDA-46B3-B244-A882ADCC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DFA9-B2DF-49E9-8425-F5411C4B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87B-A7A2-491A-A0B2-BECB0A84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3A25-C83E-43D2-97CC-7B3A33C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B80F-D348-4562-B294-990D9FA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8C48-2C10-4CC3-8C42-1404F07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76F3-EDC8-45E0-B263-03E5EF53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25F2-99A6-4924-BA71-EDEA71AA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4FC5-7BEB-4553-BFA8-8B32249D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EEA2-9B50-4769-8E56-FE3CEEC6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044-568A-4E8A-BD2F-21785CD2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C4E-0A80-4FCA-BF4E-8A448CDE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203-0659-47C1-8D4B-65224EB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3BB-04AA-45BD-8483-8E47FAB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234-D7EE-436D-B25B-D49F2F1C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976-7ACE-48E6-8B10-FD179B4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FB70-4DF1-479B-9155-0CF3AC68200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AE9-0B81-477A-BE99-5E0E133A943A}" type="slidenum">
              <a:rPr b="1" lang="en-US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7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B68A-D02F-468B-B782-57552D1D658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1B9C-2CCF-4317-97D4-8539C04516F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44D-9515-4B1C-865E-A485245705C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C942-83BF-4924-AC1C-2F77DAE2935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مستطيل 5"/>
          <p:cNvSpPr/>
          <p:nvPr/>
        </p:nvSpPr>
        <p:spPr>
          <a:xfrm>
            <a:off x="1219320" y="1752480"/>
            <a:ext cx="6629400" cy="2819520"/>
          </a:xfrm>
          <a:prstGeom prst="rect">
            <a:avLst/>
          </a:prstGeom>
          <a:solidFill>
            <a:srgbClr val="ffffff"/>
          </a:solidFill>
          <a:ln w="28440">
            <a:solidFill>
              <a:srgbClr val="526d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ER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SINF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(Tyndalliz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Intermittent sterilization by exposure to steam at 100 degree for 20-45 min. for three successive day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sterilization of sugar media which decompose at high temperatur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526db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6db0"/>
                </a:solidFill>
                <a:latin typeface="Arial"/>
              </a:rPr>
              <a:t>The principle is that one exposure will kill only vegetative bacteria. Between heatings, the spores will vegetate to be killed during subsequent exposur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Present in sun rays or artificially produced b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mercury lamp have weak penetrating pow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to reduce the number of bacteria in air inside operation rooms, laboratory safety cabinet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1143000" y="533520"/>
            <a:ext cx="70866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sinfection b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8"/>
          <p:cNvSpPr/>
          <p:nvPr/>
        </p:nvSpPr>
        <p:spPr>
          <a:xfrm>
            <a:off x="609480" y="1905120"/>
            <a:ext cx="2895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Ultraviolet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185"/>
                </a:solidFill>
                <a:latin typeface="Arial"/>
              </a:rPr>
              <a:t>Disinfectants may b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High level disinfecta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Intermediate level disinfecta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Low level disinfectants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371600" y="685800"/>
            <a:ext cx="655308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isinfection by chemical disinfe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رسم تخطيطي 5" descr=""/>
          <p:cNvPicPr/>
          <p:nvPr/>
        </p:nvPicPr>
        <p:blipFill>
          <a:blip r:embed="rId1"/>
          <a:stretch/>
        </p:blipFill>
        <p:spPr>
          <a:xfrm>
            <a:off x="171360" y="487440"/>
            <a:ext cx="8764560" cy="591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Prions (the most resista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Sp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Tubercle bacil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Non enveloped viru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Fun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vegetative bac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6100"/>
                </a:solidFill>
                <a:latin typeface="Arial"/>
              </a:rPr>
              <a:t>Enveloped viruses such as HBV, H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orizontal Scroll 8"/>
          <p:cNvSpPr/>
          <p:nvPr/>
        </p:nvSpPr>
        <p:spPr>
          <a:xfrm>
            <a:off x="609480" y="533520"/>
            <a:ext cx="807732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rganisms according to the innate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eft Arrow 9"/>
          <p:cNvSpPr/>
          <p:nvPr/>
        </p:nvSpPr>
        <p:spPr>
          <a:xfrm>
            <a:off x="4876920" y="1828800"/>
            <a:ext cx="2743200" cy="914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Most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eft Arrow 10"/>
          <p:cNvSpPr/>
          <p:nvPr/>
        </p:nvSpPr>
        <p:spPr>
          <a:xfrm>
            <a:off x="6362640" y="4473720"/>
            <a:ext cx="2514600" cy="91440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Least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thyl alcohol or isopropyl alcohol 70%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as skin antisepti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posure for at least 5 minutes is needed to achieve adequate disinfec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6"/>
          <p:cNvSpPr/>
          <p:nvPr/>
        </p:nvSpPr>
        <p:spPr>
          <a:xfrm>
            <a:off x="3581280" y="68580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2-Point Star 7"/>
          <p:cNvSpPr/>
          <p:nvPr/>
        </p:nvSpPr>
        <p:spPr>
          <a:xfrm>
            <a:off x="24382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Available in 2% concentration (cidex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High to 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Disinfection of instruments that can not withstand heat such as endoscop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loud 7"/>
          <p:cNvSpPr/>
          <p:nvPr/>
        </p:nvSpPr>
        <p:spPr>
          <a:xfrm>
            <a:off x="2514600" y="542880"/>
            <a:ext cx="5334120" cy="144792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lutaraldehy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2-Point Star 6"/>
          <p:cNvSpPr/>
          <p:nvPr/>
        </p:nvSpPr>
        <p:spPr>
          <a:xfrm>
            <a:off x="1447920" y="8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 of chlorine releasing compounds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Arial"/>
              </a:rPr>
              <a:t>Hypochlorite solution (such as household bleac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Widely used in homes, hospitals and laboratories to disinfect table tops, incubators, spilled cultur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Disinfection of water suppl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6"/>
          <p:cNvSpPr/>
          <p:nvPr/>
        </p:nvSpPr>
        <p:spPr>
          <a:xfrm>
            <a:off x="1676520" y="685800"/>
            <a:ext cx="62481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lorine releasing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32-Point Star 7"/>
          <p:cNvSpPr/>
          <p:nvPr/>
        </p:nvSpPr>
        <p:spPr>
          <a:xfrm>
            <a:off x="6094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s of iodophore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Tincture iodine (2% iodine in ethan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Betadine (10% povidone-iod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to low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disinfection of surgical wound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6"/>
          <p:cNvSpPr/>
          <p:nvPr/>
        </p:nvSpPr>
        <p:spPr>
          <a:xfrm>
            <a:off x="2743200" y="685800"/>
            <a:ext cx="3429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odo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32-Point Star 7"/>
          <p:cNvSpPr/>
          <p:nvPr/>
        </p:nvSpPr>
        <p:spPr>
          <a:xfrm>
            <a:off x="160020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Dettol, lysol (2% concent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in laboratories to disinfect spilled cultures on working areas or in discard jar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6"/>
          <p:cNvSpPr/>
          <p:nvPr/>
        </p:nvSpPr>
        <p:spPr>
          <a:xfrm>
            <a:off x="2743200" y="685800"/>
            <a:ext cx="43434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henol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2-Point Star 7"/>
          <p:cNvSpPr/>
          <p:nvPr/>
        </p:nvSpPr>
        <p:spPr>
          <a:xfrm>
            <a:off x="160020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procedure that reduces pathogenic microbes to a level where items are safe for handling &amp; disposa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be achieved by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cleaning, disinfection and steri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cess that removes foreign material (dirt, organic matt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precede disinfection and steri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7b61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Usually done with soap and water or detergent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loud Callout 7"/>
          <p:cNvSpPr/>
          <p:nvPr/>
        </p:nvSpPr>
        <p:spPr>
          <a:xfrm>
            <a:off x="457200" y="457200"/>
            <a:ext cx="4800600" cy="114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cont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loud Callout 8"/>
          <p:cNvSpPr/>
          <p:nvPr/>
        </p:nvSpPr>
        <p:spPr>
          <a:xfrm>
            <a:off x="304920" y="3773520"/>
            <a:ext cx="3429000" cy="4968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Cetavlon, savl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Low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to clean floors, wall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activated by organic matt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affect Gram negative bacill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6"/>
          <p:cNvSpPr/>
          <p:nvPr/>
        </p:nvSpPr>
        <p:spPr>
          <a:xfrm>
            <a:off x="1371600" y="662040"/>
            <a:ext cx="7467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Quaternary ammonium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32-Point Star 7"/>
          <p:cNvSpPr/>
          <p:nvPr/>
        </p:nvSpPr>
        <p:spPr>
          <a:xfrm>
            <a:off x="304920" y="6793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Available as 3% H2O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3d518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d5185"/>
                </a:solidFill>
                <a:uFillTx/>
                <a:latin typeface="Arial"/>
              </a:rPr>
              <a:t>High to intermediate level disinfecta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as antiseptic for wounds, disinfecant for contact lens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6"/>
          <p:cNvSpPr/>
          <p:nvPr/>
        </p:nvSpPr>
        <p:spPr>
          <a:xfrm>
            <a:off x="2590920" y="68580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32-Point Star 7"/>
          <p:cNvSpPr/>
          <p:nvPr/>
        </p:nvSpPr>
        <p:spPr>
          <a:xfrm>
            <a:off x="15238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As mecury in mercurochrome and silver in silver nitrat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Safe antiseptic used for hygienic and surgical hand washing and for oral hygien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6"/>
          <p:cNvSpPr/>
          <p:nvPr/>
        </p:nvSpPr>
        <p:spPr>
          <a:xfrm>
            <a:off x="2590920" y="68580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eavy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32-Point Star 7"/>
          <p:cNvSpPr/>
          <p:nvPr/>
        </p:nvSpPr>
        <p:spPr>
          <a:xfrm>
            <a:off x="1523880" y="6858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8"/>
          <p:cNvSpPr/>
          <p:nvPr/>
        </p:nvSpPr>
        <p:spPr>
          <a:xfrm>
            <a:off x="2743200" y="3048120"/>
            <a:ext cx="4038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hlorhexi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32-Point Star 9"/>
          <p:cNvSpPr/>
          <p:nvPr/>
        </p:nvSpPr>
        <p:spPr>
          <a:xfrm>
            <a:off x="1676520" y="30481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STERILIZATIO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Chemical methods (Cold steriliz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He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6db0"/>
                </a:solidFill>
                <a:latin typeface="Arial"/>
              </a:rPr>
              <a:t>Dry heat (Red heat, hot air oven, incineratio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6db0"/>
                </a:solidFill>
                <a:latin typeface="Arial"/>
              </a:rPr>
              <a:t>Moist heat at temperature above 100 degree </a:t>
            </a:r>
            <a:r>
              <a:rPr b="1" lang="en-US" sz="2600" spc="-1" strike="noStrike" u="sng">
                <a:solidFill>
                  <a:srgbClr val="7b6100"/>
                </a:solidFill>
                <a:uFillTx/>
                <a:latin typeface="Arial"/>
              </a:rPr>
              <a:t>(Autocla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Radiation: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 (</a:t>
            </a:r>
            <a:r>
              <a:rPr b="1" lang="en-US" sz="2800" spc="-1" strike="noStrike">
                <a:solidFill>
                  <a:srgbClr val="9d1e23"/>
                </a:solidFill>
                <a:latin typeface="Arial"/>
              </a:rPr>
              <a:t>Ionizing radiation &amp; infrared rays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Filtration :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9d1e23"/>
                </a:solidFill>
                <a:latin typeface="Arial"/>
              </a:rPr>
              <a:t>Fluid filters &amp; air filters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Gaseous sterilization :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9d1e23"/>
                </a:solidFill>
                <a:latin typeface="Arial"/>
              </a:rPr>
              <a:t>Ethylene oxide + gas plasma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Glutaraldehyde (contact time 10 hou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Liquid peracetic aci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100"/>
                </a:solidFill>
                <a:latin typeface="Arial"/>
              </a:rPr>
              <a:t>H2O2 6%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6"/>
          <p:cNvSpPr/>
          <p:nvPr/>
        </p:nvSpPr>
        <p:spPr>
          <a:xfrm>
            <a:off x="1523880" y="1066680"/>
            <a:ext cx="49532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hemical 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6"/>
          <p:cNvSpPr/>
          <p:nvPr/>
        </p:nvSpPr>
        <p:spPr>
          <a:xfrm>
            <a:off x="2362320" y="990720"/>
            <a:ext cx="41907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terilization b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loud 7"/>
          <p:cNvSpPr/>
          <p:nvPr/>
        </p:nvSpPr>
        <p:spPr>
          <a:xfrm>
            <a:off x="685800" y="3276720"/>
            <a:ext cx="3809880" cy="121896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r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loud 8"/>
          <p:cNvSpPr/>
          <p:nvPr/>
        </p:nvSpPr>
        <p:spPr>
          <a:xfrm>
            <a:off x="4876920" y="3200400"/>
            <a:ext cx="3809880" cy="10666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ois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10"/>
          <p:cNvCxnSpPr>
            <a:stCxn id="192" idx="2"/>
          </p:cNvCxnSpPr>
          <p:nvPr/>
        </p:nvCxnSpPr>
        <p:spPr>
          <a:xfrm flipH="1">
            <a:off x="2742480" y="1905120"/>
            <a:ext cx="1715400" cy="13723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  <p:cxnSp>
        <p:nvCxnSpPr>
          <p:cNvPr id="196" name="Straight Arrow Connector 12"/>
          <p:cNvCxnSpPr>
            <a:stCxn id="192" idx="2"/>
          </p:cNvCxnSpPr>
          <p:nvPr/>
        </p:nvCxnSpPr>
        <p:spPr>
          <a:xfrm>
            <a:off x="4457880" y="1905120"/>
            <a:ext cx="1334160" cy="1372320"/>
          </a:xfrm>
          <a:prstGeom prst="straightConnector1">
            <a:avLst/>
          </a:prstGeom>
          <a:ln w="12600">
            <a:solidFill>
              <a:srgbClr val="777777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b6100"/>
                </a:solidFill>
                <a:latin typeface="Arial"/>
              </a:rPr>
              <a:t>Less effective than the moist hea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b6100"/>
                </a:solidFill>
                <a:uFillTx/>
                <a:latin typeface="Arial"/>
              </a:rPr>
              <a:t>Examples of dry heat a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Red hea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Sterilization of the bacteriological loop by heating in the Bunsen flame or electric incinerator till becomes hot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loud 7"/>
          <p:cNvSpPr/>
          <p:nvPr/>
        </p:nvSpPr>
        <p:spPr>
          <a:xfrm>
            <a:off x="3200400" y="533520"/>
            <a:ext cx="2895480" cy="12952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r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ffc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Hot air ove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Temperature of 160 degree for 2 h. or 170 degree for 1 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For glass ware, and metallic instr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Inciner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743040">
              <a:spcBef>
                <a:spcPts val="601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estruction of contaminated materials in the incin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Princi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water is heated in a closed vessel under pressure, the boiling point of water rises above 100 deg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ater is heated at</a:t>
            </a:r>
            <a:r>
              <a:rPr b="0" lang="en-US" sz="2000" spc="-1" strike="noStrike">
                <a:solidFill>
                  <a:srgbClr val="526db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2 atmospheric pressure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and the boiling temperature will be</a:t>
            </a:r>
            <a:r>
              <a:rPr b="0" lang="en-US" sz="2000" spc="-1" strike="noStrike">
                <a:solidFill>
                  <a:srgbClr val="526db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121 degree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or at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3 atmospheric pressure</a:t>
            </a:r>
            <a:r>
              <a:rPr b="0" lang="en-US" sz="2000" spc="-1" strike="noStrike">
                <a:solidFill>
                  <a:srgbClr val="9d1e2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and the boiling temperature will be </a:t>
            </a:r>
            <a:r>
              <a:rPr b="1" lang="en-US" sz="2000" spc="-1" strike="noStrike">
                <a:solidFill>
                  <a:srgbClr val="9d1e23"/>
                </a:solidFill>
                <a:latin typeface="Arial"/>
              </a:rPr>
              <a:t>134 deg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loud 7"/>
          <p:cNvSpPr/>
          <p:nvPr/>
        </p:nvSpPr>
        <p:spPr>
          <a:xfrm>
            <a:off x="2438280" y="380880"/>
            <a:ext cx="4572000" cy="137160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oist heat (Autocl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Autoclaving is highly efficient becau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High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High penetrating power of the steam under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steam condenses on the articles, it liberates latent heat to the articles to be steri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Non tox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Not time consu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uction of most but not necessarily all pathogenic microbes or their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sp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lling of all living forms of microbes including spo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loud Callout 5"/>
          <p:cNvSpPr/>
          <p:nvPr/>
        </p:nvSpPr>
        <p:spPr>
          <a:xfrm>
            <a:off x="304920" y="762120"/>
            <a:ext cx="342900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s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 Callout 6"/>
          <p:cNvSpPr/>
          <p:nvPr/>
        </p:nvSpPr>
        <p:spPr>
          <a:xfrm>
            <a:off x="279360" y="3063960"/>
            <a:ext cx="342900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2514600" y="380880"/>
            <a:ext cx="4572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Arial"/>
              </a:rPr>
              <a:t>Simple laboratory autoc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Directions for use of the simple laboratory auto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It is a metal cylinder with tightly fitting lid. The lid is connected to a steam discharge tap, safety valve and mano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ater is placed in the bottom and the articles to be sterilized are placed on top of a perforated tray above water level, then the lid is tightly cl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ater is heated electr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The steam discharge tap is opened and the safety valve is adjusted to 15 ib per square inch= double atmospheric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Steam will come out of the tap in interrupted jets as it mixes with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steam is released in a continuous stream, the tap is clo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When the steam pressure reaches the desired level, safety valve will allow excess steam to esca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From this point, the holding sterilization time which is 20-30 minutes is cal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Then, the heater is turned off and the autoclave is allowed to cool down before opening the 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799"/>
              </a:spcBef>
              <a:buClr>
                <a:srgbClr val="d1282e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d5185"/>
                </a:solidFill>
                <a:uFillTx/>
                <a:latin typeface="Arial"/>
              </a:rPr>
              <a:t>Autoclave is used for sterilization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Surgical instruments and dress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Bed li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otton, gau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ulture media not destroyed by h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1100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Steam jacketed auto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Double walled chamber in which steam at 121 degree is introduced from an external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Steam enters the jacket from which it enters the chamber migrating downwards replacing the air which is expelled through a discharge tap at the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Flash autoclav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It sterilizes at 134 degree for 3 – 5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185"/>
                </a:solidFill>
                <a:latin typeface="Arial"/>
              </a:rPr>
              <a:t>Used in operation rooms in emergency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d5185"/>
                </a:solidFill>
                <a:uFillTx/>
                <a:latin typeface="Arial"/>
              </a:rPr>
              <a:t>Testing the efficiency of auto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6814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81417"/>
                </a:solidFill>
                <a:uFillTx/>
                <a:latin typeface="Arial"/>
              </a:rPr>
              <a:t>Mechanical method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measurement of temperature, pressure gau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6814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81417"/>
                </a:solidFill>
                <a:uFillTx/>
                <a:latin typeface="Arial"/>
              </a:rPr>
              <a:t>Chemical indicato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ts color at the end of sterilizat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68141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81417"/>
                </a:solidFill>
                <a:uFillTx/>
                <a:latin typeface="Arial"/>
              </a:rPr>
              <a:t>Biological indicator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01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pores of </a:t>
            </a: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Bacillus stearothermophi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buClr>
                <a:srgbClr val="d1282e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spores of </a:t>
            </a: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Bacillus subtil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 used to test the efficiency of hot air o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spcAft>
                <a:spcPts val="601"/>
              </a:spcAft>
              <a:buClr>
                <a:srgbClr val="3d51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185"/>
                </a:solidFill>
                <a:latin typeface="Arial"/>
              </a:rPr>
              <a:t>Ionizing radi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as gamma rays emitted from radioactive cobalt 60 or beta rays emitted from electron accelerat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penetrating pow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for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plastic syringes, catheters, gloves, surgical sutur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6"/>
          <p:cNvSpPr/>
          <p:nvPr/>
        </p:nvSpPr>
        <p:spPr>
          <a:xfrm>
            <a:off x="1752480" y="457200"/>
            <a:ext cx="5334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terilization by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 algn="r" rtl="1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sterilization of biological fluids destroyed by heat such as serum, plasma, vitamins, horm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s filtered by HEPA fil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PA means high efficiency particulate air way arres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iltration is needed in operation rooms, safety cabin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35480" indent="-735480" algn="r" rtl="1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6"/>
          <p:cNvSpPr/>
          <p:nvPr/>
        </p:nvSpPr>
        <p:spPr>
          <a:xfrm>
            <a:off x="2154240" y="228600"/>
            <a:ext cx="50292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terilization by 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loud 7"/>
          <p:cNvSpPr/>
          <p:nvPr/>
        </p:nvSpPr>
        <p:spPr>
          <a:xfrm>
            <a:off x="380880" y="1281240"/>
            <a:ext cx="3276720" cy="8380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luid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loud 8"/>
          <p:cNvSpPr/>
          <p:nvPr/>
        </p:nvSpPr>
        <p:spPr>
          <a:xfrm>
            <a:off x="515880" y="3200400"/>
            <a:ext cx="3276720" cy="8380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i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Vacuum or  Seitz fil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Formed of asbestos disc which is inserted into a metal holder connected to a fla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loud 7"/>
          <p:cNvSpPr/>
          <p:nvPr/>
        </p:nvSpPr>
        <p:spPr>
          <a:xfrm>
            <a:off x="2438280" y="380880"/>
            <a:ext cx="4038840" cy="137160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Fluid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3429000"/>
            <a:ext cx="891540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Millipore (membrane) filte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db0"/>
                </a:solidFill>
                <a:latin typeface="Arial"/>
              </a:rPr>
              <a:t>Synt</a:t>
            </a: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hetic membranes made from cellulose diace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3d5185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185"/>
                </a:solidFill>
                <a:uFillTx/>
                <a:latin typeface="Arial"/>
              </a:rPr>
              <a:t>Syringe fil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>
              <a:spcBef>
                <a:spcPts val="649"/>
              </a:spcBef>
              <a:buClr>
                <a:srgbClr val="d1282e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Membrane filters 13 – 25 mm in diameter in a small holder connected to a syringe containing the fluid to be filte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743040" algn="r" rtl="1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6781680" cy="25146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ompounds that could be applied topically on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animate surfaces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ompounds applied for </a:t>
            </a:r>
            <a:r>
              <a:rPr b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inanimate surfa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loud Callout 5"/>
          <p:cNvSpPr/>
          <p:nvPr/>
        </p:nvSpPr>
        <p:spPr>
          <a:xfrm>
            <a:off x="609480" y="533520"/>
            <a:ext cx="342900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tise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loud Callout 6"/>
          <p:cNvSpPr/>
          <p:nvPr/>
        </p:nvSpPr>
        <p:spPr>
          <a:xfrm>
            <a:off x="419040" y="3429000"/>
            <a:ext cx="3810240" cy="993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isinfe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 algn="r" rt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774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Used for plastic and rubber article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Ethylene oxide gas is toxic, explosive and carcinogenic to laboratory animal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Plasma means any gas which is formed of ions, electrons, neutral particle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Used for surgical instruments mainly those with narrow lumen such as arthroscopes &amp; laparoscope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b6100"/>
                </a:solidFill>
                <a:latin typeface="Arial"/>
              </a:rPr>
              <a:t>Non toxic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0" indent="-705600" algn="r" rtl="1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6"/>
          <p:cNvSpPr/>
          <p:nvPr/>
        </p:nvSpPr>
        <p:spPr>
          <a:xfrm>
            <a:off x="2209680" y="457200"/>
            <a:ext cx="502920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terilization by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 7"/>
          <p:cNvSpPr/>
          <p:nvPr/>
        </p:nvSpPr>
        <p:spPr>
          <a:xfrm>
            <a:off x="343080" y="1371600"/>
            <a:ext cx="3733560" cy="83808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Ethylene oxide g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 8"/>
          <p:cNvSpPr/>
          <p:nvPr/>
        </p:nvSpPr>
        <p:spPr>
          <a:xfrm>
            <a:off x="533520" y="3581280"/>
            <a:ext cx="3106440" cy="914400"/>
          </a:xfrm>
          <a:prstGeom prst="pi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Plasma gas steril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r" rtl="1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6"/>
          <p:cNvSpPr/>
          <p:nvPr/>
        </p:nvSpPr>
        <p:spPr>
          <a:xfrm>
            <a:off x="615960" y="15228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lection of adequate level of cont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4920" y="1219320"/>
          <a:ext cx="8534160" cy="5268960"/>
        </p:xfrm>
        <a:graphic>
          <a:graphicData uri="http://schemas.openxmlformats.org/drawingml/2006/table">
            <a:tbl>
              <a:tblPr/>
              <a:tblGrid>
                <a:gridCol w="1787400"/>
                <a:gridCol w="2590920"/>
                <a:gridCol w="2022480"/>
                <a:gridCol w="2133360"/>
              </a:tblGrid>
              <a:tr h="531720"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haracter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th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9b7c"/>
                    </a:solidFill>
                  </a:tcPr>
                </a:tc>
              </a:tr>
              <a:tr h="196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dc5924"/>
                          </a:solidFill>
                          <a:latin typeface="Arial"/>
                        </a:rPr>
                        <a:t>Cri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s that enter sterile tissues, cavities or vascular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gical instruments, needles, cath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ilization by autoclave, plasma gas sterilizer or ethylene oxide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2ef"/>
                    </a:solidFill>
                  </a:tcPr>
                </a:tc>
              </a:tr>
              <a:tr h="165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dc5924"/>
                          </a:solidFill>
                          <a:latin typeface="Arial"/>
                        </a:rPr>
                        <a:t>Semi cri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that come in contact with non intact skin or mucous membr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scopes, thermo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level dis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08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dc5924"/>
                          </a:solidFill>
                          <a:latin typeface="Arial"/>
                        </a:rPr>
                        <a:t>Non crit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s that come in contact with intact sk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hygmomanometer, bed li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ediate to low level dis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96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mportance of sterilization and disinf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in the laborat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tient safety depends on using proper methods of sterilization to prepare instruments, needles, IV flui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ccuracy and validity of microbiologic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Arial"/>
              </a:rPr>
              <a:t>DISINFEC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He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6db0"/>
                </a:solidFill>
                <a:latin typeface="Arial"/>
              </a:rPr>
              <a:t>Moist heat at temperature below 100 degree </a:t>
            </a:r>
            <a:r>
              <a:rPr b="1" i="1" lang="en-US" sz="2400" spc="-1" strike="noStrike" u="sng">
                <a:solidFill>
                  <a:srgbClr val="7b6100"/>
                </a:solidFill>
                <a:uFillTx/>
                <a:latin typeface="Arial"/>
              </a:rPr>
              <a:t>(Pasteurization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526db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6db0"/>
                </a:solidFill>
                <a:latin typeface="Arial"/>
              </a:rPr>
              <a:t>Moist heat at temperature of 100 deg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742680">
              <a:spcBef>
                <a:spcPts val="700"/>
              </a:spcBef>
              <a:buClr>
                <a:srgbClr val="d128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9b7c"/>
                </a:solidFill>
                <a:uFillTx/>
                <a:latin typeface="Arial"/>
              </a:rPr>
              <a:t>Bo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742680">
              <a:spcBef>
                <a:spcPts val="700"/>
              </a:spcBef>
              <a:buClr>
                <a:srgbClr val="d1282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9b7c"/>
                </a:solidFill>
                <a:uFillTx/>
                <a:latin typeface="Arial"/>
              </a:rPr>
              <a:t>St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Radiation:</a:t>
            </a:r>
            <a:r>
              <a:rPr b="1" lang="en-US" sz="3600" spc="-1" strike="noStrike">
                <a:solidFill>
                  <a:srgbClr val="7b6100"/>
                </a:solidFill>
                <a:latin typeface="Arial"/>
              </a:rPr>
              <a:t>  (Ultraviolet ray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Arial"/>
              </a:rPr>
              <a:t>Chemical: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7b6100"/>
                </a:solidFill>
                <a:latin typeface="Arial"/>
              </a:rPr>
              <a:t>(Disinfectant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ist heat at temperature below 100 deg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milk disinfection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Milk is heated either at 63 degree for 30 minutes or 72 degree for 20 seconds and immediately cooled to below 10 degre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1828800" y="228600"/>
            <a:ext cx="579132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d1e23"/>
                </a:solidFill>
                <a:latin typeface="Arial"/>
              </a:rPr>
              <a:t>Disinfection b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8"/>
          <p:cNvSpPr/>
          <p:nvPr/>
        </p:nvSpPr>
        <p:spPr>
          <a:xfrm>
            <a:off x="419040" y="2286000"/>
            <a:ext cx="28195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d1e23"/>
                </a:solidFill>
                <a:latin typeface="Arial"/>
              </a:rPr>
              <a:t>Pasteu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ist heat at temperature 100 degre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Heating at 100 degree for 20 minut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Used for disinfection of surgical and medical equipments in emergency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533520" y="14479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Done in Koch’s steriliz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This sterilizer is vertical metal cylinder with removable conical lid having a small opening for escaping steam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49"/>
              </a:spcBef>
              <a:spcAft>
                <a:spcPts val="601"/>
              </a:spcAft>
              <a:buClr>
                <a:srgbClr val="7b61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b6100"/>
                </a:solidFill>
                <a:latin typeface="Arial"/>
              </a:rPr>
              <a:t>The articles to be sterilized are placed on a perforated tray situated above water which is placed in the bottom of the cylinder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r" rt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6"/>
          <p:cNvSpPr/>
          <p:nvPr/>
        </p:nvSpPr>
        <p:spPr>
          <a:xfrm>
            <a:off x="990720" y="609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dc5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tea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sa</cp:lastModifiedBy>
  <cp:lastPrinted>2014-10-16T21:42:37Z</cp:lastPrinted>
  <dcterms:modified xsi:type="dcterms:W3CDTF">2014-10-16T21:44:21Z</dcterms:modified>
  <cp:revision>661</cp:revision>
  <dc:subject/>
  <dc:title>Beveled Slide Style</dc:title>
</cp:coreProperties>
</file>