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834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A09-12B1-4C29-B121-7D8C92EE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F88-E5F0-4E18-8776-84597BB3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F2C-40B1-4D81-91B5-8645CCD6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9F3E-270E-4C16-B930-8A7C4525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7BF4-A1AC-4342-B855-22A463F0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5297-0A34-407D-B320-A24C612D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BE31-B786-4614-910F-01B52DA0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91DF-F0BD-44E8-9C7A-652B8AF7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481F-F314-448E-8837-50A111A6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DCD4-B235-49D0-AF2F-87F46EFF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AAAA-89BC-425D-8A8F-8EA2955E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9AC-582F-47A3-9EAF-BF98642F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824A-1BDC-45C2-B2C7-D8CDA501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E4A6-38FB-448B-9A4E-D23DF68C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0663-E4AB-4CF7-ABD7-5473B877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2CFB-E55A-40BC-B9E9-83C2E65C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E195-1527-4F5D-99F9-D7A4F51C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AD47A-1A67-4F24-AA97-F9DF849D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A589A-F06B-4F84-AA5E-50B2478E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8EA97-760F-4961-8FC7-46608C3A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0FAE1-51C0-4AA8-9A1F-8A29F60A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03899-11AE-4688-B794-7BA903EA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C29-E0EB-49B2-9E60-7BE20A9C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93B65-26B6-49C5-93F1-4CEA7972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739E4-E8E4-42A0-850A-C7C659EC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B38FD-94C7-45ED-9B62-28162FD5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E8AE3-34E4-4FC6-9E23-FE6F8D32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FD3DE-E6B1-4801-88C0-9BA1A9ED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B436E-E2E1-45F9-A565-89A7568D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580FE-D5F1-4627-BBFF-1218FDA2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CDE-0793-4508-A767-9963B0A8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94C-EB80-408F-AAFF-9914D749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8A6-BDA7-415C-8B2A-76CF4148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4ED-3D40-4F6B-95A6-69133157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068-156E-4137-A161-918B3912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254-EB56-4005-B543-5EE18DCC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5425-9A15-447E-ACEA-ADECE24E2BA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5B61-4AF1-4040-A6CC-6C9CEA3D694C}" type="slidenum">
              <a:rPr b="1" lang="en-US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20CD-A74F-4CCD-9DEF-78B5BF01ABC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5594-F10F-4485-B597-4BE8EC7698C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188A-0C30-4C6B-9E82-ADB79A39C02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0822-49CE-4A11-9BC1-BC7A0E43D00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مستطيل 5"/>
          <p:cNvSpPr/>
          <p:nvPr/>
        </p:nvSpPr>
        <p:spPr>
          <a:xfrm>
            <a:off x="1219320" y="1752480"/>
            <a:ext cx="6629400" cy="2819520"/>
          </a:xfrm>
          <a:prstGeom prst="rect">
            <a:avLst/>
          </a:prstGeom>
          <a:solidFill>
            <a:srgbClr val="ffffff"/>
          </a:solidFill>
          <a:ln w="28440">
            <a:solidFill>
              <a:srgbClr val="526d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ERI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&amp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ISINF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(Tyndalliza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Intermittent sterilization by exposure to steam at 100 degree for 20-45 min. for three successive day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for sterilization of sugar media which decompose at high temperatur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526db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26db0"/>
                </a:solidFill>
                <a:latin typeface="Arial"/>
              </a:rPr>
              <a:t>The principle is that one exposure will kill only vegetative bacteria. Between heatings, the spores will vegetate to be killed during subsequent exposur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100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100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100"/>
                </a:solidFill>
                <a:latin typeface="Arial"/>
              </a:rPr>
              <a:t>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Present in sun rays or artificially produced b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mercury lamp have weak penetrating power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to reduce the number of bacteria in air inside operation rooms, laboratory safety cabinet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1143000" y="533520"/>
            <a:ext cx="70866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Disinfection by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8"/>
          <p:cNvSpPr/>
          <p:nvPr/>
        </p:nvSpPr>
        <p:spPr>
          <a:xfrm>
            <a:off x="609480" y="1905120"/>
            <a:ext cx="28958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Ultraviolet 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buClr>
                <a:srgbClr val="3d518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185"/>
                </a:solidFill>
                <a:latin typeface="Arial"/>
              </a:rPr>
              <a:t>Disinfectants may b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spcAft>
                <a:spcPts val="601"/>
              </a:spcAft>
              <a:buClr>
                <a:srgbClr val="7b61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6100"/>
                </a:solidFill>
                <a:latin typeface="Arial"/>
              </a:rPr>
              <a:t>High level disinfecta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spcAft>
                <a:spcPts val="601"/>
              </a:spcAft>
              <a:buClr>
                <a:srgbClr val="7b61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6100"/>
                </a:solidFill>
                <a:latin typeface="Arial"/>
              </a:rPr>
              <a:t>Intermediate level disinfecta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spcAft>
                <a:spcPts val="601"/>
              </a:spcAft>
              <a:buClr>
                <a:srgbClr val="7b61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6100"/>
                </a:solidFill>
                <a:latin typeface="Arial"/>
              </a:rPr>
              <a:t>Low level disinfectants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1371600" y="685800"/>
            <a:ext cx="6553080" cy="1752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Disinfection by chemical disinfe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28240" y="304920"/>
            <a:ext cx="85345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رسم تخطيطي 5" descr=""/>
          <p:cNvPicPr/>
          <p:nvPr/>
        </p:nvPicPr>
        <p:blipFill>
          <a:blip r:embed="rId1"/>
          <a:stretch/>
        </p:blipFill>
        <p:spPr>
          <a:xfrm>
            <a:off x="171360" y="487440"/>
            <a:ext cx="8764560" cy="591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spcAft>
                <a:spcPts val="601"/>
              </a:spcAft>
              <a:buClr>
                <a:srgbClr val="7b6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6100"/>
                </a:solidFill>
                <a:latin typeface="Arial"/>
              </a:rPr>
              <a:t>Prions (the most resista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spcAft>
                <a:spcPts val="601"/>
              </a:spcAft>
              <a:buClr>
                <a:srgbClr val="7b6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6100"/>
                </a:solidFill>
                <a:latin typeface="Arial"/>
              </a:rPr>
              <a:t>Sp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spcAft>
                <a:spcPts val="601"/>
              </a:spcAft>
              <a:buClr>
                <a:srgbClr val="7b6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6100"/>
                </a:solidFill>
                <a:latin typeface="Arial"/>
              </a:rPr>
              <a:t>Tubercle bacil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spcAft>
                <a:spcPts val="601"/>
              </a:spcAft>
              <a:buClr>
                <a:srgbClr val="7b6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6100"/>
                </a:solidFill>
                <a:latin typeface="Arial"/>
              </a:rPr>
              <a:t>Non enveloped vir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spcAft>
                <a:spcPts val="601"/>
              </a:spcAft>
              <a:buClr>
                <a:srgbClr val="7b6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6100"/>
                </a:solidFill>
                <a:latin typeface="Arial"/>
              </a:rPr>
              <a:t>Fun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spcAft>
                <a:spcPts val="601"/>
              </a:spcAft>
              <a:buClr>
                <a:srgbClr val="7b6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6100"/>
                </a:solidFill>
                <a:latin typeface="Arial"/>
              </a:rPr>
              <a:t>vegetative bac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spcAft>
                <a:spcPts val="601"/>
              </a:spcAft>
              <a:buClr>
                <a:srgbClr val="7b6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6100"/>
                </a:solidFill>
                <a:latin typeface="Arial"/>
              </a:rPr>
              <a:t>Enveloped viruses such as HBV, H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1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100"/>
                </a:solidFill>
                <a:latin typeface="Arial"/>
              </a:rPr>
              <a:t>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Horizontal Scroll 8"/>
          <p:cNvSpPr/>
          <p:nvPr/>
        </p:nvSpPr>
        <p:spPr>
          <a:xfrm>
            <a:off x="609480" y="533520"/>
            <a:ext cx="807732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rganisms according to the innate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eft Arrow 9"/>
          <p:cNvSpPr/>
          <p:nvPr/>
        </p:nvSpPr>
        <p:spPr>
          <a:xfrm>
            <a:off x="4876920" y="1828800"/>
            <a:ext cx="2743200" cy="9144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Most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0"/>
          <p:cNvSpPr/>
          <p:nvPr/>
        </p:nvSpPr>
        <p:spPr>
          <a:xfrm>
            <a:off x="6362640" y="4473720"/>
            <a:ext cx="2514600" cy="91440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Least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Ethyl alcohol or isopropyl alcohol 70%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as skin antisepti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3d518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d5185"/>
                </a:solidFill>
                <a:uFillTx/>
                <a:latin typeface="Arial"/>
              </a:rPr>
              <a:t>Intermediate level disinfecta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Exposure for at least 5 minutes is needed to achieve adequate disinfection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6"/>
          <p:cNvSpPr/>
          <p:nvPr/>
        </p:nvSpPr>
        <p:spPr>
          <a:xfrm>
            <a:off x="3581280" y="68580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2-Point Star 7"/>
          <p:cNvSpPr/>
          <p:nvPr/>
        </p:nvSpPr>
        <p:spPr>
          <a:xfrm>
            <a:off x="2438280" y="6858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Available in 2% concentration (cidex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3d518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d5185"/>
                </a:solidFill>
                <a:uFillTx/>
                <a:latin typeface="Arial"/>
              </a:rPr>
              <a:t>High to intermediate level disinfecta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Disinfection of instruments that can not withstand heat such as endoscop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loud 7"/>
          <p:cNvSpPr/>
          <p:nvPr/>
        </p:nvSpPr>
        <p:spPr>
          <a:xfrm>
            <a:off x="2514600" y="542880"/>
            <a:ext cx="5334120" cy="144792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Glutaraldehy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2-Point Star 6"/>
          <p:cNvSpPr/>
          <p:nvPr/>
        </p:nvSpPr>
        <p:spPr>
          <a:xfrm>
            <a:off x="1447920" y="800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Example of chlorine releasing compounds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Arial"/>
              </a:rPr>
              <a:t>Hypochlorite solution (such as household blea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3d518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d5185"/>
                </a:solidFill>
                <a:uFillTx/>
                <a:latin typeface="Arial"/>
              </a:rPr>
              <a:t>Intermediate level disinfecta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Widely used in homes, hospitals and laboratories to disinfect table tops, incubators, spilled cultur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Disinfection of water supply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6"/>
          <p:cNvSpPr/>
          <p:nvPr/>
        </p:nvSpPr>
        <p:spPr>
          <a:xfrm>
            <a:off x="1676520" y="685800"/>
            <a:ext cx="62481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hlorine releas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2-Point Star 7"/>
          <p:cNvSpPr/>
          <p:nvPr/>
        </p:nvSpPr>
        <p:spPr>
          <a:xfrm>
            <a:off x="609480" y="6858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Examples of iodophore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Tincture iodine (2% iodine in ethano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Betadine (10% povidone-iod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3d518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d5185"/>
                </a:solidFill>
                <a:uFillTx/>
                <a:latin typeface="Arial"/>
              </a:rPr>
              <a:t>Intermediate to low level disinfecta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for disinfection of surgical wound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6"/>
          <p:cNvSpPr/>
          <p:nvPr/>
        </p:nvSpPr>
        <p:spPr>
          <a:xfrm>
            <a:off x="2743200" y="68580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odoph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32-Point Star 7"/>
          <p:cNvSpPr/>
          <p:nvPr/>
        </p:nvSpPr>
        <p:spPr>
          <a:xfrm>
            <a:off x="1600200" y="6858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Example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Dettol, lysol (2% concentr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3d518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d5185"/>
                </a:solidFill>
                <a:uFillTx/>
                <a:latin typeface="Arial"/>
              </a:rPr>
              <a:t>Intermediate level disinfecta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in laboratories to disinfect spilled cultures on working areas or in discard jar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6"/>
          <p:cNvSpPr/>
          <p:nvPr/>
        </p:nvSpPr>
        <p:spPr>
          <a:xfrm>
            <a:off x="2743200" y="685800"/>
            <a:ext cx="4343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henol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32-Point Star 7"/>
          <p:cNvSpPr/>
          <p:nvPr/>
        </p:nvSpPr>
        <p:spPr>
          <a:xfrm>
            <a:off x="1600200" y="6858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procedure that reduces pathogenic microbes to a level where items are safe for handling &amp; disposa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be achieved by </a:t>
            </a:r>
            <a:r>
              <a:rPr b="1" lang="en-US" sz="2400" spc="-1" strike="noStrike" u="sng">
                <a:solidFill>
                  <a:srgbClr val="7b6100"/>
                </a:solidFill>
                <a:uFillTx/>
                <a:latin typeface="Arial"/>
              </a:rPr>
              <a:t>cleaning, disinfection and steri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cess that removes foreign material (dirt, organic matter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precede disinfection and steri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7b61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b6100"/>
                </a:solidFill>
                <a:uFillTx/>
                <a:latin typeface="Arial"/>
              </a:rPr>
              <a:t>Usually done with soap and water or detergent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loud Callout 7"/>
          <p:cNvSpPr/>
          <p:nvPr/>
        </p:nvSpPr>
        <p:spPr>
          <a:xfrm>
            <a:off x="457200" y="457200"/>
            <a:ext cx="4800600" cy="1143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econt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loud Callout 8"/>
          <p:cNvSpPr/>
          <p:nvPr/>
        </p:nvSpPr>
        <p:spPr>
          <a:xfrm>
            <a:off x="304920" y="3773520"/>
            <a:ext cx="3429000" cy="4968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Example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Cetavlon, savl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3d518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d5185"/>
                </a:solidFill>
                <a:uFillTx/>
                <a:latin typeface="Arial"/>
              </a:rPr>
              <a:t>Low level disinfecta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to clean floors, wall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activated by organic matter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affect Gram negative bacilli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6"/>
          <p:cNvSpPr/>
          <p:nvPr/>
        </p:nvSpPr>
        <p:spPr>
          <a:xfrm>
            <a:off x="1371600" y="662040"/>
            <a:ext cx="7467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Quaternary ammonium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32-Point Star 7"/>
          <p:cNvSpPr/>
          <p:nvPr/>
        </p:nvSpPr>
        <p:spPr>
          <a:xfrm>
            <a:off x="304920" y="6793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Available as 3% H2O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3d518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d5185"/>
                </a:solidFill>
                <a:uFillTx/>
                <a:latin typeface="Arial"/>
              </a:rPr>
              <a:t>High to intermediate level disinfecta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as antiseptic for wounds, disinfecant for contact lens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ounded Rectangle 6"/>
          <p:cNvSpPr/>
          <p:nvPr/>
        </p:nvSpPr>
        <p:spPr>
          <a:xfrm>
            <a:off x="2590920" y="685800"/>
            <a:ext cx="4038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ydrogen pe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32-Point Star 7"/>
          <p:cNvSpPr/>
          <p:nvPr/>
        </p:nvSpPr>
        <p:spPr>
          <a:xfrm>
            <a:off x="1523880" y="6858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As mecury in mercurochrome and silver in silver nitrat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Safe antiseptic used for hygienic and surgical hand washing and for oral hygien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ounded Rectangle 6"/>
          <p:cNvSpPr/>
          <p:nvPr/>
        </p:nvSpPr>
        <p:spPr>
          <a:xfrm>
            <a:off x="2590920" y="685800"/>
            <a:ext cx="4038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eavy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32-Point Star 7"/>
          <p:cNvSpPr/>
          <p:nvPr/>
        </p:nvSpPr>
        <p:spPr>
          <a:xfrm>
            <a:off x="1523880" y="6858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ounded Rectangle 8"/>
          <p:cNvSpPr/>
          <p:nvPr/>
        </p:nvSpPr>
        <p:spPr>
          <a:xfrm>
            <a:off x="2743200" y="3048120"/>
            <a:ext cx="4038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hlorhexid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2-Point Star 9"/>
          <p:cNvSpPr/>
          <p:nvPr/>
        </p:nvSpPr>
        <p:spPr>
          <a:xfrm>
            <a:off x="1676520" y="30481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STERILIZATIO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Chemical methods (Cold steriliza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He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526d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26db0"/>
                </a:solidFill>
                <a:latin typeface="Arial"/>
              </a:rPr>
              <a:t>Dry heat (Red heat, hot air oven, incineration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526d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26db0"/>
                </a:solidFill>
                <a:latin typeface="Arial"/>
              </a:rPr>
              <a:t>Moist heat at temperature above 100 degree </a:t>
            </a:r>
            <a:r>
              <a:rPr b="1" lang="en-US" sz="2600" spc="-1" strike="noStrike" u="sng">
                <a:solidFill>
                  <a:srgbClr val="7b6100"/>
                </a:solidFill>
                <a:uFillTx/>
                <a:latin typeface="Arial"/>
              </a:rPr>
              <a:t>(Autoclav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Radiation: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 (</a:t>
            </a:r>
            <a:r>
              <a:rPr b="1" lang="en-US" sz="2800" spc="-1" strike="noStrike">
                <a:solidFill>
                  <a:srgbClr val="9d1e23"/>
                </a:solidFill>
                <a:latin typeface="Arial"/>
              </a:rPr>
              <a:t>Ionizing radiation &amp; infrared rays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Filtration :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9d1e23"/>
                </a:solidFill>
                <a:latin typeface="Arial"/>
              </a:rPr>
              <a:t>Fluid filters &amp; air filters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Gaseous sterilization :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9d1e23"/>
                </a:solidFill>
                <a:latin typeface="Arial"/>
              </a:rPr>
              <a:t>Ethylene oxide + gas plasma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100"/>
                </a:solidFill>
                <a:latin typeface="Arial"/>
              </a:rPr>
              <a:t>Glutaraldehyde (contact time 10 hour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100"/>
                </a:solidFill>
                <a:latin typeface="Arial"/>
              </a:rPr>
              <a:t>Liquid peracetic aci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100"/>
                </a:solidFill>
                <a:latin typeface="Arial"/>
              </a:rPr>
              <a:t>H2O2 6%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ounded Rectangle 6"/>
          <p:cNvSpPr/>
          <p:nvPr/>
        </p:nvSpPr>
        <p:spPr>
          <a:xfrm>
            <a:off x="1523880" y="1066680"/>
            <a:ext cx="49532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hemical 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6"/>
          <p:cNvSpPr/>
          <p:nvPr/>
        </p:nvSpPr>
        <p:spPr>
          <a:xfrm>
            <a:off x="2362320" y="990720"/>
            <a:ext cx="4190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terilization b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loud 7"/>
          <p:cNvSpPr/>
          <p:nvPr/>
        </p:nvSpPr>
        <p:spPr>
          <a:xfrm>
            <a:off x="685800" y="3276720"/>
            <a:ext cx="3809880" cy="121896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Dr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loud 8"/>
          <p:cNvSpPr/>
          <p:nvPr/>
        </p:nvSpPr>
        <p:spPr>
          <a:xfrm>
            <a:off x="4876920" y="3200400"/>
            <a:ext cx="3809880" cy="106668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Moist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traight Arrow Connector 10"/>
          <p:cNvCxnSpPr>
            <a:stCxn id="192" idx="2"/>
          </p:cNvCxnSpPr>
          <p:nvPr/>
        </p:nvCxnSpPr>
        <p:spPr>
          <a:xfrm flipH="1">
            <a:off x="2742480" y="1905120"/>
            <a:ext cx="1715400" cy="137232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196" name="Straight Arrow Connector 12"/>
          <p:cNvCxnSpPr>
            <a:stCxn id="192" idx="2"/>
          </p:cNvCxnSpPr>
          <p:nvPr/>
        </p:nvCxnSpPr>
        <p:spPr>
          <a:xfrm>
            <a:off x="4457880" y="1905120"/>
            <a:ext cx="1334160" cy="137232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6100"/>
                </a:solidFill>
                <a:latin typeface="Arial"/>
              </a:rPr>
              <a:t>Less effective than the moist hea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b6100"/>
                </a:solidFill>
                <a:uFillTx/>
                <a:latin typeface="Arial"/>
              </a:rPr>
              <a:t>Examples of dry heat ar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5185"/>
                </a:solidFill>
                <a:uFillTx/>
                <a:latin typeface="Arial"/>
              </a:rPr>
              <a:t>Red hea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Sterilization of the bacteriological loop by heating in the Bunsen flame or electric incinerator till becomes hot 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loud 7"/>
          <p:cNvSpPr/>
          <p:nvPr/>
        </p:nvSpPr>
        <p:spPr>
          <a:xfrm>
            <a:off x="3200400" y="533520"/>
            <a:ext cx="2895480" cy="129528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Dr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ffc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5185"/>
                </a:solidFill>
                <a:uFillTx/>
                <a:latin typeface="Arial"/>
              </a:rPr>
              <a:t>Hot air ov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Temperature of 160 degree for 2 h. or 170 degree for 1 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For glass ware, and metallic instr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5185"/>
                </a:solidFill>
                <a:uFillTx/>
                <a:latin typeface="Arial"/>
              </a:rPr>
              <a:t>Incineratio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743040">
              <a:spcBef>
                <a:spcPts val="601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Destruction of contaminated materials in the incin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d5185"/>
                </a:solidFill>
                <a:uFillTx/>
                <a:latin typeface="Arial"/>
              </a:rPr>
              <a:t>Principl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When water is heated in a closed vessel under pressure, the boiling point of water rises above 100 deg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Water is heated at</a:t>
            </a:r>
            <a:r>
              <a:rPr b="0" lang="en-US" sz="2000" spc="-1" strike="noStrike">
                <a:solidFill>
                  <a:srgbClr val="526db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d1e23"/>
                </a:solidFill>
                <a:latin typeface="Arial"/>
              </a:rPr>
              <a:t>2 atmospheric pressure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and the boiling temperature will be</a:t>
            </a:r>
            <a:r>
              <a:rPr b="0" lang="en-US" sz="2000" spc="-1" strike="noStrike">
                <a:solidFill>
                  <a:srgbClr val="526db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d1e23"/>
                </a:solidFill>
                <a:latin typeface="Arial"/>
              </a:rPr>
              <a:t>121 degree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or at </a:t>
            </a:r>
            <a:r>
              <a:rPr b="1" lang="en-US" sz="2000" spc="-1" strike="noStrike">
                <a:solidFill>
                  <a:srgbClr val="9d1e23"/>
                </a:solidFill>
                <a:latin typeface="Arial"/>
              </a:rPr>
              <a:t>3 atmospheric pressure</a:t>
            </a:r>
            <a:r>
              <a:rPr b="0" lang="en-US" sz="2000" spc="-1" strike="noStrike">
                <a:solidFill>
                  <a:srgbClr val="9d1e2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and the boiling temperature will be </a:t>
            </a:r>
            <a:r>
              <a:rPr b="1" lang="en-US" sz="2000" spc="-1" strike="noStrike">
                <a:solidFill>
                  <a:srgbClr val="9d1e23"/>
                </a:solidFill>
                <a:latin typeface="Arial"/>
              </a:rPr>
              <a:t>134 deg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loud 7"/>
          <p:cNvSpPr/>
          <p:nvPr/>
        </p:nvSpPr>
        <p:spPr>
          <a:xfrm>
            <a:off x="2438280" y="380880"/>
            <a:ext cx="4572000" cy="137160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Moist heat (Autocl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d5185"/>
                </a:solidFill>
                <a:uFillTx/>
                <a:latin typeface="Arial"/>
              </a:rPr>
              <a:t>Autoclaving is highly efficient becaus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High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High penetrating power of the steam under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When steam condenses on the articles, it liberates latent heat to the articles to be steril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Non tox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Not time consu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ruction of most but not necessarily all pathogenic microbes or their </a:t>
            </a:r>
            <a:r>
              <a:rPr b="1" lang="en-US" sz="2400" spc="-1" strike="noStrike" u="sng">
                <a:solidFill>
                  <a:srgbClr val="7b6100"/>
                </a:solidFill>
                <a:uFillTx/>
                <a:latin typeface="Arial"/>
              </a:rPr>
              <a:t>spor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ling of all living forms of microbes including spo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loud Callout 5"/>
          <p:cNvSpPr/>
          <p:nvPr/>
        </p:nvSpPr>
        <p:spPr>
          <a:xfrm>
            <a:off x="304920" y="762120"/>
            <a:ext cx="3429000" cy="993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is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loud Callout 6"/>
          <p:cNvSpPr/>
          <p:nvPr/>
        </p:nvSpPr>
        <p:spPr>
          <a:xfrm>
            <a:off x="279360" y="3063960"/>
            <a:ext cx="3429000" cy="993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2514600" y="380880"/>
            <a:ext cx="457200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82e"/>
                </a:solidFill>
                <a:latin typeface="Arial"/>
              </a:rPr>
              <a:t>Simple laboratory autoc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81880" cy="472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d5185"/>
                </a:solidFill>
                <a:uFillTx/>
                <a:latin typeface="Arial"/>
              </a:rPr>
              <a:t>Directions for use of the simple laboratory autoclav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It is a metal cylinder with tightly fitting lid. The lid is connected to a steam discharge tap, safety valve and manome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Water is placed in the bottom and the articles to be sterilized are placed on top of a perforated tray above water level, then the lid is tightly clo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Water is heated electrical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The steam discharge tap is opened and the safety valve is adjusted to 15 ib per square inch= double atmospheric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Steam will come out of the tap in interrupted jets as it mixes with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When steam is released in a continuous stream, the tap is clo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When the steam pressure reaches the desired level, safety valve will allow excess steam to esca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From this point, the holding sterilization time which is 20-30 minutes is calcu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Then, the heater is turned off and the autoclave is allowed to cool down before opening the l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799"/>
              </a:spcBef>
              <a:buClr>
                <a:srgbClr val="d1282e"/>
              </a:buClr>
              <a:buFont typeface="Arial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d5185"/>
                </a:solidFill>
                <a:uFillTx/>
                <a:latin typeface="Arial"/>
              </a:rPr>
              <a:t>Autoclave is used for sterilization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Surgical instruments and dress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Bed li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Cotton, gau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Culture media not destroyed by h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1100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901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d5185"/>
                </a:solidFill>
                <a:uFillTx/>
                <a:latin typeface="Arial"/>
              </a:rPr>
              <a:t>Steam jacketed autoclav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185"/>
                </a:solidFill>
                <a:latin typeface="Arial"/>
              </a:rPr>
              <a:t>Double walled chamber in which steam at 121 degree is introduced from an external 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185"/>
                </a:solidFill>
                <a:latin typeface="Arial"/>
              </a:rPr>
              <a:t>Steam enters the jacket from which it enters the chamber migrating downwards replacing the air which is expelled through a discharge tap at the bot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d5185"/>
                </a:solidFill>
                <a:uFillTx/>
                <a:latin typeface="Arial"/>
              </a:rPr>
              <a:t>Flash autoclav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185"/>
                </a:solidFill>
                <a:latin typeface="Arial"/>
              </a:rPr>
              <a:t>It sterilizes at 134 degree for 3 – 5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185"/>
                </a:solidFill>
                <a:latin typeface="Arial"/>
              </a:rPr>
              <a:t>Used in operation rooms in emergency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d5185"/>
                </a:solidFill>
                <a:uFillTx/>
                <a:latin typeface="Arial"/>
              </a:rPr>
              <a:t>Testing the efficiency of autoclav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6814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81417"/>
                </a:solidFill>
                <a:uFillTx/>
                <a:latin typeface="Arial"/>
              </a:rPr>
              <a:t>Mechanical method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measurement of temperature, pressure gau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6814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81417"/>
                </a:solidFill>
                <a:uFillTx/>
                <a:latin typeface="Arial"/>
              </a:rPr>
              <a:t>Chemical indicator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ts color at the end of sterilization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6814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81417"/>
                </a:solidFill>
                <a:uFillTx/>
                <a:latin typeface="Arial"/>
              </a:rPr>
              <a:t>Biological indicators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601"/>
              </a:spcBef>
              <a:buClr>
                <a:srgbClr val="d1282e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pores of </a:t>
            </a:r>
            <a:r>
              <a:rPr b="1" i="1" lang="en-US" sz="2400" spc="-1" strike="noStrike" u="sng">
                <a:solidFill>
                  <a:srgbClr val="00b050"/>
                </a:solidFill>
                <a:uFillTx/>
                <a:latin typeface="Arial"/>
              </a:rPr>
              <a:t>Bacillus stearothermophil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spores of </a:t>
            </a:r>
            <a:r>
              <a:rPr b="1" i="1" lang="en-US" sz="2400" spc="-1" strike="noStrike" u="sng">
                <a:solidFill>
                  <a:srgbClr val="00b050"/>
                </a:solidFill>
                <a:uFillTx/>
                <a:latin typeface="Arial"/>
              </a:rPr>
              <a:t>Bacillus subtil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 used to test the efficiency of hot air o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3d51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185"/>
                </a:solidFill>
                <a:latin typeface="Arial"/>
              </a:rPr>
              <a:t>Ionizing radi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 as gamma rays emitted from radioactive cobalt 60 or beta rays emitted from electron accelerato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penetrating pow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for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plastic syringes, catheters, gloves, surgical sutur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6"/>
          <p:cNvSpPr/>
          <p:nvPr/>
        </p:nvSpPr>
        <p:spPr>
          <a:xfrm>
            <a:off x="1752480" y="457200"/>
            <a:ext cx="53341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terilization by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 algn="r" rtl="1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for sterilization of biological fluids destroyed by heat such as serum, plasma, vitamins, hormo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s filtered by HEPA fil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PA means high efficiency particulate air way arres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filtration is needed in operation rooms, safety cabin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 algn="r" rtl="1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 algn="r" rtl="1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 algn="r" rtl="1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6"/>
          <p:cNvSpPr/>
          <p:nvPr/>
        </p:nvSpPr>
        <p:spPr>
          <a:xfrm>
            <a:off x="2154240" y="228600"/>
            <a:ext cx="50292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terilization by fil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loud 7"/>
          <p:cNvSpPr/>
          <p:nvPr/>
        </p:nvSpPr>
        <p:spPr>
          <a:xfrm>
            <a:off x="380880" y="1281240"/>
            <a:ext cx="3276720" cy="83808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Fluid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loud 8"/>
          <p:cNvSpPr/>
          <p:nvPr/>
        </p:nvSpPr>
        <p:spPr>
          <a:xfrm>
            <a:off x="515880" y="3200400"/>
            <a:ext cx="3276720" cy="83808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i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5185"/>
                </a:solidFill>
                <a:uFillTx/>
                <a:latin typeface="Arial"/>
              </a:rPr>
              <a:t>Vacuum or  Seitz filte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64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Arial"/>
              </a:rPr>
              <a:t>Formed of asbestos disc which is inserted into a metal holder connected to a flas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loud 7"/>
          <p:cNvSpPr/>
          <p:nvPr/>
        </p:nvSpPr>
        <p:spPr>
          <a:xfrm>
            <a:off x="2438280" y="380880"/>
            <a:ext cx="4038840" cy="137160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Fluid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3429000"/>
            <a:ext cx="8915400" cy="289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5185"/>
                </a:solidFill>
                <a:uFillTx/>
                <a:latin typeface="Arial"/>
              </a:rPr>
              <a:t>Millipore (membrane) filter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64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db0"/>
                </a:solidFill>
                <a:latin typeface="Arial"/>
              </a:rPr>
              <a:t>Synt</a:t>
            </a:r>
            <a:r>
              <a:rPr b="0" lang="en-US" sz="2600" spc="-1" strike="noStrike">
                <a:solidFill>
                  <a:srgbClr val="7030a0"/>
                </a:solidFill>
                <a:latin typeface="Arial"/>
              </a:rPr>
              <a:t>hetic membranes made from cellulose diacet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5185"/>
                </a:solidFill>
                <a:uFillTx/>
                <a:latin typeface="Arial"/>
              </a:rPr>
              <a:t>Syringe filte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64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Arial"/>
              </a:rPr>
              <a:t>Membrane filters 13 – 25 mm in diameter in a small holder connected to a syringe containing the fluid to be filte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143000" y="3962520"/>
            <a:ext cx="6781680" cy="25146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compounds that could be applied topically on </a:t>
            </a:r>
            <a:r>
              <a:rPr b="1" lang="en-US" sz="2400" spc="-1" strike="noStrike" u="sng">
                <a:solidFill>
                  <a:srgbClr val="7b6100"/>
                </a:solidFill>
                <a:uFillTx/>
                <a:latin typeface="Arial"/>
              </a:rPr>
              <a:t>animate surfaces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compounds applied for </a:t>
            </a:r>
            <a:r>
              <a:rPr b="1" lang="en-US" sz="2400" spc="-1" strike="noStrike" u="sng">
                <a:solidFill>
                  <a:srgbClr val="7b6100"/>
                </a:solidFill>
                <a:uFillTx/>
                <a:latin typeface="Arial"/>
              </a:rPr>
              <a:t>inanimate surfa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loud Callout 5"/>
          <p:cNvSpPr/>
          <p:nvPr/>
        </p:nvSpPr>
        <p:spPr>
          <a:xfrm>
            <a:off x="609480" y="533520"/>
            <a:ext cx="3429000" cy="993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ntise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loud Callout 6"/>
          <p:cNvSpPr/>
          <p:nvPr/>
        </p:nvSpPr>
        <p:spPr>
          <a:xfrm>
            <a:off x="419040" y="3429000"/>
            <a:ext cx="3810240" cy="993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isinfe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05600" indent="-705600" algn="r" rt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b6100"/>
                </a:solidFill>
                <a:latin typeface="Arial"/>
              </a:rPr>
              <a:t>Used for plastic and rubber articles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b6100"/>
                </a:solidFill>
                <a:latin typeface="Arial"/>
              </a:rPr>
              <a:t>Ethylene oxide gas is toxic, explosive and carcinogenic to laboratory animals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c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b6100"/>
                </a:solidFill>
                <a:latin typeface="Arial"/>
              </a:rPr>
              <a:t>Plasma means any gas which is formed of ions, electrons, neutral particles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b6100"/>
                </a:solidFill>
                <a:latin typeface="Arial"/>
              </a:rPr>
              <a:t>Used for surgical instruments mainly those with narrow lumen such as arthroscopes &amp; laparoscopes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b6100"/>
                </a:solidFill>
                <a:latin typeface="Arial"/>
              </a:rPr>
              <a:t>Non toxic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 algn="r" rtl="1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6"/>
          <p:cNvSpPr/>
          <p:nvPr/>
        </p:nvSpPr>
        <p:spPr>
          <a:xfrm>
            <a:off x="2209680" y="457200"/>
            <a:ext cx="502920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terilization by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loud 7"/>
          <p:cNvSpPr/>
          <p:nvPr/>
        </p:nvSpPr>
        <p:spPr>
          <a:xfrm>
            <a:off x="343080" y="1371600"/>
            <a:ext cx="3733560" cy="83808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Ethylene oxide g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loud 8"/>
          <p:cNvSpPr/>
          <p:nvPr/>
        </p:nvSpPr>
        <p:spPr>
          <a:xfrm>
            <a:off x="533520" y="3581280"/>
            <a:ext cx="3106440" cy="91440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Plasma gas sterili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6"/>
          <p:cNvSpPr/>
          <p:nvPr/>
        </p:nvSpPr>
        <p:spPr>
          <a:xfrm>
            <a:off x="615960" y="152280"/>
            <a:ext cx="784872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lection of adequate level of cont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04920" y="1219320"/>
          <a:ext cx="8534160" cy="5268960"/>
        </p:xfrm>
        <a:graphic>
          <a:graphicData uri="http://schemas.openxmlformats.org/drawingml/2006/table">
            <a:tbl>
              <a:tblPr/>
              <a:tblGrid>
                <a:gridCol w="1787400"/>
                <a:gridCol w="2590920"/>
                <a:gridCol w="2022480"/>
                <a:gridCol w="2133360"/>
              </a:tblGrid>
              <a:tr h="531720">
                <a:tc>
                  <a:txBody>
                    <a:bodyPr lIns="90000" rIns="900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9b7c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haracteri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9b7c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9b7c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etho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9b7c"/>
                    </a:solidFill>
                  </a:tcPr>
                </a:tc>
              </a:tr>
              <a:tr h="1969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dc5924"/>
                          </a:solidFill>
                          <a:latin typeface="Arial"/>
                        </a:rPr>
                        <a:t>Cri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2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s that enter sterile tissues, cavities or vascular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2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gical instruments, needles, cath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2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rilization by autoclave, plasma gas sterilizer or ethylene oxide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2ef"/>
                    </a:solidFill>
                  </a:tcPr>
                </a:tc>
              </a:tr>
              <a:tr h="165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dc5924"/>
                          </a:solidFill>
                          <a:latin typeface="Arial"/>
                        </a:rPr>
                        <a:t>Semi cri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s that come in contact with non intact skin or mucous membra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scopes, thermom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level dis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108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dc5924"/>
                          </a:solidFill>
                          <a:latin typeface="Arial"/>
                        </a:rPr>
                        <a:t>Non cri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s that come in contact with intact sk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hygmomanometer, bed li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te to low level dis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96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mportance of sterilization and disinf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ty in the laborat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tient safety depends on using proper methods of sterilization to prepare instruments, needles, IV flui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curacy and validity of microbiological 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Arial"/>
              </a:rPr>
              <a:t>DISINFEC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Arial"/>
              </a:rPr>
              <a:t>He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526d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6db0"/>
                </a:solidFill>
                <a:latin typeface="Arial"/>
              </a:rPr>
              <a:t>Moist heat at temperature below 100 degree </a:t>
            </a:r>
            <a:r>
              <a:rPr b="1" i="1" lang="en-US" sz="2400" spc="-1" strike="noStrike" u="sng">
                <a:solidFill>
                  <a:srgbClr val="7b6100"/>
                </a:solidFill>
                <a:uFillTx/>
                <a:latin typeface="Arial"/>
              </a:rPr>
              <a:t>(Pasteurization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526d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6db0"/>
                </a:solidFill>
                <a:latin typeface="Arial"/>
              </a:rPr>
              <a:t>Moist heat at temperature of 100 deg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742680">
              <a:spcBef>
                <a:spcPts val="700"/>
              </a:spcBef>
              <a:buClr>
                <a:srgbClr val="d128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9b7c"/>
                </a:solidFill>
                <a:uFillTx/>
                <a:latin typeface="Arial"/>
              </a:rPr>
              <a:t>Bo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742680">
              <a:spcBef>
                <a:spcPts val="700"/>
              </a:spcBef>
              <a:buClr>
                <a:srgbClr val="d128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9b7c"/>
                </a:solidFill>
                <a:uFillTx/>
                <a:latin typeface="Arial"/>
              </a:rPr>
              <a:t>Ste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Arial"/>
              </a:rPr>
              <a:t>Radiation:</a:t>
            </a:r>
            <a:r>
              <a:rPr b="1" lang="en-US" sz="3600" spc="-1" strike="noStrike">
                <a:solidFill>
                  <a:srgbClr val="7b6100"/>
                </a:solidFill>
                <a:latin typeface="Arial"/>
              </a:rPr>
              <a:t>  (Ultraviolet ray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Arial"/>
              </a:rPr>
              <a:t>Chemical: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7b6100"/>
                </a:solidFill>
                <a:latin typeface="Arial"/>
              </a:rPr>
              <a:t>(Disinfectant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ist heat at temperature below 100 deg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for milk disinfection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Milk is heated either at 63 degree for 30 minutes or 72 degree for 20 seconds and immediately cooled to below 10 degre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1828800" y="228600"/>
            <a:ext cx="579132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d1e23"/>
                </a:solidFill>
                <a:latin typeface="Arial"/>
              </a:rPr>
              <a:t>Disinfection b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8"/>
          <p:cNvSpPr/>
          <p:nvPr/>
        </p:nvSpPr>
        <p:spPr>
          <a:xfrm>
            <a:off x="419040" y="2286000"/>
            <a:ext cx="28195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d1e23"/>
                </a:solidFill>
                <a:latin typeface="Arial"/>
              </a:rPr>
              <a:t>Pasteur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ist heat at temperature 100 degre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Heating at 100 degree for 20 minut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for disinfection of surgical and medical equipments in emergency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6"/>
          <p:cNvSpPr/>
          <p:nvPr/>
        </p:nvSpPr>
        <p:spPr>
          <a:xfrm>
            <a:off x="533520" y="14479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Bo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Done in Koch’s sterilizer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This sterilizer is vertical metal cylinder with removable conical lid having a small opening for escaping steam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The articles to be sterilized are placed on a perforated tray situated above water which is placed in the bottom of the cylinder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ounded Rectangle 6"/>
          <p:cNvSpPr/>
          <p:nvPr/>
        </p:nvSpPr>
        <p:spPr>
          <a:xfrm>
            <a:off x="990720" y="609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Stea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9:52:32Z</dcterms:created>
  <dc:creator>Nan Shastry</dc:creator>
  <dc:description/>
  <dc:language>en-US</dc:language>
  <cp:lastModifiedBy>sa</cp:lastModifiedBy>
  <cp:lastPrinted>2014-10-16T21:42:37Z</cp:lastPrinted>
  <dcterms:modified xsi:type="dcterms:W3CDTF">2014-10-16T21:44:21Z</dcterms:modified>
  <cp:revision>661</cp:revision>
  <dc:subject/>
  <dc:title>Beveled Slide Style</dc:title>
</cp:coreProperties>
</file>