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9B2-30EF-4F71-A63E-53F723B1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71A-B978-42CF-A3D8-A7AF1203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858-4459-4F36-82BA-92D307B4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5C5-200A-425A-AEB8-C38DEDE8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DA4-6322-465E-AE71-F6D8F07F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AF4-B63A-463F-B4C4-7CC37FDA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D49-B512-4DA4-8690-E4F96F33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47E-C140-434B-B309-3E57E19A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B35-0EEE-460E-B199-B51CCBFE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B17-A357-448C-941F-A274C305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7DC-2A85-4F74-9DCF-E3A08726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196-752A-4DA6-A155-665436B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5FED1-B853-4784-8AA5-859F64E7C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4A8C0-D6E7-4A70-A5E3-69EA77BDC3C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05:51Z</dcterms:created>
  <dc:creator>최봉수</dc:creator>
  <dc:description/>
  <dc:language>en-US</dc:language>
  <cp:lastModifiedBy>군만두 맛있다</cp:lastModifiedBy>
  <dcterms:modified xsi:type="dcterms:W3CDTF">2023-07-12T06:11:07Z</dcterms:modified>
  <cp:revision>3</cp:revision>
  <dc:subject/>
  <dc:title>슬라이드 1</dc:title>
</cp:coreProperties>
</file>