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EC1-B58E-4193-8F08-2BE949F34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6C15-BC02-4E1D-BDBA-B9DD05066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194-583A-476D-A72D-8ECF1B16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DE7-F09D-4C9D-B963-C905679F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E5B-B26C-4304-836E-9CE9EFDA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1D0-C7B3-4BA8-B710-5EC810EE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3DCF-D5C5-464E-A7AC-99AEBF28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7429-848F-4855-A262-EBABD5EA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8468-BBD0-46BA-9422-A5BB59B6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FBBB-6BAC-499C-9A81-1F434EB5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F82F-07BD-4C2C-A129-CB24CFA7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7CDC-4D9E-47A6-B347-D4B2927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E014-6537-4FA9-992D-83FCADD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7A0-4368-4075-AA8B-37F52E9B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D01F-37C8-4360-B5F0-FEC92388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2457-B407-4DE6-AF87-6413472F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6EF8-A1E1-489C-927B-B6B1A034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C072-1BD7-41C7-8406-BB36AC5B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0574-BD14-4978-B7A4-CB90D432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961-FAB5-4DB0-B185-F32F0FB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615-F3BC-45E3-ADE6-850A69AB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BFD-9F0A-458F-852F-3A657B4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9BA-1468-408C-B25D-3F2D99E7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1D6-27D9-4F1B-87AD-2157CEC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FBD-3151-4688-A84F-F47ADF72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A44-E354-417C-B44E-47A37CB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19AD-BD3C-4BA4-8AE0-BEAD8339A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B112-470F-46EC-A2A5-B2A25FDF2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eld-Programmable Gate Arrays (FPG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e-grained reconfigurable 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e-Array: regular structure of “logic cells”, connected through an interconnection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guration stored in SRAM, must be loaded on star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XC2S100"/>
          <p:cNvPicPr/>
          <p:nvPr/>
        </p:nvPicPr>
        <p:blipFill>
          <a:blip r:embed="rId1"/>
          <a:stretch/>
        </p:blipFill>
        <p:spPr>
          <a:xfrm>
            <a:off x="2362320" y="373392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PGA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development over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RE (non-recurring engineering)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ck time to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inimum quantity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ogramm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linx XC2S100-5TQ144 FP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5 V 144-Pin quad flat pack, 92 I/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R x 30c array of config logic blocks (CL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with 2 slices ,each with 2 logic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ell with a 4-input lookup table (LUT), flip f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LUTs = one 16 x 1 dual port 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Block 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al ported , 4kb(256x16b),0 cycle lat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able interconn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erarchical, plus buses via TBUFs(3-state buffe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ld Programmable Gate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ved from PALs, PLDs, Complex P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iche hardware implementation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s: quick prototyping and time-to-marke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grammability, relatively easy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nesses: cost, density, sp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ors: Xilinx, Altera, Actel, Atmel, Lucen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press, Quick Logic, IBM, Motor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PGA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able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orial: lookup tables (LUTs) or gates + mu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tial: flip-fl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connect: metal wire segments connected by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 transistors driven by SRAM or EEPROM bit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ses or antifuses (one-time programm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PGA architecture var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B arrays, rows, macrocells; fine/coarse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M, fast wide adders, TBUFs (3-state buff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PGA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tional: cheap, fast turnaround,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gradeable ASICs (J3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reconfigurabl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turn: fast design simulation/ver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, image processing: filters, warping,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: span and octtree rendering accel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litary: target dependent correlation/recog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yptography: DES 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” genetic 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Generic FPGA Archite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FPGA architecture consists 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able I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able logic,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able rout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programmable block is also called configurable logic block (CL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a group of logic element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logic element contains one k-input lookup table, whic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implement any logic function up to k variabl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ire segments in the routing channels are connected by programmable switch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grammability usually is provided through a large amount of SRAM cells on the ch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PGA Device Configu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AM-based FPGA devices must be configured each time the board powers 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board is powered on, the configuration device will automatically send a serial data stream to the FPGA device and configure 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 the configuration data in on-board memory and use another PLD (typically an EPROM-based device, or a microprocessor) to act as the controller. When the board is powered on, the controller device will send the configuration data from memory to the targeted FPGA dev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ifuse-based Technology (e.g., ActelTM, QuicklogicTM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ntifuse remains in a high-impedance state until it is programmed into a low-impedance or “fused” sta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chnology can be used only once on one-time programmable (OTP) device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less expensive than the RAM technolog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 Up Table (LU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20800" y="1371600"/>
            <a:ext cx="750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HOWDARY</cp:lastModifiedBy>
  <dcterms:modified xsi:type="dcterms:W3CDTF">2010-09-03T03:13:36Z</dcterms:modified>
  <cp:revision>1</cp:revision>
  <dc:subject/>
  <dc:title>Field-Programmable Gate Arrays (FPGAs)</dc:title>
</cp:coreProperties>
</file>