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3992-AFBB-4836-B801-F1C7E4C4D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AE77-5D18-4A3F-AB62-ED840AB8E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6CE0-33E4-4E6C-A5BF-D3960D60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4790-13BE-4897-9FEE-C4662A2B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2739-1D22-404B-A80C-6C98C678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3252-A2BF-479E-87FF-F9C02121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3AF9-FF9B-46DA-A234-09275C9D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1D63-DDB8-4736-9659-08FC70DC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5477-2618-485E-83E6-C5981F00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2120-C70C-49C3-BE88-73E56C13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466C-02A8-4E46-951E-5CCEB0CC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FD2F-4D0C-4231-9D12-4B1B81A2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4B5D-8794-47E3-ABB5-371B28C0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AB37-69AD-4043-93A0-5A2751AB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7580-ADB3-40BE-9CE7-D784FBE4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CE41-E0AE-4EB8-AF10-0AEF6B12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65B1-E161-41A7-A851-A4BC627C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2B54-9F8D-40C1-BB12-BB556C04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9044-4F8C-41FC-BE0B-1582F646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FA09-663F-41B6-BAC1-9969E3E5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620A-61F0-4B36-9B3C-6DE53DA5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7A6F-9DD1-432B-A772-B98D3150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68BD-38DC-4578-9480-89881CD7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6F56-6209-4909-9EA3-D1CE8CFC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0BD8-3C7C-4F38-947E-3827EAF8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063E-FAA9-474C-82A6-C9D004C7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0AB6-E040-450B-846A-B40B6916D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22DC-5F00-4944-82F6-F4A7A9DD1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eld-Programmable Gate Arrays (FPGA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e-grained reconfigurable hard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te-Array: regular structure of “logic cells”, connected through an interconnection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iguration stored in SRAM, must be loaded on start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XC2S100"/>
          <p:cNvPicPr/>
          <p:nvPr/>
        </p:nvPicPr>
        <p:blipFill>
          <a:blip r:embed="rId1"/>
          <a:stretch/>
        </p:blipFill>
        <p:spPr>
          <a:xfrm>
            <a:off x="2362320" y="3733920"/>
            <a:ext cx="3886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PGA 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development overh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NRE (non-recurring engineering)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ick time to mark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minimum quantity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rogramm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ilinx XC2S100-5TQ144 FP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5 V 144-Pin quad flat pack, 92 I/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R x 30c array of config logic blocks (CLB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with 2 slices ,each with 2 logic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cell with a 4-input lookup table (LUT), flip flo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LUTs = one 16 x 1 dual port 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Block 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al ported , 4kb(256x16b),0 cycle lat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able interconn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erarchical, plus buses via TBUFs(3-state buffer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eld Programmable Gate Arr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olved from PALs, PLDs, Complex P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niche hardware implementation tech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s: quick prototyping and time-to-marke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ogrammability, relatively easy to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knesses: cost, density, sp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ndors: Xilinx, Altera, Actel, Atmel, Lucen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ypress, Quick Logic, IBM, Motoro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PGA Techn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able E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gic blo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atorial: lookup tables (LUTs) or gates + mu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tial: flip-fl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connect: metal wire segments connected by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ss transistors driven by SRAM or EEPROM bit 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ses or antifuses (one-time programmab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PGA architecture vari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B arrays, rows, macrocells; fine/coarse g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M, fast wide adders, TBUFs (3-state buff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PGA 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ntional: cheap, fast turnaround, fi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gradeable ASICs (J3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reconfigurable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ickturn: fast design simulation/ver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al, image processing: filters, warping, 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phics: span and octtree rendering accel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litary: target dependent correlation/recog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yptography: DES 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ware” genetic algorith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Generic FPGA Architec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FPGA architecture consists o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able IO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able logic,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able rout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programmable block is also called configurable logic block (CL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ains a group of logic elements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logic element contains one k-input lookup table, whic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implement any logic function up to k variabl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ire segments in the routing channels are connected by programmable switch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grammability usually is provided through a large amount of SRAM cells on the chi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PGA Device Configu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AM-based FPGA devices must be configured each time the board powers up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the board is powered on, the configuration device will automatically send a serial data stream to the FPGA device and configure 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ore the configuration data in on-board memory and use another PLD (typically an EPROM-based device, or a microprocessor) to act as the controller. When the board is powered on, the controller device will send the configuration data from memory to the targeted FPGA dev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tifuse-based Technology (e.g., ActelTM, QuicklogicTM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antifuse remains in a high-impedance state until it is programmed into a low-impedance or “fused” stat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technology can be used only once on one-time programmable (OTP) devices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less expensive than the RAM technolog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k Up Table (LU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820800" y="1371600"/>
            <a:ext cx="7504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CHOWDARY</cp:lastModifiedBy>
  <dcterms:modified xsi:type="dcterms:W3CDTF">2010-09-03T03:13:36Z</dcterms:modified>
  <cp:revision>1</cp:revision>
  <dc:subject/>
  <dc:title>Field-Programmable Gate Arrays (FPGAs)</dc:title>
</cp:coreProperties>
</file>