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391-5775-4D7B-ACE9-DA37F955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4B7-3631-4D42-93DC-267EE66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463-07DA-4CBB-89CD-03790785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359-ABC9-4B10-AC4C-01974890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D7B-B6AF-4D92-8C83-1A318D4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888-6F33-4976-B531-39EDE087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2D4-5FDD-41D9-B9AD-A338659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A88-547C-46A4-808F-D69401F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E57-A468-4109-8967-BC8A1C7F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24D-A6C7-4505-BE9A-920A781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C26-FA27-4CC6-B9C6-4494A9C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4D0-43BA-4857-A4FE-86CB74E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C1D3-D84D-4E21-B557-C58A9B7CF5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لحموضة والقل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1219320" y="2438280"/>
            <a:ext cx="7391160" cy="2104920"/>
            <a:chOff x="1219320" y="2438280"/>
            <a:chExt cx="7391160" cy="2104920"/>
          </a:xfrm>
        </p:grpSpPr>
        <p:sp>
          <p:nvSpPr>
            <p:cNvPr id="43" name="Text Box 4"/>
            <p:cNvSpPr/>
            <p:nvPr/>
          </p:nvSpPr>
          <p:spPr>
            <a:xfrm>
              <a:off x="5410080" y="2438280"/>
              <a:ext cx="3200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الحمض:</a:t>
              </a: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 مركب قادر على تحرير بروتونات عند وضعه في محلو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5"/>
            <p:cNvSpPr/>
            <p:nvPr/>
          </p:nvSpPr>
          <p:spPr>
            <a:xfrm>
              <a:off x="1219320" y="2438280"/>
              <a:ext cx="3200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الأساس:</a:t>
              </a: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 مركب قادر على التقاط البروتونات عند وضعه في محلو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تفكك حمض ضعيف أحادي الوظيفة الحمضية في المحلول المائي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28600" y="990720"/>
            <a:ext cx="8610480" cy="5953320"/>
            <a:chOff x="228600" y="990720"/>
            <a:chExt cx="8610480" cy="5953320"/>
          </a:xfrm>
        </p:grpSpPr>
        <p:grpSp>
          <p:nvGrpSpPr>
            <p:cNvPr id="47" name="Group 9"/>
            <p:cNvGrpSpPr/>
            <p:nvPr/>
          </p:nvGrpSpPr>
          <p:grpSpPr>
            <a:xfrm>
              <a:off x="228600" y="990720"/>
              <a:ext cx="8610480" cy="5953320"/>
              <a:chOff x="228600" y="990720"/>
              <a:chExt cx="8610480" cy="5953320"/>
            </a:xfrm>
          </p:grpSpPr>
          <p:grpSp>
            <p:nvGrpSpPr>
              <p:cNvPr id="48" name="Group 6"/>
              <p:cNvGrpSpPr/>
              <p:nvPr/>
            </p:nvGrpSpPr>
            <p:grpSpPr>
              <a:xfrm>
                <a:off x="228600" y="990720"/>
                <a:ext cx="8610480" cy="5866200"/>
                <a:chOff x="228600" y="990720"/>
                <a:chExt cx="8610480" cy="5866200"/>
              </a:xfrm>
            </p:grpSpPr>
            <p:pic>
              <p:nvPicPr>
                <p:cNvPr id="49" name="Picture 4" descr="42B6AD2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990720"/>
                  <a:ext cx="8610480" cy="586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Text Box 5"/>
                <p:cNvSpPr/>
                <p:nvPr/>
              </p:nvSpPr>
              <p:spPr>
                <a:xfrm>
                  <a:off x="914400" y="2649960"/>
                  <a:ext cx="1752480" cy="105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Arial"/>
                    </a:rPr>
                    <a:t>معادل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Arial"/>
                    </a:rPr>
                    <a:t>هندرس هازل باخ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 Box 8"/>
              <p:cNvSpPr/>
              <p:nvPr/>
            </p:nvSpPr>
            <p:spPr>
              <a:xfrm>
                <a:off x="6172200" y="5020560"/>
                <a:ext cx="266688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نحني يمثل الجزء المتفكك كتابع للـ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H</a:t>
                </a:r>
                <a:r>
                  <a:rPr b="1" lang="ar-SY" sz="2000" spc="-1" strike="noStrike">
                    <a:solidFill>
                      <a:srgbClr val="000000"/>
                    </a:solidFill>
                    <a:latin typeface="Arial"/>
                  </a:rPr>
                  <a:t> لدى معايرة حمض ضعيف وحيد الوظيفة بأساس قوي وحيد الوظيفة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0"/>
            <p:cNvSpPr/>
            <p:nvPr/>
          </p:nvSpPr>
          <p:spPr>
            <a:xfrm>
              <a:off x="228600" y="4151160"/>
              <a:ext cx="2895480" cy="12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الجزء المتفك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بر عنه غالباً بالنسبة المئوية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حني معايرة حمض ضعيف أحادي الوظيفة باستخدام أساس قوي وحيد الوظيف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304920" y="990720"/>
            <a:ext cx="8610480" cy="6101280"/>
            <a:chOff x="304920" y="990720"/>
            <a:chExt cx="8610480" cy="6101280"/>
          </a:xfrm>
        </p:grpSpPr>
        <p:grpSp>
          <p:nvGrpSpPr>
            <p:cNvPr id="55" name="Group 12"/>
            <p:cNvGrpSpPr/>
            <p:nvPr/>
          </p:nvGrpSpPr>
          <p:grpSpPr>
            <a:xfrm>
              <a:off x="304920" y="990720"/>
              <a:ext cx="8610480" cy="5486400"/>
              <a:chOff x="304920" y="990720"/>
              <a:chExt cx="8610480" cy="5486400"/>
            </a:xfrm>
          </p:grpSpPr>
          <p:pic>
            <p:nvPicPr>
              <p:cNvPr id="56" name="Picture 10" descr="87218CD7"/>
              <p:cNvPicPr/>
              <p:nvPr/>
            </p:nvPicPr>
            <p:blipFill>
              <a:blip r:embed="rId1"/>
              <a:stretch/>
            </p:blipFill>
            <p:spPr>
              <a:xfrm>
                <a:off x="304920" y="990720"/>
                <a:ext cx="853416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1"/>
              <p:cNvSpPr/>
              <p:nvPr/>
            </p:nvSpPr>
            <p:spPr>
              <a:xfrm>
                <a:off x="7620120" y="1430280"/>
                <a:ext cx="1295280" cy="283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منحني معايرة حمض ضعيف أحادي الوظيفة بأساس قوي أحادي الوظيف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3"/>
            <p:cNvSpPr/>
            <p:nvPr/>
          </p:nvSpPr>
          <p:spPr>
            <a:xfrm>
              <a:off x="7315200" y="3887640"/>
              <a:ext cx="1600200" cy="32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Arial"/>
                </a:rPr>
                <a:t>منحني يوضح مختلف الأشكال الجزيئية والشاردية السائدة لدى معايرة حمض ضعيف وحيد الوظيفة بأساس قوي وحيد الوظيفة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وقــــــــ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قاء هو محلول تتغير فيه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غير طفي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دى إضافة حمض أو أس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دى تمدي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ستطاعة الوقا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كون استطاعة الوقاء كبيرة بقدر ما يكون تغير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قليل نتيجة إضافة حمض أو أساس أو نتيجة التمدي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ماس منحني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= تابع 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كون قريباً من الأفق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3E4A3FD"/>
          <p:cNvPicPr/>
          <p:nvPr/>
        </p:nvPicPr>
        <p:blipFill>
          <a:blip r:embed="rId1"/>
          <a:stretch/>
        </p:blipFill>
        <p:spPr>
          <a:xfrm>
            <a:off x="228600" y="2514600"/>
            <a:ext cx="42480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8"/>
          <p:cNvGrpSpPr/>
          <p:nvPr/>
        </p:nvGrpSpPr>
        <p:grpSpPr>
          <a:xfrm>
            <a:off x="228600" y="457200"/>
            <a:ext cx="8686800" cy="6095880"/>
            <a:chOff x="228600" y="457200"/>
            <a:chExt cx="8686800" cy="6095880"/>
          </a:xfrm>
        </p:grpSpPr>
        <p:grpSp>
          <p:nvGrpSpPr>
            <p:cNvPr id="63" name="Group 6"/>
            <p:cNvGrpSpPr/>
            <p:nvPr/>
          </p:nvGrpSpPr>
          <p:grpSpPr>
            <a:xfrm>
              <a:off x="228600" y="457200"/>
              <a:ext cx="8686800" cy="6095880"/>
              <a:chOff x="228600" y="457200"/>
              <a:chExt cx="8686800" cy="6095880"/>
            </a:xfrm>
          </p:grpSpPr>
          <p:pic>
            <p:nvPicPr>
              <p:cNvPr id="64" name="Picture 4" descr="B7509413"/>
              <p:cNvPicPr/>
              <p:nvPr/>
            </p:nvPicPr>
            <p:blipFill>
              <a:blip r:embed="rId1"/>
              <a:stretch/>
            </p:blipFill>
            <p:spPr>
              <a:xfrm>
                <a:off x="228600" y="457200"/>
                <a:ext cx="868680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>
                <a:off x="685800" y="685800"/>
                <a:ext cx="7848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حالة منحني معايرة لحمض ضعيف وحيد الوظيفة بأساس قوي وحيد الوظيف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7"/>
            <p:cNvSpPr/>
            <p:nvPr/>
          </p:nvSpPr>
          <p:spPr>
            <a:xfrm>
              <a:off x="380880" y="5257800"/>
              <a:ext cx="4114800" cy="120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تحضير وقاء بتركي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 باستخدام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معادلة هندرسن هازل با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قانون حفظ الماد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اءات مختلف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A9FA99"/>
          <p:cNvPicPr/>
          <p:nvPr/>
        </p:nvPicPr>
        <p:blipFill>
          <a:blip r:embed="rId1"/>
          <a:stretch/>
        </p:blipFill>
        <p:spPr>
          <a:xfrm>
            <a:off x="76320" y="914400"/>
            <a:ext cx="8915400" cy="4637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ف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جزء منه في إدخال البروتون للوسط (برتنه) لتشكيل الجزء الأساسي (القلوي) من الوقاء: وهكذا نحصل على التناس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الذي يسمح بالحصول على 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مطلو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8:46:42Z</dcterms:created>
  <dc:creator>ms</dc:creator>
  <dc:description/>
  <dc:language>en-US</dc:language>
  <cp:lastModifiedBy>ACER</cp:lastModifiedBy>
  <dcterms:modified xsi:type="dcterms:W3CDTF">2013-11-15T12:45:12Z</dcterms:modified>
  <cp:revision>24</cp:revision>
  <dc:subject/>
  <dc:title>الشريحة 1</dc:title>
</cp:coreProperties>
</file>