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0C49-99D2-403D-89C6-2CCEE0AA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E54-6BBD-4CC4-991F-E94CBE2A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FAB-9AA1-46AF-895F-831DF709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B4E-6B3C-408C-89C3-7F9BD2BA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8BC6-8B67-4AA5-9AE2-C2A5C372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E7E4-E78C-4785-A910-BBB7B8BA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FA11-7C04-4F78-B7D2-78343332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0BC6-36A0-4731-9AD1-745281C1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0B14-AE32-4184-B4D6-665EB579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C098-88F2-4834-96B5-DB7DA461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9831-FE8C-4C66-A08D-E00DF553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A75-B84C-489B-8F4B-FB039759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125A-AEE7-4C35-90C5-AEFA6DE1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603F-667E-4E6F-9F0B-E9AB17FB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AF53-195C-4482-912D-ECBCE880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20E6-A534-4A91-9F6D-54BC61E4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7082-89C4-4F58-B977-B7386748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5E0-9AAC-4C60-9E7D-C1D5DE80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E66-18B2-46D9-9CDB-96786692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F47-3EA7-422F-B23C-D53A234D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68A5-B360-408F-80A1-D498A518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3767-0ED0-4804-91BF-57AB9BEC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6C8-2281-42BF-812F-2B050C5C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C47A-B3A2-44F5-B6A8-2AD29A1B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4319-7773-4D10-806E-36284CA3391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A6BB-31F4-4F6C-8C75-71B7F3191A5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1.bp.blogspot.com/_o9pan8tKn2U/SYGdLy8OKHI/AAAAAAAAABg/ZGLKxfOLC2s/s1600-h/Usenet%20Technical%20Architectur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3.bp.blogspot.com/_o9pan8tKn2U/SYGdL9lkjpI/AAAAAAAAABY/xgLXhnHP2w4/s1600-h/l11473649430_5158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ba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FTP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มีคำสั่งถ่ายโอนแฟ้มอยู่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2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คำสั่งคื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get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ใช้สำหรับ การถ่ายโอนครั้งละ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1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แฟ้มจาก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Remote host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มายั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Local Host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หรือใช้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mget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ในกรณีมากกว่า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1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แฟ้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put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ใช้สำหรับการถ่ายโอนแฟ้มครั้งละ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1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จาก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Local Host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ไปยั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Remote Host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หรือใช้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mput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ในกรณีมากกว่า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1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แฟ้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88640"/>
            <a:ext cx="8137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คำสั่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binary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หรือ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bin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เพื่อปรับให้มีการถ่ายโอนแฟ้มไบนาร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คำสั่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?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หรือ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help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เพื่อดูคำสั่งขอ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FT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คำสั่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bye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จบการทำงานและออกจากโปรแกร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คำสั่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close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จบการเชื่อมต่อกับ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Host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แต่ไม่ออกจาก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FT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คำสั่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hash on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หรือ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hash off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กำหนดการแสดงเครื่องหมาย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#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แทนข้อมูล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เมื่อมีการถ่ายโอนแฟ้มข้อมู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คำสั่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open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เชื่อมต่อระบบไปยั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Host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ที่ต้องการ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คำสั่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pwd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แสดงไดเรคทอรีของ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Remote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Hos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ccecff"/>
                </a:solidFill>
                <a:latin typeface="Arial"/>
              </a:rPr>
              <a:t>ลักษณะการใช้งาน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พื่อการ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pload / Download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ข้อมูลก็เพื่อแลกเปลี่ยนข้อมูลซึ่งกันและกัน โดยที่ผู้ใช้งานจะ</a:t>
            </a: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ต้องมี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User name </a:t>
            </a: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และ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assword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ในการเข้าถึงไฟล์ข้อมูลที่อยู่บน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rver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ที่ถูก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pload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ขึ้นไปไว้นั่นเอง    ปกติระบบ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ndows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องเราสามารถใช้โปรแกรม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ernet Explorer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หรือ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ndows Explorer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ในการเข้าใช้งาน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TP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ก็ได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แต่เนื่องจากความแตกต่างของเวอร์ชั่นต่างๆ อาจเกิดปัญหาในการใช้งานและทำความยุ่งยากแก่ผู้ใช้ที่ยังไม่ค่อยเข้าใจเรื่องของ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TP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ก็เลยอยากแนะนำให้ใช้งานจากโปรแกรม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TP Clien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จะดีกว่าและสะดวกรวดเร็วกว่า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...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ซึ่งโปรแกรมที่จะแนะนำครั้งนี้ก็คือโปรแกรม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FileZilla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ซึ่งเป็นโปรแกรม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"</a:t>
            </a: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ฟรี</a:t>
            </a: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"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ccecff"/>
                </a:solidFill>
                <a:latin typeface="Arial"/>
              </a:rPr>
              <a:t>บริการค้นหาข้อมูลด้วย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Archie , Gopher , Veronica , </a:t>
            </a:r>
            <a:r>
              <a:rPr b="1" lang="th-TH" sz="4000" spc="-1" strike="noStrike">
                <a:solidFill>
                  <a:srgbClr val="ccecff"/>
                </a:solidFill>
                <a:latin typeface="Arial"/>
              </a:rPr>
              <a:t>และ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WAIS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บริการสืบค้นข้อมูลข้ามเครือข่ายที่พัฒนามากจากระบบ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RCHIE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อำนวยความสะดวกช่วยในการค้นหาแฟ้ม และฐานข้อมูลว่าอยู่ที่เครื่องใด เพื่อจะใช้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TP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ขอถ่ายโอนได้ การบริการจะต้องใช้โปรแกรม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rchie, Gopher, VERONICA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และ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AIS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ป็นวิธีการแบบง่าย ในการที่จะค้นหาสารสนเทศ ในลักษณะของ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onymous ftp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พัฒนาจากมหาวิทยาลัย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c Gill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ใน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ontreal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ประเทศแคนาดา โปรแกรมนี้เป็นความพยายามอันแรก ที่จะใช้ระบบ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erne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ป็น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atalog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พื่อเก็บและเผยแพร่ข้อมูล สารสนเทศบนเครือข่าย คุณสามารถส่งคำถาม ไปยังเครื่องที่บริการด้วย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-mail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และเครื่องบริการก็จะตอบคำถามกลับมา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68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68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68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68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ph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915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พัฒนาจากมหาวิทยาลัย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nnesota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ป็นวิธีการซึ่งสามารถที่จะค้นหา และ รับข้อมูลแบบง่าย บน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erne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โดยไม่ยุ่งยาก และสามารถรับข้อมูลได้หลาย แบบ เช่น ข้อความ เสียง หรือภาพ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opher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นั้น ทำงานผ่านเครือข่ายโดยอัตโนมัติ โดยมีตัวให้บริการ อยู่ทั่วไปบน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erne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แต่ละตัวให้บริการ จะเก็บข้อมูลของตนเอง รวมถึงการเชื่อมโยงไปยังตัวให้บริการอื่นๆ ในการเข้าถึง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opher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ด้วย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opher nam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eronica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มาจากคำว่า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ery Easy Rodent-Oriented Net-oriented Index to Computerized Archives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ซึ่งพัฒนาจาก มหาวิทยาลัยแห่ง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evada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ซึ่งจะใช้การค้นหาด้วย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ey Word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ในทุกๆ ตัวให้บริการ และทุกๆ เมนู หรือเรียกอีกแบบหนึ่งได้ว่า เก็บดัชนีของทุกๆ ตัวให้บริการ ไว้ที่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eronic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I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มาจากคำว่า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de Area Information Sever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สามารถใช้โปรแกรมนี้ ในการค้นหาแหล่งข้อมูล โดยใช้ภาษาแบบปกติ ไม่ต้องใช้โปรแกรมภาษาพิเศษ หรือภาษาของฐานข้อมูลในการค้น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AIS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ทำงานโดยการรับคำร้อง ในการค้นและเปรียบเทียบ ในเอกสารต้นฉบับว่าเอกสารใด ตรงกับความต้องการ และส่งรายการทั้งหมดมายังผู้ที่ต้องการ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768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768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7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9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ccecff"/>
                </a:solidFill>
                <a:latin typeface="Arial"/>
              </a:rPr>
              <a:t>บริการประกาศข่าวสาร ด้วย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UseNe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senet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มาจากคำว่า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"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ser's Network"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คือ ระบบนิวส์กรุ๊ป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(newsgroup)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หนึ่ง ที่มีส่วนให้อภิปรายมากกว่า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14,000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หัวข้อ เปรียบเสมือนบอร์ดข่าวสารบนอินเตอร์เนต ที่ผู้ใช้ทั่วโลกสามารถนำวารสาร หรือความคิดเห็นของตนเองมาใส่ไว้ เพื่อให้ผู้อื่นได้อ่าน โดย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senet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จะมีกลุ่มสนทนาและเปลี่ยนข้อมูลในหัวข้อต่าง ๆ ที่เรียกว่า กลุ่มข่าว หรือ นิวส์กรุ๊ป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)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และเพื่อสะดวกในการใช้งานของผู้ใช้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senet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จึงทำการแบ่งหมวดหมู่ โดยใช้ชื่อของกลุ่มข่าว เพื่อสื่อความหมาย เช่น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p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เป็นประเภทกลุ่มข่าวคอมพิวเตอร์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, misc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เป็นประเภทกลุ่มข่าวสัพเพเหระทั่วไป ที่จัดกลุ่มไม่ได้ เป็นต้น</a:t>
            </a:r>
            <a:br>
              <a:rPr sz="36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ccecff"/>
                </a:solidFill>
                <a:latin typeface="Arial"/>
              </a:rPr>
              <a:t>บริการในอินเตอร์เน็ต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อินเตอร์เน็ต เปรียบเหมือนสังคมขนาดใหญ่ที่มีผู้เข้ามาร่วมใช้กันมากมาย ในระบบจึงมีการเตรียมบริการต่าง ๆ ไว้ให้เพื่อให้ผู้ใช้เข้ามาใช้งานต่าง ๆ ได้อย่างสะดวกและรวดเร็ว บริการที่มีในอินเตอร์เน็ต จะแบ่งออกเป็นประเภทต่าง ๆ ได้ ดังนี้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l25-196a" descr=""/>
          <p:cNvPicPr/>
          <p:nvPr/>
        </p:nvPicPr>
        <p:blipFill>
          <a:blip r:embed="rId1"/>
          <a:stretch/>
        </p:blipFill>
        <p:spPr>
          <a:xfrm>
            <a:off x="5148360" y="4221000"/>
            <a:ext cx="2952720" cy="1959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er network</a:t>
            </a:r>
            <a:r>
              <a:rPr b="0" lang="th-TH" sz="4400" spc="-1" strike="noStrike">
                <a:solidFill>
                  <a:srgbClr val="ccecff"/>
                </a:solidFill>
                <a:latin typeface="Arial"/>
              </a:rPr>
              <a:t>เป็นตัวจัดการเป็นผู้จัดการเกี่ยวกับเรื่องข่าวสารต่าง ๆ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7" name="BLOGGER_PHOTO_ID_529668746274289470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916280"/>
            <a:ext cx="6696000" cy="43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768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768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6" dur="768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8" dur="768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ecff"/>
                </a:solidFill>
                <a:latin typeface="Arial"/>
              </a:rPr>
              <a:t>หลักการทำงาน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1. UseNe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อาจเรียกได้ว่าเป็นพื้นที่ กระดานข่าว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ulletin board )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ระดับโลก ซึ่งเก็บรวบรวมข้อความหรือข่าวเกี่ยวกับหัวข้อเรื่องต่าง ๆ นับพันเรื่องไว้ใน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ซึ่งเป็นพื้นที่สำหรับการพูดคุยแลกเปลี่ยนความคิดเห็นอย่างเป็นอิสระที่ใครก็สามารถเข้าร่วมวงได้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อาจพบได้ในโฮสต์คอมพิวเตอร์หลาย ๆ แห่งทั่วทั้งอินเตอร์เน็ต มี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อยู่นับเป็นพัน ๆ กลุ่มที่ครอบคลุมหัวข้อในเกือบทุก ๆ เรื่องที่คุณสามารถจะนึกขึ้นได้ รวมทั้งบางหัวข้อที่คุณอาจนึกไม่ถึงมาก่อนก็มี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ในการเข้าร่วมกิจกรรมนี้ ผู้คนจะส่งข่าวและอ่านข่าวที่ผู้อื่นส่งเข้ามาที่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ซึ่งมี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อยู่สองประเภทนั่นคือแบบที่มีการตรวจ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oderated )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และแบบที่ไม่มีการตรวจสอบ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unmoderated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ใน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แบบที่มีการตรวจสอบ ผู้ตรวจสอบที่เป็นคนจริง ๆ จะรับและอ่านข่าวทั้งหมดที่ส่งเข้ามาที่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แล้วผู้ตรวจสอบนี้จะตัดสินใจว่าข่าวใดบ้างที่ควรหรือไม่ควรจะส่งเข้าไปตีพิมพ์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post )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ลงใน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ข่าวใดที่ถูกจัดให้ลงใน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ก็จะถูกส่งไปยังคอมพิวเตอร์ที่เป็น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rver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ส่วนที่เหลือก็จะถูกทิ้งไป ส่วนใน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ที่ไม่มีการตรวจสอบ ข่าวทั้งหมดจะถูก ส่งโดยตรงไปยัง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rver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เลย ข่าวใน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ทั้งหมดจะถูกเก็บบน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seNet server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โดยแบ่งเป็นหัวข้ออย่างกว้าง ๆ แล้วก็แตก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ป็นหัวข้อที่ละเอียดลงไป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4. UserNet server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ทั้งหมดจะติดต่อถึงกัน ดังนั้นข่าวที่ส่งเข้าไปยังเซิร์ฟเวอร์หนึ่งก็จะถูกทำสำเนาส่งต่อไปยังเซิร์ฟเวอร์อื่น ๆ แต่ถึงจะมี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serNet server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อยู่มากมาย แต่ก็ไม่ใช่ว่าทุก ๆ เซิร์ฟเวอร์จะเก็บ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ทุก ๆ กลุ่ม แต่ละที่จะพิจารณาเองว่าจะเก็บกลุ่มไหนไว้บ้าง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64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5.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ไฟล์รูปภาพ มัลติมีเดีย และแม้กระทั่งไฟล์โปรแกรม ก็สามารถถูกส่งไปที่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ได้ อย่างไรก็ตามเทคโนโลยีที่ใช้ใน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ทำให้จำเป็นต้องเข้ารหัสไฟล์เหล่านี้ก่อนที่จะส่งมันเข้าในกลุ่ม และในการที่จะดูมันได้ คุณจะต้องโอนมันเข้ามายังคอมพิวเตอร์ของคุณก่อน แล้วก็ค่อยถอดรหัสมันด้วยซอฟต์แวร์พิเศษ วิธีการเข้ารหัสที่ใช้ใน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เรียกว่า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Uencode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ซึ่งมีโปรแกรมสำหรับการเข้าและถอดรหัสแบบนี้ใช้บนคอมพิวเตอร์ทุกประเภททั้งพีซี แมคอินทอช และ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NIX</a:t>
            </a:r>
            <a:br>
              <a:rPr sz="36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ซอฟต์แวร์ตัวอ่าน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ทำให้คุณอ่านข่าวหรือบทความและตอบกลับไปยัง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ได้ ซอฟต์แวร์นี้จะช่วยให้คุณจัดการ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ของคุณได้ โดยให้คุณสมัครเข้าเป็นสมาชิกของ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ewsgroups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เพื่อให้ข่าวใหม่ ๆ ถูกส่งมาหาคุณโดยอัตโนมัติ เมื่อคุณเข้าไปเชื่อมต่อที่เซิร์ฟเวอร์ และคุณยังสามารถที่จะยกเลิกการเป็นสมาชิกได้ด้วย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BLOGGER_PHOTO_ID_529668746560068366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4076640"/>
            <a:ext cx="4032360" cy="259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ccecff"/>
                </a:solidFill>
                <a:latin typeface="Arial"/>
              </a:rPr>
              <a:t>บริการติดต่อสื่อสารระหว่างเครื่อง ด้วย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elne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Telnet </a:t>
            </a: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คืออะไร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elne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คือโปรแกรมสำหรับการเข้าใช้ระบบจากระยะไกล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โดยผู้ที่จะเข้าไปใช้ระบบนั้นได้ จะต้องมี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ccoun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อยู่บนระบบนั้นก่อ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การเรียกคำสั่ง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elne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โดยไม่ระบุชื่อ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os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ที่จะติดต่อด้วยจะเป็นการเรียกโปรแกรมให้อยู่ในภาวะรับคำสั่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คำสั่ง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?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พื่อแสดงคำสั่งต่างๆของโปรแกร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คำสั่ง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ogou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พื่อออกจาก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mote Hos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768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768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1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3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ป็นบริการสำหรับการที่จะให้ผู้ใช้บริการสามารถที่จะเปลี่ยนเครื่องที่ทำงานอยู่ไปใช้เครื่องอื่นได้โดยผู้ใช้ต้องมีชื่ออยู่ในบัญชีในเครื่องที่เข้าไปใช้ ทั้งนี้ก็เพื่อที่จะเข้าไปใช้ทรัพยากรต่าง เช่น ข้อมูล เนื้อที่ฮาร์ดดิสค์สำหรับเก็บข้อมูล หรือบริการอื่นใด ก็ได้ ที่เครื่องตนเองใช้อยู่ไม่มี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หลังจากที่ผู้ใช้ติดต่อเข้าในเครื่องนนทรีได้แล้วสามารถทำการติดต่อขอใช้เครื่องระยะไกล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(Remote login)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ได้ โดยการใช้คำสั่ง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elnet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ccecff"/>
                </a:solidFill>
                <a:latin typeface="Arial"/>
              </a:rPr>
              <a:t>การใช้โปรแกรม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eln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ext-mo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raphic-mo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SecureCR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พิ่มความปลอดภัยให้กับการ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elne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ด้วยการเข้ารหัส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บริการข้อมูลมัลติมีเดีย ด้วย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World Wide Web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บริการรับส่งข่าวสารด้วย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E- mail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บริการส่งผ่านไฟล์ข้อมูลด้วย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FTP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บริการค้นหาข้อมูลด้วย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rchie , Gopher , Veronica , </a:t>
            </a: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และ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WAIS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บริการประกาศข่าวสาร ด้วย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UseNet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Verdana"/>
              </a:rPr>
              <a:t>บริการติดต่อสื่อสารระหว่างเครื่อง ด้วย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elnet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แบ่งได้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2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ประเภทที่</a:t>
            </a:r>
            <a:r>
              <a:rPr b="1" lang="th-TH" sz="3600" spc="-1" strike="noStrike" u="sng">
                <a:solidFill>
                  <a:srgbClr val="ffffff"/>
                </a:solidFill>
                <a:uFillTx/>
                <a:latin typeface="Angsana New"/>
              </a:rPr>
              <a:t>สำคัญ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 ได้แก่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-2397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Host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ที่ให้รันโปรแกรม 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CGI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บน 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Host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ได้เลย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960120" indent="-191880">
              <a:lnSpc>
                <a:spcPct val="100000"/>
              </a:lnSpc>
              <a:spcBef>
                <a:spcPts val="9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กรณีนี้ทำให้ผู้ทำเวปสามารถพัฒนาโปรแกรมที่เรียกว่า 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Web Application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ได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-2397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Host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ที่ให้เฉพาะพื้นที่ฟรี </a:t>
            </a:r>
            <a:r>
              <a:rPr b="1" lang="th-TH" sz="3600" spc="-1" strike="noStrike" u="sng">
                <a:solidFill>
                  <a:srgbClr val="ffffff"/>
                </a:solidFill>
                <a:uFillTx/>
                <a:latin typeface="Angsana New"/>
              </a:rPr>
              <a:t>ไม่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สามารถรัน 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CGI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บน 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Host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ได้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23880" indent="-2397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กรณีนี้ต้องให้เวปของเราไปเรียกใช้บริการฟรี 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CGI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จากเวปที่ให้บริการอื่น ยกตัวอย่างบริการ 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CGI </a:t>
            </a: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ฟรี เช่น </a:t>
            </a: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counter, guest book, web boar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960120" indent="-191880">
              <a:lnSpc>
                <a:spcPct val="100000"/>
              </a:lnSpc>
              <a:spcBef>
                <a:spcPts val="9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http://www.thaimisc.com/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8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98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98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98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98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98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98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Thai.net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ให้พื้นที่ฟรีอย่างเดีย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brinkster.com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ให้พื้นที่ฟรีและยังสามารถใช้ </a:t>
            </a:r>
            <a:r>
              <a:rPr b="0" lang="en-US" sz="4000" spc="-1" strike="noStrike">
                <a:solidFill>
                  <a:srgbClr val="ffffff"/>
                </a:solidFill>
                <a:latin typeface="Angsana New"/>
              </a:rPr>
              <a:t>ASP </a:t>
            </a: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ได้ด้วย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hypermart.co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Angsana New"/>
              </a:rPr>
              <a:t>geocities.co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68360" y="2060640"/>
            <a:ext cx="46101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 End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ccecff"/>
                </a:solidFill>
                <a:latin typeface="Arial"/>
              </a:rPr>
              <a:t>บริการข้อมูลมัลติมีเดีย ด้วย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World Wide Web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เวิลด์ไวด์เว็บ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orld Wide Web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หรือ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WW </a:t>
            </a:r>
            <a:r>
              <a:rPr b="0" lang="th-TH" sz="3600" spc="-1" strike="noStrike">
                <a:solidFill>
                  <a:srgbClr val="ffffff"/>
                </a:solidFill>
                <a:latin typeface="Verdana"/>
              </a:rPr>
              <a:t>เป็นบริหารข้อมูลข่าวสารในแบบสื่อผสมหรือมัลติมีเดีย คือ ข้อมูลเหล่านี้จะมี ข้อความ รูปภาพ และเสียงประกอบกัน จึงสามารถเรียกร้องความสนในจากผู้ใช้ได้เป็นอย่างดี และยังสามารถแสดงภาพเคลื่อนไหวได้ด้วย ข้อมูลจะถูกแบ่งเป็นหน้า ๆ แต่ละหน้าจะถูกเขียนขึ้นด้วยภาษาทางคอมพิวเตอร์ที่พัฒนาขึ้นมาใหม่ เรียกว่า ภาษา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TML (HyperTextMarkup Languge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48" descr="ลักษณะของเว็บเพจ"/>
          <p:cNvPicPr/>
          <p:nvPr/>
        </p:nvPicPr>
        <p:blipFill>
          <a:blip r:embed="rId1"/>
          <a:stretch/>
        </p:blipFill>
        <p:spPr>
          <a:xfrm>
            <a:off x="6732720" y="4797360"/>
            <a:ext cx="2160360" cy="160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68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68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ecff"/>
                </a:solidFill>
                <a:latin typeface="Arial"/>
              </a:rPr>
              <a:t>ลักษณะของเวิลด์ไวด์เว็บ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คือ การนำเสนอข้อมูลต่างๆ มากมายในลักษณะหน้ากระดาษอิเล็กทรอนิกส์ ที่เรียกว่า เว็บเพจ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(Web Page)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ปรียบเสมือนหน้าหนังสือ หรือหน้านิตยสาร ซึ่งสามารถบรรจุข้อความ รูปภาพ และเสียงไว้ได้ด้วย โดยที่หน้าแรกของเว็บเพจ เรียกว่า โฮมเพจ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ome Page)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ซึ่งภาษาที่ใช้ในการเขียนเว็บเพจ ให้สามารถดูได้ในเวิลด์ไวด์เว็บ เรียกว่า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TML (Hypertext Markup Language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ccecff"/>
                </a:solidFill>
                <a:latin typeface="Arial"/>
              </a:rPr>
              <a:t>บริการรับส่งข่าวสารด้วย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- mail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คือการส่งข้อความหรือข่าวสารจากบุคคลหนึ่งไปยังบุคคลอื่นๆ ผ่านทางคอมพิวเตอร์และระบบเครือข่ายเหมือนกับการส่งจดหมาย แต่อยู่ในรูปแบบของสัญญาณข้อมูลที่เป็นอิเล็กทรอนิกส์ โดยเปลี่ยนการนำส่งจดหมายจากบุรุษไปรษณีย์มาเป็นโปรแกรม และเปลี่ยนจากการใช้เส้นทางจราจรคมนาคมทั่วไปมาเป็นช่องสัญญาณรูปแบบต่างๆ ที่เชื่อมต่อระหว่างเครือข่ายคอมพิวเตอร์ ซึ่งจะตรงเข้ามาสู่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ail Box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ที่ถูกจัดสรรใน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rver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ของผู้รับปลายทางทันที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th-TH" sz="4400" spc="-1" strike="noStrike">
                <a:solidFill>
                  <a:srgbClr val="ccecff"/>
                </a:solidFill>
                <a:latin typeface="Arial"/>
              </a:rPr>
              <a:t>จุดเด่นของอีเมล์</a:t>
            </a:r>
            <a:r>
              <a:rPr b="0" lang="th-TH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สามารถแนบไฟล์ข้อมูลอื่นๆ ไปกับอีเมล์ได้ ซึ่งไฟล์ที่ติดไปนั้นอาจจะเป็นไฟล์ภาพ ไฟล์โปรแกรม หรือไฟล์ข้อมูลก็ได้ เมื่อส่งอีเมล์ไปมันจะวิ่งไปยังปลายทาง ในแทบจะทันที ไม่ว่าปลายทางจะอยู่ห่างออกไปใกล้เพียงฝ่ามือหรือไกลสุดขอบโลกก็ตา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    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292720" y="4149720"/>
            <a:ext cx="3456000" cy="249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ccecff"/>
                </a:solidFill>
                <a:latin typeface="Arial"/>
              </a:rPr>
              <a:t>บริการส่งผ่านไฟล์ข้อมูลด้วย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TP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FTP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ย่อมาจากคำว่า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File Transfer Protocal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คือ มาตรฐานที่กำหนดใช้เพื่อการถ่ายโอนข้อมูลหรือการ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pload / Download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ข้อมูลบน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erne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ครับ โดยเราจะใช้โปรแกรมที่เรียกว่า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TP Client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มาช่วยในการ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pload / Download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ข้อมูลไปเก็บไว้ที่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erver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เช่น โปรแกรม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uteFTP, WS_FTP, FileZilla 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9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98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th-TH" sz="4000" spc="-1" strike="noStrike">
                <a:solidFill>
                  <a:srgbClr val="ffffff"/>
                </a:solidFill>
                <a:latin typeface="Verdana"/>
              </a:rPr>
              <a:t>ลักษณะเครือข่ายของ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TP</a:t>
            </a:r>
            <a:r>
              <a:rPr b="0" lang="th-TH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345440" cy="518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9:21:04Z</dcterms:created>
  <dc:creator>Administrator</dc:creator>
  <dc:description/>
  <dc:language>en-US</dc:language>
  <cp:lastModifiedBy>Administrator</cp:lastModifiedBy>
  <dcterms:modified xsi:type="dcterms:W3CDTF">2010-07-15T12:37:32Z</dcterms:modified>
  <cp:revision>12</cp:revision>
  <dc:subject/>
  <dc:title>ภาพนิ่ง 1</dc:title>
</cp:coreProperties>
</file>