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FC2A-C851-447D-B0F1-C96DEC434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D404-C838-48C1-AF7E-64D9396A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C750-11F5-4F8E-BA88-89BD1FC6D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9B27-E9B1-47B0-B4FD-486E69DE2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B21A-E563-4310-9F6B-F712DEAC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0C8F-5A5E-418C-A5EB-723BD86A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749A-7432-4F31-93F5-A06B4187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10D4-F386-4B31-AF58-6ED8D470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1BD8-7A55-4888-8ABA-1EEE52E6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E6A3-09FA-4427-8BF2-E75230D5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C9E1-57C0-41E0-9368-09CB59A1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3D45-A536-4D93-A350-8E6620AE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3DEA-774E-456E-AC45-6C7CBF17B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5000" y="271152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tatic Hazard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ynchronous Decoding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gh Level - Another 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714240" y="2273400"/>
            <a:ext cx="3289320" cy="37623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 flipH="1">
            <a:off x="7041600" y="2993760"/>
            <a:ext cx="679320" cy="1819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643800" y="23605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as a c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02320" y="4352760"/>
            <a:ext cx="1670040" cy="1157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90960" y="5079960"/>
            <a:ext cx="725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044680" y="4508640"/>
            <a:ext cx="11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65880" y="5021280"/>
            <a:ext cx="725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:4 Deco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67280" y="6095880"/>
            <a:ext cx="64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when the inputs goes from 01 to 1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835560" y="907920"/>
            <a:ext cx="7373520" cy="5048640"/>
            <a:chOff x="835560" y="907920"/>
            <a:chExt cx="7373520" cy="5048640"/>
          </a:xfrm>
        </p:grpSpPr>
        <p:sp>
          <p:nvSpPr>
            <p:cNvPr id="307" name=""/>
            <p:cNvSpPr/>
            <p:nvPr/>
          </p:nvSpPr>
          <p:spPr>
            <a:xfrm>
              <a:off x="7392960" y="1036800"/>
              <a:ext cx="816120" cy="46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1 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1 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0 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159080" y="1154160"/>
              <a:ext cx="952560" cy="706320"/>
            </a:xfrm>
            <a:prstGeom prst="flowChartDelay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162320" y="2451240"/>
              <a:ext cx="952560" cy="706320"/>
            </a:xfrm>
            <a:prstGeom prst="flowChartDelay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67360" y="3747960"/>
              <a:ext cx="952200" cy="706680"/>
            </a:xfrm>
            <a:prstGeom prst="flowChartDelay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162320" y="5054760"/>
              <a:ext cx="952560" cy="706320"/>
            </a:xfrm>
            <a:prstGeom prst="flowChartDelay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714840" y="1276200"/>
              <a:ext cx="4442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714840" y="1743120"/>
              <a:ext cx="4442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714840" y="3038400"/>
              <a:ext cx="4442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724200" y="4343400"/>
              <a:ext cx="444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714840" y="2571840"/>
              <a:ext cx="2617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24200" y="3867120"/>
              <a:ext cx="2620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714840" y="5172120"/>
              <a:ext cx="2617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714840" y="5648400"/>
              <a:ext cx="2617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111640" y="1503360"/>
              <a:ext cx="473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111640" y="2808360"/>
              <a:ext cx="473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121360" y="4094280"/>
              <a:ext cx="473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111640" y="5398920"/>
              <a:ext cx="473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976560" y="2473200"/>
              <a:ext cx="184320" cy="201600"/>
            </a:xfrm>
            <a:prstGeom prst="flowChartConnector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976560" y="3768840"/>
              <a:ext cx="184320" cy="201600"/>
            </a:xfrm>
            <a:prstGeom prst="flowChartConnector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976560" y="5064120"/>
              <a:ext cx="184320" cy="201600"/>
            </a:xfrm>
            <a:prstGeom prst="flowChartConnector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976560" y="5540400"/>
              <a:ext cx="184320" cy="201600"/>
            </a:xfrm>
            <a:prstGeom prst="flowChartConnector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24160" y="1276200"/>
              <a:ext cx="4906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44640" y="1743120"/>
              <a:ext cx="9702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224160" y="2571840"/>
              <a:ext cx="4906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35280" y="3029040"/>
              <a:ext cx="979560" cy="9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2762280" y="3867120"/>
              <a:ext cx="96192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236760" y="4344840"/>
              <a:ext cx="4906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54080" y="5173560"/>
              <a:ext cx="17654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954080" y="5641920"/>
              <a:ext cx="17654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24160" y="1266840"/>
              <a:ext cx="0" cy="3906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747880" y="1733400"/>
              <a:ext cx="0" cy="39070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584680" y="1503360"/>
              <a:ext cx="3924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84680" y="2808360"/>
              <a:ext cx="3924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584680" y="4094280"/>
              <a:ext cx="3924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584680" y="5398920"/>
              <a:ext cx="3924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800360" y="5043600"/>
              <a:ext cx="236520" cy="234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800360" y="5519880"/>
              <a:ext cx="236520" cy="234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29200" y="3979800"/>
              <a:ext cx="236520" cy="2365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29200" y="2693880"/>
              <a:ext cx="236520" cy="2365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29200" y="5275440"/>
              <a:ext cx="236520" cy="2365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929200" y="1379520"/>
              <a:ext cx="236520" cy="2365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622600" y="2919240"/>
              <a:ext cx="253800" cy="2448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622600" y="3747960"/>
              <a:ext cx="2538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622600" y="5519880"/>
              <a:ext cx="2538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98880" y="5043600"/>
              <a:ext cx="2538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098880" y="4224240"/>
              <a:ext cx="2538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98880" y="2443320"/>
              <a:ext cx="2538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5560" y="4662360"/>
              <a:ext cx="927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cc99"/>
                  </a:solidFill>
                  <a:latin typeface="Times New Roman"/>
                </a:rPr>
                <a:t>D 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5560" y="5253120"/>
              <a:ext cx="927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cc99"/>
                  </a:solidFill>
                  <a:latin typeface="Times New Roman"/>
                </a:rPr>
                <a:t>D 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87840" y="907920"/>
              <a:ext cx="477720" cy="90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692520" y="2198520"/>
              <a:ext cx="477720" cy="90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92520" y="3503520"/>
              <a:ext cx="477720" cy="90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692520" y="4789440"/>
              <a:ext cx="477720" cy="90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222800" y="1335240"/>
              <a:ext cx="84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AND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56200" y="2639880"/>
              <a:ext cx="97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AND 2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56200" y="3935520"/>
              <a:ext cx="97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AND 2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6200" y="5230800"/>
              <a:ext cx="97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AND 2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43680" y="1111320"/>
              <a:ext cx="561960" cy="43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12520" y="1268280"/>
              <a:ext cx="891000" cy="43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E Q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E Q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E Q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E Q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:4 Decoder with En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979560" y="1125360"/>
            <a:ext cx="7229520" cy="5260680"/>
            <a:chOff x="979560" y="1125360"/>
            <a:chExt cx="7229520" cy="5260680"/>
          </a:xfrm>
        </p:grpSpPr>
        <p:sp>
          <p:nvSpPr>
            <p:cNvPr id="368" name=""/>
            <p:cNvSpPr/>
            <p:nvPr/>
          </p:nvSpPr>
          <p:spPr>
            <a:xfrm>
              <a:off x="7392960" y="1371600"/>
              <a:ext cx="816120" cy="47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1 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1 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0 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19760" y="1528920"/>
              <a:ext cx="717480" cy="541080"/>
            </a:xfrm>
            <a:prstGeom prst="flowChartDelay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919760" y="2776680"/>
              <a:ext cx="717480" cy="541080"/>
            </a:xfrm>
            <a:prstGeom prst="flowChartDelay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919760" y="4119480"/>
              <a:ext cx="717480" cy="541440"/>
            </a:xfrm>
            <a:prstGeom prst="flowChartDelay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014800" y="5548320"/>
              <a:ext cx="717840" cy="541440"/>
            </a:xfrm>
            <a:prstGeom prst="flowChartDelay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45160" y="1790640"/>
              <a:ext cx="3668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645160" y="3048120"/>
              <a:ext cx="3668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645160" y="4390920"/>
              <a:ext cx="3668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40560" y="5829480"/>
              <a:ext cx="3664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87840" y="1442880"/>
              <a:ext cx="3319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587840" y="1795320"/>
              <a:ext cx="3319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87840" y="2147760"/>
              <a:ext cx="3319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587840" y="2690640"/>
              <a:ext cx="192240" cy="82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87840" y="3052800"/>
              <a:ext cx="3319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87840" y="3405240"/>
              <a:ext cx="3319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4597560" y="4022280"/>
              <a:ext cx="174600" cy="18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87840" y="4395960"/>
              <a:ext cx="3319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87840" y="4748040"/>
              <a:ext cx="3319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83240" y="5462640"/>
              <a:ext cx="191880" cy="79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673520" y="5824440"/>
              <a:ext cx="192240" cy="79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683240" y="6176880"/>
              <a:ext cx="33156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016600" y="5373720"/>
              <a:ext cx="0" cy="909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921200" y="3944880"/>
              <a:ext cx="0" cy="909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21200" y="2592360"/>
              <a:ext cx="0" cy="909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21200" y="1335240"/>
              <a:ext cx="0" cy="909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12000" y="1792440"/>
              <a:ext cx="323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12000" y="3049560"/>
              <a:ext cx="323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012000" y="4392720"/>
              <a:ext cx="323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107040" y="5830920"/>
              <a:ext cx="324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94160" y="1442880"/>
              <a:ext cx="11034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94160" y="3052800"/>
              <a:ext cx="11034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94160" y="4024440"/>
              <a:ext cx="11034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732040" y="5824440"/>
              <a:ext cx="19512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06840" y="5472000"/>
              <a:ext cx="19764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732040" y="6176880"/>
              <a:ext cx="19512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202280" y="4395960"/>
              <a:ext cx="395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852720" y="4748040"/>
              <a:ext cx="7448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52720" y="3405240"/>
              <a:ext cx="7448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52720" y="2147760"/>
              <a:ext cx="7448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202280" y="1795320"/>
              <a:ext cx="395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202280" y="2700360"/>
              <a:ext cx="395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495600" y="1433520"/>
              <a:ext cx="0" cy="4403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854520" y="2141640"/>
              <a:ext cx="0" cy="4062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4208400" y="1789200"/>
              <a:ext cx="7920" cy="36687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595600" y="5373720"/>
              <a:ext cx="174600" cy="1746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595600" y="5735520"/>
              <a:ext cx="174600" cy="1746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604960" y="6078600"/>
              <a:ext cx="174600" cy="1746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248520" y="1695600"/>
              <a:ext cx="191880" cy="1825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261120" y="2949480"/>
              <a:ext cx="182520" cy="1746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248520" y="4299120"/>
              <a:ext cx="182520" cy="1746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348240" y="5727600"/>
              <a:ext cx="182880" cy="1746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979560" y="5216400"/>
              <a:ext cx="1554120" cy="11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D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D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EN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41400" y="1125360"/>
              <a:ext cx="429120" cy="51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649480" y="1457280"/>
              <a:ext cx="429120" cy="44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444000" y="1579680"/>
              <a:ext cx="840600" cy="448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E Q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E Q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E Q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E Q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390840" y="2952720"/>
              <a:ext cx="192240" cy="1936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400560" y="3933720"/>
              <a:ext cx="191880" cy="1936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400560" y="5734080"/>
              <a:ext cx="191880" cy="1936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753000" y="6076800"/>
              <a:ext cx="191880" cy="1936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114800" y="5381640"/>
              <a:ext cx="192240" cy="1936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753000" y="4648320"/>
              <a:ext cx="191880" cy="1936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114800" y="4295880"/>
              <a:ext cx="192240" cy="1936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762360" y="3314880"/>
              <a:ext cx="192240" cy="193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14800" y="2600280"/>
              <a:ext cx="192240" cy="1936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903920" y="163188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AND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846680" y="2886120"/>
              <a:ext cx="97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AND 3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854600" y="4224240"/>
              <a:ext cx="97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AND 3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951440" y="5667480"/>
              <a:ext cx="97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AND 3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64240" y="2619360"/>
              <a:ext cx="156960" cy="158760"/>
            </a:xfrm>
            <a:prstGeom prst="ellipse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764240" y="3943440"/>
              <a:ext cx="156960" cy="158760"/>
            </a:xfrm>
            <a:prstGeom prst="ellipse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859280" y="5391000"/>
              <a:ext cx="157320" cy="158760"/>
            </a:xfrm>
            <a:prstGeom prst="ellipse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859280" y="5743440"/>
              <a:ext cx="157320" cy="158760"/>
            </a:xfrm>
            <a:prstGeom prst="ellipse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7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 Le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517160" y="193680"/>
            <a:ext cx="1460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000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001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010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011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100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101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110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111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00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01 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10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11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100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101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110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111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000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332400" y="4626000"/>
            <a:ext cx="12128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2400" y="5349960"/>
            <a:ext cx="12128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332400" y="6095880"/>
            <a:ext cx="12128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728600" y="2085840"/>
            <a:ext cx="25887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l coun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4-bit synchron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493560" y="927000"/>
            <a:ext cx="6319440" cy="5592960"/>
            <a:chOff x="493560" y="927000"/>
            <a:chExt cx="6319440" cy="5592960"/>
          </a:xfrm>
        </p:grpSpPr>
        <p:sp>
          <p:nvSpPr>
            <p:cNvPr id="447" name=""/>
            <p:cNvSpPr/>
            <p:nvPr/>
          </p:nvSpPr>
          <p:spPr>
            <a:xfrm>
              <a:off x="3059280" y="1049400"/>
              <a:ext cx="637920" cy="74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059280" y="2430360"/>
              <a:ext cx="637920" cy="741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059280" y="3811680"/>
              <a:ext cx="637920" cy="74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059280" y="5202360"/>
              <a:ext cx="637920" cy="74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348160" y="1311120"/>
              <a:ext cx="428760" cy="314640"/>
            </a:xfrm>
            <a:prstGeom prst="flowChartDelay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009880" y="1144440"/>
              <a:ext cx="103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019240" y="2535120"/>
              <a:ext cx="104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019240" y="3916440"/>
              <a:ext cx="104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019240" y="5307120"/>
              <a:ext cx="104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421000" y="1581120"/>
              <a:ext cx="636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21000" y="2962440"/>
              <a:ext cx="636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21000" y="4343400"/>
              <a:ext cx="636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89080" y="5724360"/>
              <a:ext cx="186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2643120" y="2204640"/>
              <a:ext cx="73980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2639880" y="3596760"/>
              <a:ext cx="73980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2644920" y="4971600"/>
              <a:ext cx="73980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208160" y="6365880"/>
              <a:ext cx="21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692520" y="1152360"/>
              <a:ext cx="165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62240" y="1365120"/>
              <a:ext cx="1292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82920" y="1577880"/>
              <a:ext cx="10670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487760" y="1790640"/>
              <a:ext cx="8492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3705120" y="5300640"/>
              <a:ext cx="80496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421000" y="1573200"/>
              <a:ext cx="0" cy="414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2641680" y="2198520"/>
              <a:ext cx="1440" cy="415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3381480" y="1878120"/>
              <a:ext cx="0" cy="34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3384720" y="3265560"/>
              <a:ext cx="1440" cy="35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3379680" y="4641840"/>
              <a:ext cx="1800" cy="35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382920" y="6027840"/>
              <a:ext cx="1800" cy="35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697200" y="2525760"/>
              <a:ext cx="374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01880" y="3909960"/>
              <a:ext cx="586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4061880" y="1353960"/>
              <a:ext cx="1800" cy="11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4292640" y="1585800"/>
              <a:ext cx="1440" cy="234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4497480" y="1782720"/>
              <a:ext cx="1440" cy="353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5347800" y="1089000"/>
              <a:ext cx="3240" cy="76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936800" y="2484360"/>
              <a:ext cx="112680" cy="114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932120" y="1090440"/>
              <a:ext cx="112680" cy="114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935000" y="3863880"/>
              <a:ext cx="113040" cy="114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928880" y="5240160"/>
              <a:ext cx="112680" cy="114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138320" y="5672160"/>
              <a:ext cx="112680" cy="114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139760" y="6310440"/>
              <a:ext cx="112680" cy="114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137280" y="1407960"/>
              <a:ext cx="112680" cy="114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84840" y="1468440"/>
              <a:ext cx="393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359080" y="2901960"/>
              <a:ext cx="12204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581200" y="3543480"/>
              <a:ext cx="122400" cy="122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357280" y="428148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579760" y="4921200"/>
              <a:ext cx="12204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357280" y="5667480"/>
              <a:ext cx="122400" cy="122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579760" y="6308640"/>
              <a:ext cx="12204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93560" y="5586480"/>
              <a:ext cx="697320" cy="93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LD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CL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5400000">
              <a:off x="3030480" y="5698800"/>
              <a:ext cx="122040" cy="748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5400000">
              <a:off x="3033000" y="4313160"/>
              <a:ext cx="122400" cy="745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5400000">
              <a:off x="3031560" y="2922480"/>
              <a:ext cx="122400" cy="745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5400000">
              <a:off x="3033000" y="1542960"/>
              <a:ext cx="122400" cy="745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346560" y="1790640"/>
              <a:ext cx="74520" cy="795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340080" y="3174840"/>
              <a:ext cx="74520" cy="795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340080" y="4556160"/>
              <a:ext cx="74520" cy="79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338640" y="5943600"/>
              <a:ext cx="74520" cy="79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2979720" y="1009800"/>
              <a:ext cx="806400" cy="842040"/>
              <a:chOff x="2979720" y="1009800"/>
              <a:chExt cx="806400" cy="842040"/>
            </a:xfrm>
          </p:grpSpPr>
          <p:sp>
            <p:nvSpPr>
              <p:cNvPr id="505" name=""/>
              <p:cNvSpPr/>
              <p:nvPr/>
            </p:nvSpPr>
            <p:spPr>
              <a:xfrm>
                <a:off x="2979720" y="1009800"/>
                <a:ext cx="806400" cy="84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5158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5158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FC1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5158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5158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L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051000" y="1405080"/>
                <a:ext cx="485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L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2981160" y="2386080"/>
              <a:ext cx="806400" cy="842040"/>
              <a:chOff x="2981160" y="2386080"/>
              <a:chExt cx="806400" cy="842040"/>
            </a:xfrm>
          </p:grpSpPr>
          <p:sp>
            <p:nvSpPr>
              <p:cNvPr id="508" name=""/>
              <p:cNvSpPr/>
              <p:nvPr/>
            </p:nvSpPr>
            <p:spPr>
              <a:xfrm>
                <a:off x="2981160" y="2386080"/>
                <a:ext cx="806400" cy="84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5158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5158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FC1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5158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5158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L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052440" y="2781360"/>
                <a:ext cx="485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L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2979720" y="3768840"/>
              <a:ext cx="806400" cy="842040"/>
              <a:chOff x="2979720" y="3768840"/>
              <a:chExt cx="806400" cy="842040"/>
            </a:xfrm>
          </p:grpSpPr>
          <p:sp>
            <p:nvSpPr>
              <p:cNvPr id="511" name=""/>
              <p:cNvSpPr/>
              <p:nvPr/>
            </p:nvSpPr>
            <p:spPr>
              <a:xfrm>
                <a:off x="2979720" y="3768840"/>
                <a:ext cx="806400" cy="84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5158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5158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FC1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5158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5158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L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051000" y="4164120"/>
                <a:ext cx="485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L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2990880" y="5164200"/>
              <a:ext cx="806400" cy="842040"/>
              <a:chOff x="2990880" y="5164200"/>
              <a:chExt cx="806400" cy="842040"/>
            </a:xfrm>
          </p:grpSpPr>
          <p:sp>
            <p:nvSpPr>
              <p:cNvPr id="514" name=""/>
              <p:cNvSpPr/>
              <p:nvPr/>
            </p:nvSpPr>
            <p:spPr>
              <a:xfrm>
                <a:off x="2990880" y="5164200"/>
                <a:ext cx="806400" cy="84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5158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5158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FC1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5158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5158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L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061800" y="5559480"/>
                <a:ext cx="485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L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6" name=""/>
            <p:cNvSpPr/>
            <p:nvPr/>
          </p:nvSpPr>
          <p:spPr>
            <a:xfrm>
              <a:off x="5076720" y="927000"/>
              <a:ext cx="290520" cy="93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282280" y="1346040"/>
              <a:ext cx="55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ND 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775120" y="12286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234480" y="1319040"/>
              <a:ext cx="578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C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ynchronous Decoding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litch Gene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541600" y="1949400"/>
            <a:ext cx="422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011111111111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10000000000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111111110111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11111111100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85960" y="5154480"/>
            <a:ext cx="722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of unequal propagation delays, the sequence can momentarily go through state 11111111111111 generating a glit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125360" y="251136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093680" y="414828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1977480" y="304920"/>
            <a:ext cx="563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coder Output Used As C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470800" y="62485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067520" cy="461160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382320" y="617220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Erickson, MAPLD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47720" y="15084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rcRect l="20368" t="17081" r="24837" b="35028"/>
          <a:stretch/>
        </p:blipFill>
        <p:spPr>
          <a:xfrm>
            <a:off x="403200" y="1436760"/>
            <a:ext cx="7462800" cy="396396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 flipH="1">
            <a:off x="7675200" y="3871080"/>
            <a:ext cx="427680" cy="611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018200" y="2879640"/>
            <a:ext cx="1914840" cy="984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synchronous decode used as a clo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1472400" y="1271520"/>
            <a:ext cx="1177920" cy="78408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141640" y="882720"/>
            <a:ext cx="3390840" cy="6048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Global Clock converted to local clock and fed to drive shift regis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62120" y="5611680"/>
            <a:ext cx="77738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er unaware that a parallel asynchronous decode may glitch.  Relied on back-annotated logic simulation.  This construct appears repeated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47720" y="247320"/>
            <a:ext cx="777240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c Hazard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Design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915840" y="4968720"/>
            <a:ext cx="532080" cy="92088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317680" y="4976640"/>
            <a:ext cx="47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MR Triplet             Majority Vo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3040" y="5961240"/>
            <a:ext cx="23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igh-skew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663480" y="1590840"/>
            <a:ext cx="7647120" cy="4161960"/>
            <a:chOff x="663480" y="1590840"/>
            <a:chExt cx="7647120" cy="4161960"/>
          </a:xfrm>
        </p:grpSpPr>
        <p:sp>
          <p:nvSpPr>
            <p:cNvPr id="541" name=""/>
            <p:cNvSpPr/>
            <p:nvPr/>
          </p:nvSpPr>
          <p:spPr>
            <a:xfrm flipH="1" flipV="1">
              <a:off x="6918120" y="4601880"/>
              <a:ext cx="664920" cy="11509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405320" y="3514680"/>
              <a:ext cx="92160" cy="100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3" name=""/>
            <p:cNvGrpSpPr/>
            <p:nvPr/>
          </p:nvGrpSpPr>
          <p:grpSpPr>
            <a:xfrm>
              <a:off x="2962080" y="1590840"/>
              <a:ext cx="806400" cy="728640"/>
              <a:chOff x="2962080" y="1590840"/>
              <a:chExt cx="806400" cy="728640"/>
            </a:xfrm>
          </p:grpSpPr>
          <p:sp>
            <p:nvSpPr>
              <p:cNvPr id="544" name=""/>
              <p:cNvSpPr/>
              <p:nvPr/>
            </p:nvSpPr>
            <p:spPr>
              <a:xfrm>
                <a:off x="3041640" y="1627200"/>
                <a:ext cx="638280" cy="673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5400000">
                <a:off x="3021480" y="2139120"/>
                <a:ext cx="111240" cy="745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962080" y="1590840"/>
                <a:ext cx="80640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5158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5158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F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031920" y="2043000"/>
                <a:ext cx="485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L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2965320" y="2913120"/>
              <a:ext cx="806400" cy="728640"/>
              <a:chOff x="2965320" y="2913120"/>
              <a:chExt cx="806400" cy="728640"/>
            </a:xfrm>
          </p:grpSpPr>
          <p:sp>
            <p:nvSpPr>
              <p:cNvPr id="549" name=""/>
              <p:cNvSpPr/>
              <p:nvPr/>
            </p:nvSpPr>
            <p:spPr>
              <a:xfrm>
                <a:off x="3044880" y="2949480"/>
                <a:ext cx="638280" cy="673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5400000">
                <a:off x="3024720" y="3461400"/>
                <a:ext cx="111240" cy="745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965320" y="2913120"/>
                <a:ext cx="80640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5158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5158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F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035160" y="3365280"/>
                <a:ext cx="485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L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2960640" y="4237200"/>
              <a:ext cx="806400" cy="728640"/>
              <a:chOff x="2960640" y="4237200"/>
              <a:chExt cx="806400" cy="728640"/>
            </a:xfrm>
          </p:grpSpPr>
          <p:sp>
            <p:nvSpPr>
              <p:cNvPr id="554" name=""/>
              <p:cNvSpPr/>
              <p:nvPr/>
            </p:nvSpPr>
            <p:spPr>
              <a:xfrm>
                <a:off x="3040200" y="4273560"/>
                <a:ext cx="638280" cy="673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rot="5400000">
                <a:off x="3020040" y="4785480"/>
                <a:ext cx="111240" cy="745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960640" y="4237200"/>
                <a:ext cx="80640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5158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5158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F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030480" y="4689360"/>
                <a:ext cx="485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L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7348320" y="3903840"/>
              <a:ext cx="806400" cy="728640"/>
              <a:chOff x="7348320" y="3903840"/>
              <a:chExt cx="806400" cy="728640"/>
            </a:xfrm>
          </p:grpSpPr>
          <p:sp>
            <p:nvSpPr>
              <p:cNvPr id="559" name=""/>
              <p:cNvSpPr/>
              <p:nvPr/>
            </p:nvSpPr>
            <p:spPr>
              <a:xfrm>
                <a:off x="7427880" y="3940200"/>
                <a:ext cx="638280" cy="673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5400000">
                <a:off x="7407720" y="4452120"/>
                <a:ext cx="111240" cy="745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348320" y="3903840"/>
                <a:ext cx="80640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5158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5158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F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418160" y="4356000"/>
                <a:ext cx="485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L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3" name=""/>
            <p:cNvSpPr/>
            <p:nvPr/>
          </p:nvSpPr>
          <p:spPr>
            <a:xfrm rot="16200000">
              <a:off x="5338800" y="4273200"/>
              <a:ext cx="873000" cy="428760"/>
            </a:xfrm>
            <a:custGeom>
              <a:avLst/>
              <a:gdLst>
                <a:gd name="textAreaLeft" fmla="*/ 191880 w 873000"/>
                <a:gd name="textAreaRight" fmla="*/ 681120 w 873000"/>
                <a:gd name="textAreaTop" fmla="*/ 94320 h 428760"/>
                <a:gd name="textAreaBottom" fmla="*/ 334440 h 4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726840" y="1746360"/>
              <a:ext cx="2314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881680" y="1738440"/>
              <a:ext cx="0" cy="249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3678120" y="3067200"/>
              <a:ext cx="19843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3681360" y="4381560"/>
              <a:ext cx="18716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5992920" y="4490640"/>
              <a:ext cx="1425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457880" y="4811760"/>
              <a:ext cx="109368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6647040" y="4053960"/>
              <a:ext cx="7887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780080" y="4156200"/>
              <a:ext cx="78876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2014560" y="3057120"/>
              <a:ext cx="102384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601640" y="4819680"/>
              <a:ext cx="143352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06320" y="4818240"/>
              <a:ext cx="68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459160" y="3503520"/>
              <a:ext cx="58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2481120" y="2177640"/>
              <a:ext cx="57816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038320" y="4375080"/>
              <a:ext cx="100800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 flipV="1">
              <a:off x="2036880" y="1738440"/>
              <a:ext cx="9360" cy="2657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2487600" y="2196720"/>
              <a:ext cx="0" cy="264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 flipV="1">
              <a:off x="4457880" y="3632040"/>
              <a:ext cx="1440" cy="12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4778280" y="4160880"/>
              <a:ext cx="4680" cy="110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flipV="1">
              <a:off x="5651640" y="3057120"/>
              <a:ext cx="2880" cy="10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 flipV="1">
              <a:off x="6641640" y="3298320"/>
              <a:ext cx="3240" cy="77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066160" y="4054320"/>
              <a:ext cx="244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3676320" y="1741320"/>
              <a:ext cx="22194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102280" y="4608360"/>
              <a:ext cx="447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5102280" y="4404960"/>
              <a:ext cx="1440" cy="21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63480" y="1695600"/>
              <a:ext cx="104760" cy="104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68160" y="4775040"/>
              <a:ext cx="105120" cy="104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589800" y="3233880"/>
              <a:ext cx="104760" cy="104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984320" y="1685880"/>
              <a:ext cx="11268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979640" y="3006720"/>
              <a:ext cx="1126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428920" y="3452760"/>
              <a:ext cx="1126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428920" y="4764240"/>
              <a:ext cx="11268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48280" y="4327560"/>
              <a:ext cx="11268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5400000">
              <a:off x="1364400" y="4718880"/>
              <a:ext cx="217440" cy="2095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055520" y="4603680"/>
              <a:ext cx="85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254120" y="3298680"/>
              <a:ext cx="49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381200" y="36180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989320" y="42861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701960" y="49593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586040" y="5286240"/>
              <a:ext cx="50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178600" y="3941640"/>
              <a:ext cx="366480" cy="93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602680" y="3890880"/>
              <a:ext cx="57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1    S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4683240" y="5261040"/>
              <a:ext cx="209520" cy="93600"/>
              <a:chOff x="4683240" y="5261040"/>
              <a:chExt cx="209520" cy="93600"/>
            </a:xfrm>
          </p:grpSpPr>
          <p:sp>
            <p:nvSpPr>
              <p:cNvPr id="606" name=""/>
              <p:cNvSpPr/>
              <p:nvPr/>
            </p:nvSpPr>
            <p:spPr>
              <a:xfrm>
                <a:off x="4683240" y="5261040"/>
                <a:ext cx="209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708440" y="5286600"/>
                <a:ext cx="150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734000" y="5311800"/>
                <a:ext cx="9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749840" y="5337360"/>
                <a:ext cx="67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775040" y="5354640"/>
                <a:ext cx="1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47720" y="247320"/>
            <a:ext cx="777240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c Hazard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Design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25600" y="1290600"/>
            <a:ext cx="8224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e is needed when using TMR circuits. First, the output of the voter may be susceptible to a logic hazard “glitch.” This is not a problem if the TMR is feeding the input of another synchronous input. However, the TMR output should never feed asynchronous inputs such as flip-flop clocks, clears, sets, read/write input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55880" y="4978440"/>
            <a:ext cx="852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Design Techniques for Radiation-Hardened FPGA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Actel Corporation, September 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-- based on “SEU Hardening of Field Programmable Gate Arrays (FPGAs) for 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Applications and Device Characterization,” R. Katz, R. Barto, et. al., IEEE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on Nuclear  Science, Dec. 1994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47720" y="247320"/>
            <a:ext cx="777240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Haz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25600" y="1265400"/>
            <a:ext cx="8224560" cy="50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have covered static hazards.  There are also dynamic hazards.  An example of a dynamic hazard would be when a circuit is supposed to switch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0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instead swit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0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1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0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circuit that is static hazard free is also dynamic hazard f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change of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riable causes a momentary change in other variables, which should not occur, the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tic haz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aid to ex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, after switching an input, the output has multiple transitions for a short time, the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ynamic haz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ists.  For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/B:  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S:   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9800" y="6310440"/>
            <a:ext cx="84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Reference: </a:t>
            </a:r>
            <a:r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Analysis and Design of Digital Circuits and Computer Systems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, Paul M. Chirlian, 19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3127" t="17930" r="35937" b="60756"/>
          <a:stretch/>
        </p:blipFill>
        <p:spPr>
          <a:xfrm>
            <a:off x="457200" y="3797280"/>
            <a:ext cx="8305920" cy="2111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1800" y="16200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c Haz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27200" y="2577960"/>
            <a:ext cx="36507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:1 Mux implement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d Sum-of-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6960" y="6154560"/>
            <a:ext cx="3268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lized matched del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75280" y="-692640"/>
            <a:ext cx="7751880" cy="5500440"/>
            <a:chOff x="575280" y="-692640"/>
            <a:chExt cx="7751880" cy="5500440"/>
          </a:xfrm>
        </p:grpSpPr>
        <p:sp>
          <p:nvSpPr>
            <p:cNvPr id="50" name=""/>
            <p:cNvSpPr/>
            <p:nvPr/>
          </p:nvSpPr>
          <p:spPr>
            <a:xfrm>
              <a:off x="2946240" y="1049400"/>
              <a:ext cx="803520" cy="601560"/>
            </a:xfrm>
            <a:prstGeom prst="flowChartDelay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946240" y="2668680"/>
              <a:ext cx="803520" cy="601560"/>
            </a:xfrm>
            <a:prstGeom prst="flowChartDelay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79560" y="2682720"/>
              <a:ext cx="157320" cy="157320"/>
            </a:xfrm>
            <a:prstGeom prst="ellipse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27160" y="2665440"/>
              <a:ext cx="201600" cy="2001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014480" y="3067200"/>
              <a:ext cx="191880" cy="2095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2680" y="2655720"/>
              <a:ext cx="201600" cy="209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14480" y="1039680"/>
              <a:ext cx="199800" cy="2095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91400" y="1947960"/>
              <a:ext cx="208080" cy="2109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54160" y="1144440"/>
              <a:ext cx="13968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44440" y="2763720"/>
              <a:ext cx="13971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44440" y="3173400"/>
              <a:ext cx="13971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31920" y="1555920"/>
              <a:ext cx="0" cy="1204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22560" y="1547640"/>
              <a:ext cx="420480" cy="8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41800" y="1353960"/>
              <a:ext cx="8301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41800" y="2973240"/>
              <a:ext cx="8301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62600" y="1346040"/>
              <a:ext cx="0" cy="514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954680" y="1860480"/>
              <a:ext cx="4204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954680" y="2251080"/>
              <a:ext cx="4204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962600" y="2246400"/>
              <a:ext cx="0" cy="741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991200" y="2062080"/>
              <a:ext cx="7430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550960" y="1146240"/>
              <a:ext cx="3938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41600" y="1555920"/>
              <a:ext cx="3938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541600" y="3174840"/>
              <a:ext cx="3938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44840" y="2749680"/>
              <a:ext cx="226800" cy="79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757680" y="1353960"/>
              <a:ext cx="3841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757680" y="2973240"/>
              <a:ext cx="3841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78400" y="1857240"/>
              <a:ext cx="40176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78400" y="2257560"/>
              <a:ext cx="40176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588000" y="2060640"/>
              <a:ext cx="40176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5219280" y="-692640"/>
              <a:ext cx="1704240" cy="5500440"/>
              <a:chOff x="5219280" y="-692640"/>
              <a:chExt cx="1704240" cy="5500440"/>
            </a:xfrm>
          </p:grpSpPr>
          <p:sp>
            <p:nvSpPr>
              <p:cNvPr id="80" name=""/>
              <p:cNvSpPr/>
              <p:nvPr/>
            </p:nvSpPr>
            <p:spPr>
              <a:xfrm>
                <a:off x="5296680" y="1757520"/>
                <a:ext cx="1626840" cy="30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21907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2190797"/>
                  </a:path>
                </a:pathLst>
              </a:custGeom>
              <a:noFill/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5296680" y="-693000"/>
                <a:ext cx="1626840" cy="3051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21907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2190797"/>
                  </a:path>
                </a:pathLst>
              </a:custGeom>
              <a:noFill/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219280" y="1703160"/>
                <a:ext cx="606600" cy="707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399" y="1565"/>
                    </a:moveTo>
                    <a:arcTo wR="10800" hR="10800" stAng="-3526254" swAng="718671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399" y="1565"/>
                    </a:moveTo>
                    <a:arcTo wR="10800" hR="10800" stAng="-3526254" swAng="7186714"/>
                  </a:path>
                </a:pathLst>
              </a:custGeom>
              <a:noFill/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680080" y="1755720"/>
                <a:ext cx="42876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5672160" y="2360160"/>
                <a:ext cx="444600" cy="972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575280" y="843120"/>
              <a:ext cx="436680" cy="25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30440" y="792000"/>
              <a:ext cx="365040" cy="24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760920" y="1012680"/>
              <a:ext cx="1198440" cy="20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Y</a:t>
              </a: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X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Y</a:t>
              </a: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X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389560" y="1544760"/>
              <a:ext cx="365040" cy="79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11760" y="17272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926840" y="1682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04920" y="4437000"/>
            <a:ext cx="8534160" cy="1950840"/>
            <a:chOff x="304920" y="4437000"/>
            <a:chExt cx="8534160" cy="1950840"/>
          </a:xfrm>
        </p:grpSpPr>
        <p:pic>
          <p:nvPicPr>
            <p:cNvPr id="92" name="" descr=""/>
            <p:cNvPicPr/>
            <p:nvPr/>
          </p:nvPicPr>
          <p:blipFill>
            <a:blip r:embed="rId1"/>
            <a:srcRect l="3127" t="18169" r="9376" b="61833"/>
            <a:stretch/>
          </p:blipFill>
          <p:spPr>
            <a:xfrm>
              <a:off x="304920" y="4437000"/>
              <a:ext cx="8534160" cy="14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 flipV="1">
              <a:off x="1828800" y="5778360"/>
              <a:ext cx="609480" cy="6094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5943600" y="5778360"/>
              <a:ext cx="609480" cy="6094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600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c Haz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12520" y="968400"/>
            <a:ext cx="35974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 circuits, delays don'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ly match; Added d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illu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1440" y="714960"/>
            <a:ext cx="8320320" cy="4690800"/>
            <a:chOff x="451440" y="714960"/>
            <a:chExt cx="8320320" cy="4690800"/>
          </a:xfrm>
        </p:grpSpPr>
        <p:sp>
          <p:nvSpPr>
            <p:cNvPr id="98" name=""/>
            <p:cNvSpPr/>
            <p:nvPr/>
          </p:nvSpPr>
          <p:spPr>
            <a:xfrm>
              <a:off x="4106880" y="2200320"/>
              <a:ext cx="687240" cy="512640"/>
            </a:xfrm>
            <a:prstGeom prst="flowChartDelay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06880" y="3581280"/>
              <a:ext cx="687240" cy="513000"/>
            </a:xfrm>
            <a:prstGeom prst="flowChartDelay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963960" y="3594240"/>
              <a:ext cx="135000" cy="133200"/>
            </a:xfrm>
            <a:prstGeom prst="ellipse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03520" y="3578400"/>
              <a:ext cx="172800" cy="1713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44560" y="3913200"/>
              <a:ext cx="165240" cy="179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43120" y="3570120"/>
              <a:ext cx="172800" cy="179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46000" y="2192400"/>
              <a:ext cx="171720" cy="179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40680" y="2975040"/>
              <a:ext cx="177840" cy="179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947880" y="2281320"/>
              <a:ext cx="2820960" cy="9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30240" y="3662280"/>
              <a:ext cx="11955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65160" y="4003560"/>
              <a:ext cx="279396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784520" y="2620800"/>
              <a:ext cx="0" cy="1027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1776240" y="2622240"/>
              <a:ext cx="198468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29280" y="2460600"/>
              <a:ext cx="711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29280" y="3841920"/>
              <a:ext cx="711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32360" y="2454120"/>
              <a:ext cx="0" cy="4478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826240" y="2892600"/>
              <a:ext cx="3585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826240" y="3225960"/>
              <a:ext cx="3585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32360" y="3220920"/>
              <a:ext cx="0" cy="63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69360" y="3054240"/>
              <a:ext cx="6346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68840" y="2282760"/>
              <a:ext cx="33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59120" y="2631960"/>
              <a:ext cx="33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59120" y="4013280"/>
              <a:ext cx="33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762360" y="3649680"/>
              <a:ext cx="195120" cy="79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00600" y="2460600"/>
              <a:ext cx="328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00600" y="3841920"/>
              <a:ext cx="328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88040" y="2889360"/>
              <a:ext cx="3445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88040" y="3220920"/>
              <a:ext cx="3445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23040" y="3062160"/>
              <a:ext cx="3445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6052320" y="714960"/>
              <a:ext cx="1458360" cy="4690800"/>
              <a:chOff x="6052320" y="714960"/>
              <a:chExt cx="1458360" cy="4690800"/>
            </a:xfrm>
          </p:grpSpPr>
          <p:sp>
            <p:nvSpPr>
              <p:cNvPr id="128" name=""/>
              <p:cNvSpPr/>
              <p:nvPr/>
            </p:nvSpPr>
            <p:spPr>
              <a:xfrm>
                <a:off x="6118560" y="2804040"/>
                <a:ext cx="1392120" cy="2601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21907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2190797"/>
                  </a:path>
                </a:pathLst>
              </a:custGeom>
              <a:noFill/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118560" y="714600"/>
                <a:ext cx="1392120" cy="2602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21907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2190797"/>
                  </a:path>
                </a:pathLst>
              </a:custGeom>
              <a:noFill/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052320" y="2757960"/>
                <a:ext cx="518760" cy="60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399" y="1565"/>
                    </a:moveTo>
                    <a:arcTo wR="10800" hR="10800" stAng="-3526254" swAng="718671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399" y="1565"/>
                    </a:moveTo>
                    <a:arcTo wR="10800" hR="10800" stAng="-3526254" swAng="7186714"/>
                  </a:path>
                </a:pathLst>
              </a:custGeom>
              <a:noFill/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446520" y="2802600"/>
                <a:ext cx="36684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6439680" y="3318120"/>
                <a:ext cx="380520" cy="828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451440" y="1882800"/>
              <a:ext cx="436680" cy="23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49400" y="1981080"/>
              <a:ext cx="365040" cy="21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794120" y="2131920"/>
              <a:ext cx="1025640" cy="18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0176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Y</a:t>
              </a: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X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0176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0176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0176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40176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Y</a:t>
              </a: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X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70400" y="2587680"/>
              <a:ext cx="3650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02520" y="27496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71440" y="2741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14640" y="3660840"/>
              <a:ext cx="3664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5400000">
              <a:off x="2482920" y="3486240"/>
              <a:ext cx="349200" cy="34920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32120" y="3654360"/>
              <a:ext cx="333360" cy="79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64040" y="3660840"/>
              <a:ext cx="603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25360" y="3335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98000" y="3208320"/>
              <a:ext cx="98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</a:rPr>
                <a:t>S 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81320" y="3313080"/>
              <a:ext cx="673200" cy="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95080" y="3549600"/>
              <a:ext cx="467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333cc"/>
                  </a:solidFill>
                  <a:latin typeface="Times New Roman"/>
                </a:rPr>
                <a:t>BUF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12280" y="2311560"/>
              <a:ext cx="69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AND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33080" y="3678120"/>
              <a:ext cx="87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AND 2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54880" y="2908440"/>
              <a:ext cx="56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OR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35120" y="196560"/>
            <a:ext cx="777240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c Haz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62120" y="1762200"/>
            <a:ext cx="7727760" cy="4575240"/>
            <a:chOff x="762120" y="1762200"/>
            <a:chExt cx="7727760" cy="4575240"/>
          </a:xfrm>
        </p:grpSpPr>
        <p:pic>
          <p:nvPicPr>
            <p:cNvPr id="152" name="" descr=""/>
            <p:cNvPicPr/>
            <p:nvPr/>
          </p:nvPicPr>
          <p:blipFill>
            <a:blip r:embed="rId1"/>
            <a:srcRect l="3127" t="18860" r="48440" b="59679"/>
            <a:stretch/>
          </p:blipFill>
          <p:spPr>
            <a:xfrm>
              <a:off x="762120" y="1762200"/>
              <a:ext cx="7619760" cy="24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7505640" y="4038480"/>
              <a:ext cx="0" cy="22860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99080" y="5257800"/>
              <a:ext cx="16761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7505640" y="5257800"/>
              <a:ext cx="98424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348240" y="3733920"/>
              <a:ext cx="11829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43560" y="3522600"/>
              <a:ext cx="0" cy="2444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24720" y="3497400"/>
              <a:ext cx="0" cy="2444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81680" y="4994280"/>
              <a:ext cx="31676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 now have a "glitch."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50040" y="4051440"/>
              <a:ext cx="0" cy="22860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536040" y="6094440"/>
            <a:ext cx="36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waveform, zoomed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35120" y="196560"/>
            <a:ext cx="777240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c Haz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276640" y="2433600"/>
            <a:ext cx="4872960" cy="2517840"/>
            <a:chOff x="2276640" y="2433600"/>
            <a:chExt cx="4872960" cy="2517840"/>
          </a:xfrm>
        </p:grpSpPr>
        <p:sp>
          <p:nvSpPr>
            <p:cNvPr id="164" name=""/>
            <p:cNvSpPr/>
            <p:nvPr/>
          </p:nvSpPr>
          <p:spPr>
            <a:xfrm>
              <a:off x="2906640" y="2436840"/>
              <a:ext cx="0" cy="2486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276640" y="2994120"/>
              <a:ext cx="486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89240" y="3946680"/>
              <a:ext cx="4825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01840" y="4937040"/>
              <a:ext cx="4847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25800" y="2465280"/>
              <a:ext cx="0" cy="2486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64040" y="2452680"/>
              <a:ext cx="0" cy="2486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64200" y="2433600"/>
              <a:ext cx="0" cy="2486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07120" y="2438280"/>
              <a:ext cx="0" cy="2473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690560" y="3236760"/>
            <a:ext cx="6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08200" y="4130640"/>
            <a:ext cx="6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9120" y="23986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31000" y="2389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48440" y="2365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99280" y="23781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2920" y="1771560"/>
            <a:ext cx="6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57640" y="418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76800" y="4173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02520" y="4173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21680" y="416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57640" y="319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76800" y="3182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02520" y="3182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21680" y="317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08560" y="4168800"/>
            <a:ext cx="1521000" cy="482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11640" y="3208320"/>
            <a:ext cx="1521000" cy="482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48760" y="5451480"/>
            <a:ext cx="7758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lustrating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inimiz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nction on a Karnaugh m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two 2-input AND gates are needed for the product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35120" y="196560"/>
            <a:ext cx="777240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c Haz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2276640" y="2433600"/>
            <a:ext cx="4872960" cy="2517840"/>
            <a:chOff x="2276640" y="2433600"/>
            <a:chExt cx="4872960" cy="2517840"/>
          </a:xfrm>
        </p:grpSpPr>
        <p:sp>
          <p:nvSpPr>
            <p:cNvPr id="192" name=""/>
            <p:cNvSpPr/>
            <p:nvPr/>
          </p:nvSpPr>
          <p:spPr>
            <a:xfrm>
              <a:off x="2906640" y="2436840"/>
              <a:ext cx="0" cy="2486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76640" y="2994120"/>
              <a:ext cx="486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89240" y="3946680"/>
              <a:ext cx="4825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01840" y="4937040"/>
              <a:ext cx="4847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25800" y="2465280"/>
              <a:ext cx="0" cy="2486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64040" y="2452680"/>
              <a:ext cx="0" cy="2486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64200" y="2433600"/>
              <a:ext cx="0" cy="2486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07120" y="2438280"/>
              <a:ext cx="0" cy="2473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3129120" y="23986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31000" y="2389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48440" y="2365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99280" y="23781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42920" y="1771560"/>
            <a:ext cx="6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57640" y="418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76800" y="4173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02520" y="4173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21680" y="416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57640" y="319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76800" y="3182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02520" y="3182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21680" y="317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08560" y="4168800"/>
            <a:ext cx="1521000" cy="482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11640" y="3208320"/>
            <a:ext cx="1521000" cy="482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95880" y="3081240"/>
            <a:ext cx="655560" cy="1719360"/>
          </a:xfrm>
          <a:custGeom>
            <a:avLst/>
            <a:gdLst>
              <a:gd name="textAreaLeft" fmla="*/ 31680 w 655560"/>
              <a:gd name="textAreaRight" fmla="*/ 623880 w 655560"/>
              <a:gd name="textAreaTop" fmla="*/ 31680 h 1719360"/>
              <a:gd name="textAreaBottom" fmla="*/ 1687680 h 1719360"/>
            </a:gdLst>
            <a:ahLst/>
            <a:rect l="textAreaLeft" t="textAreaTop" r="textAreaRight" b="textAreaBottom"/>
            <a:pathLst>
              <a:path w="21600" h="56632">
                <a:moveTo>
                  <a:pt x="3600" y="0"/>
                </a:moveTo>
                <a:arcTo wR="3600" hR="3600" stAng="16200000" swAng="-5400000"/>
                <a:lnTo>
                  <a:pt x="0" y="53032"/>
                </a:lnTo>
                <a:arcTo wR="3600" hR="3600" stAng="10800000" swAng="-5400000"/>
                <a:lnTo>
                  <a:pt x="18000" y="566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26520" y="5500800"/>
            <a:ext cx="72338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lue oval shows the redundant term used to cove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 between product te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90560" y="3236760"/>
            <a:ext cx="6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708200" y="4130640"/>
            <a:ext cx="6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35120" y="196560"/>
            <a:ext cx="777240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c Haz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3127" t="13799" r="49854" b="55401"/>
          <a:stretch/>
        </p:blipFill>
        <p:spPr>
          <a:xfrm>
            <a:off x="1284120" y="4227480"/>
            <a:ext cx="6751800" cy="2359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829480" y="2679840"/>
            <a:ext cx="32382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an we verify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 and ope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‘redundant’ ga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10240" y="-89640"/>
            <a:ext cx="8363160" cy="4487760"/>
            <a:chOff x="210240" y="-89640"/>
            <a:chExt cx="8363160" cy="4487760"/>
          </a:xfrm>
        </p:grpSpPr>
        <p:sp>
          <p:nvSpPr>
            <p:cNvPr id="223" name=""/>
            <p:cNvSpPr/>
            <p:nvPr/>
          </p:nvSpPr>
          <p:spPr>
            <a:xfrm>
              <a:off x="2534760" y="2130480"/>
              <a:ext cx="98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</a:rPr>
                <a:t>S 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13040" y="2478240"/>
              <a:ext cx="657360" cy="490320"/>
            </a:xfrm>
            <a:prstGeom prst="flowChartDelay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379680" y="2890800"/>
              <a:ext cx="3240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340080" y="928800"/>
              <a:ext cx="365040" cy="31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08360" y="2573280"/>
              <a:ext cx="5792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11640" y="1511280"/>
              <a:ext cx="36504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70400" y="1092240"/>
              <a:ext cx="982800" cy="27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0176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Y</a:t>
              </a: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X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0176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0176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0176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40176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Y</a:t>
              </a: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X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40176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40176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40176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Y</a:t>
              </a: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X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13040" y="1157400"/>
              <a:ext cx="657360" cy="490320"/>
            </a:xfrm>
            <a:prstGeom prst="flowChartDelay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565440" y="2508120"/>
              <a:ext cx="130320" cy="127080"/>
            </a:xfrm>
            <a:prstGeom prst="ellipse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566720" y="2484360"/>
              <a:ext cx="165240" cy="163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7800" y="2813040"/>
              <a:ext cx="157320" cy="171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7800" y="2475000"/>
              <a:ext cx="165240" cy="171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8960" y="1149480"/>
              <a:ext cx="163440" cy="1728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962840" y="2075040"/>
              <a:ext cx="169920" cy="171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685800" y="1235160"/>
              <a:ext cx="2701800" cy="9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8160" y="2565360"/>
              <a:ext cx="11462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1640" y="2881440"/>
              <a:ext cx="267804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44480" y="1560600"/>
              <a:ext cx="0" cy="981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36560" y="1571760"/>
              <a:ext cx="1754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692600" y="1406520"/>
              <a:ext cx="6634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692600" y="2727360"/>
              <a:ext cx="6555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46720" y="1400040"/>
              <a:ext cx="0" cy="4287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51400" y="1820880"/>
              <a:ext cx="711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5349960" y="2149560"/>
              <a:ext cx="74592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46720" y="2151000"/>
              <a:ext cx="0" cy="596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21400" y="2158920"/>
              <a:ext cx="6080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87600" y="1236600"/>
              <a:ext cx="3240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79680" y="1569960"/>
              <a:ext cx="3240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382920" y="2562120"/>
              <a:ext cx="185760" cy="79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76880" y="1406520"/>
              <a:ext cx="3157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76880" y="2727360"/>
              <a:ext cx="3157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66000" y="1806480"/>
              <a:ext cx="252360" cy="9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100920" y="2152800"/>
              <a:ext cx="355320" cy="79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08920" y="2155680"/>
              <a:ext cx="3301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5969520" y="-89640"/>
              <a:ext cx="1397880" cy="4487760"/>
              <a:chOff x="5969520" y="-89640"/>
              <a:chExt cx="1397880" cy="4487760"/>
            </a:xfrm>
          </p:grpSpPr>
          <p:sp>
            <p:nvSpPr>
              <p:cNvPr id="258" name=""/>
              <p:cNvSpPr/>
              <p:nvPr/>
            </p:nvSpPr>
            <p:spPr>
              <a:xfrm>
                <a:off x="6033240" y="1909440"/>
                <a:ext cx="1334160" cy="2488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21907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2190797"/>
                  </a:path>
                </a:pathLst>
              </a:custGeom>
              <a:noFill/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6033240" y="-90000"/>
                <a:ext cx="1334160" cy="248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21907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2190797"/>
                  </a:path>
                </a:pathLst>
              </a:custGeom>
              <a:noFill/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969520" y="1865160"/>
                <a:ext cx="497160" cy="57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399" y="1565"/>
                    </a:moveTo>
                    <a:arcTo wR="10800" hR="10800" stAng="-3526254" swAng="718671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399" y="1565"/>
                    </a:moveTo>
                    <a:arcTo wR="10800" hR="10800" stAng="-3526254" swAng="7186714"/>
                  </a:path>
                </a:pathLst>
              </a:custGeom>
              <a:noFill/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347160" y="1908000"/>
                <a:ext cx="35172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6340680" y="2401560"/>
                <a:ext cx="364680" cy="792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210240" y="853920"/>
              <a:ext cx="43668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142040" y="18399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173080" y="1743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03240" y="2573280"/>
              <a:ext cx="3510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2147040" y="2396520"/>
              <a:ext cx="333360" cy="33480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90840" y="2557440"/>
              <a:ext cx="318960" cy="79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17560" y="22431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16280" y="2241720"/>
              <a:ext cx="644400" cy="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072880" y="2448000"/>
              <a:ext cx="467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333cc"/>
                  </a:solidFill>
                  <a:latin typeface="Times New Roman"/>
                </a:rPr>
                <a:t>BUF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80280" y="1236600"/>
              <a:ext cx="69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AND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42480" y="2570040"/>
              <a:ext cx="87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AND 2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59840" y="2009880"/>
              <a:ext cx="56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OR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094440" y="2473200"/>
              <a:ext cx="252360" cy="9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27720" y="1747800"/>
              <a:ext cx="0" cy="174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337440" y="2405160"/>
              <a:ext cx="0" cy="174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67560" y="2481120"/>
              <a:ext cx="3315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59280" y="2473200"/>
              <a:ext cx="0" cy="1344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708360" y="3565440"/>
              <a:ext cx="657360" cy="490680"/>
            </a:xfrm>
            <a:prstGeom prst="flowChartDelay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375000" y="3978360"/>
              <a:ext cx="3240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317600" y="3632040"/>
              <a:ext cx="20653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76320" y="3976560"/>
              <a:ext cx="23986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87920" y="3814920"/>
              <a:ext cx="10904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378240" y="3630600"/>
              <a:ext cx="315720" cy="79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71840" y="3814920"/>
              <a:ext cx="3160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87480" y="2909880"/>
              <a:ext cx="0" cy="1074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311120" y="1249200"/>
              <a:ext cx="0" cy="2403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702600" y="3645000"/>
              <a:ext cx="69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AND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98560" y="2811600"/>
              <a:ext cx="165240" cy="163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25440" y="1163520"/>
              <a:ext cx="165240" cy="1638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ynchronous Decoding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gh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440000" y="1805040"/>
            <a:ext cx="3909960" cy="44719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 flipH="1">
            <a:off x="5443560" y="3154320"/>
            <a:ext cx="1396800" cy="134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265800" y="26179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as a c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7T10:52:07Z</dcterms:created>
  <dc:creator>Richard B. Katz</dc:creator>
  <dc:description/>
  <dc:language>en-US</dc:language>
  <cp:lastModifiedBy>me</cp:lastModifiedBy>
  <dcterms:modified xsi:type="dcterms:W3CDTF">2007-03-13T18:15:39Z</dcterms:modified>
  <cp:revision>23</cp:revision>
  <dc:subject/>
  <dc:title>Hazards</dc:title>
</cp:coreProperties>
</file>