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147D-2944-4874-A20C-3847539AD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B4B2-BCC6-40C6-AC2A-A988215E6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444-3DB8-46E4-82BF-577E9699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B57-747B-445E-95F7-71976723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6BA-0E2E-4A09-A925-1571BC7A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665-269C-48D7-B53C-677824D1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F3B8-1FF4-48DE-AA69-5EC83AFA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0315-559B-4CA3-90A6-CC04DD9C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CD3F-0A1F-4EC9-9226-23AD4C34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9E64-59E2-48D3-B613-144C8B09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1F22-1518-4641-B2F0-21CBB48A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EB01-2244-464A-8BD7-9272A4A6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2D9D-40CB-4932-98C9-8E768F6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925-87BE-4864-9F78-6BCC824F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B351-DA02-4D47-8CA4-7AEB7D47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2637-035F-463F-854F-38354814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8A68-B55C-4E13-B00E-A1D91027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4A7C-E002-4867-9C19-250A539B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1C80-AC2F-47D8-90AE-20FB320F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31CF-2E52-48D3-BE38-964A6913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5F56-80D2-497F-9D8C-0B54090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B0B2-D80F-4010-BB79-F642B64E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6529-C05B-4B5C-BA5B-BB8ACA7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0E29-81C4-4E16-A586-4C5D02BE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47D-DF44-4955-8F86-8AD70B31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B07E-7D10-4085-819E-630FB800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DB57-EA26-4408-B633-484ACBF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155B-242C-46E7-89B8-6B92723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4231-44C2-4F1F-A616-87739C3A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5929-B3AF-48EB-B480-74058EFA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D41F-4754-4F1B-822E-76819DAB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1979-84EB-410C-87CC-AC21DB45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850DC-6409-4633-82E3-6A24B38A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FEA4-6A7E-42FF-923C-43502AD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6BBE-A2AE-40E4-9250-A95C3228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7E7-4DB0-455D-A7C1-C0619B28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574C0-87E3-49DE-9FBE-FA575D1B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E6A2-116C-419B-8DF0-4E1A2823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3C3F-7B50-4AF0-9E9A-836FB4A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82A7D-75C4-4F8D-B640-679037C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3AE73-6FD1-49EF-BF05-4A94F65B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A739-37DC-4B95-B38D-37241BF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F4EE-577A-4B0F-A35E-0F59DB5A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8FC7-E7A2-45FB-ABB5-C8FACFF3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D4E6-B50A-4FEC-8125-5DEB8462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A7D97-C265-4AA9-BED2-7644CDBB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232-CA48-46A1-9723-0B05991A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0EB59-B6D1-4016-AC93-210B116D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20A79-7F5D-483B-8AAD-BF065160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7F94-7B0C-421A-8AA5-AF96DC7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454B-71E8-46EE-8D17-4174C6F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11AE9-EC58-475B-B5C6-A337F447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D6AF-FCDE-4D51-9E81-7FBD889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94A9-3BCE-4A44-BF56-969D1EE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F8D09-A26C-462E-A92F-0216780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6D45-C711-4197-9083-EB38EEB1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7893-8363-4AF8-9E3B-A1BF6D83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51B-39D0-4426-9E0F-61E64A3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BD63-53B7-4D19-BABA-A566EA46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045A-46E6-439B-AECD-260B7A18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1CA9-C8AD-4CE6-983D-8EFA4760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D9B19-9084-4A13-BFA0-122E8B7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07478-505D-4BD4-B471-03DF839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38A75-6510-48CE-94DD-FC452F91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8898-8450-4EBB-B938-032DE3B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78AE-6B12-49EA-A7DE-7D6C592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96D0-6228-432E-8CD8-FEE5B9B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85F15-2167-40F5-92E4-1092BDA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D2C-0912-40EA-AFB0-A96F9D6A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2D05-AF3F-46BE-AA82-01878102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3AF6A-BA74-47AB-8886-BF646723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43205-CA9F-4EF0-B45C-36D5D7DE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C42A-4940-4E59-B7FC-EA99C4BA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E2BC-AFAD-434A-A4BF-631AE997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91E8B-077F-42CA-9A45-70838440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09397-7ABC-4ABA-9C05-AC2B8C97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7400-B64D-487E-9C56-5555AE9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3B8B-50DF-433A-AD1E-10692329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D18DE-583C-456D-ADDC-189291B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AAE-83F3-48C0-9165-C08E4A9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CDD75-811D-46A4-A683-5295C950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AC42-9A0F-499A-B3D3-CB2D367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2099-9F7A-470F-A3A5-5BED79D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AB4B2-CDBD-42C9-82B3-067057DC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B4B20-9668-4CC4-AAD0-95AA045A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B32-EEA3-4B45-ABFA-A7425248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439-37F2-4F30-AB0D-3439109F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4523-59D3-49A7-B87E-E61A19780B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EE75-E065-4D97-BE4F-E4FD0F168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C768-5465-491B-A78E-1A0E7A52CE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D64A-E56C-4AB1-A81A-9821BAABD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AC06-FCB5-4B8E-8BB3-8219F71AEC9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F5BF-321F-46A1-B99B-D5CF78BC616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579600" y="658800"/>
            <a:ext cx="8107200" cy="1895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H:\Anh\19.jpg"/>
          <p:cNvPicPr/>
          <p:nvPr/>
        </p:nvPicPr>
        <p:blipFill>
          <a:blip r:embed="rId2"/>
          <a:stretch/>
        </p:blipFill>
        <p:spPr>
          <a:xfrm>
            <a:off x="533520" y="2743200"/>
            <a:ext cx="2755800" cy="3886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F:\Anh\QUOCHOI\imagesCAGUCGFK.jpg"/>
          <p:cNvPicPr/>
          <p:nvPr/>
        </p:nvPicPr>
        <p:blipFill>
          <a:blip r:embed="rId3"/>
          <a:stretch/>
        </p:blipFill>
        <p:spPr>
          <a:xfrm>
            <a:off x="3809880" y="3200400"/>
            <a:ext cx="43434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0" y="837720"/>
            <a:ext cx="5867280" cy="58676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5000"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9999"/>
                </a:solidFill>
                <a:uFillTx/>
                <a:latin typeface=".VnTime"/>
              </a:rPr>
              <a:t>Häc sinh, sinh viª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×m hiÓu n¾m ®­îc nh÷ng kiÕn thøc c¬ b¶n vÒ phßng chèng téi ph¹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uyªn truyÒn phæ biÕn ph¸p luËt cho mäi ng­ê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ChÊp hµnh néi qui, kØ luË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rùc tiÕp tham gia c¸c ho¹t ®éng phßng ngõ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hiÖn c¸c hµnh vi tiªu cùc ë trong líp, trong tr­êng cã thÓ dÉn tíi téi ph¹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hiÖn c¸c ®èi t­îng bªn ngoµi c©u kÕt, mãc nèi HS, SV ph¹m té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Chñ ®éng ph¸t hiÖn, b¸o c¸o cho CQCA c¸c hµnh vi nghi vÊn ho¹t ®éng ph¹m té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am gia qu¶n lý, gi¸o dôc, gãp ý cho HS, SV c¸ biÖ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9141-78BD-4521-9401-6D6E02469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F:\Anh\QUOCHOI\imagesCACX2AN8.jpg"/>
          <p:cNvPicPr/>
          <p:nvPr/>
        </p:nvPicPr>
        <p:blipFill>
          <a:blip r:embed="rId1"/>
          <a:stretch/>
        </p:blipFill>
        <p:spPr>
          <a:xfrm>
            <a:off x="6019920" y="2438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731880" y="731880"/>
            <a:ext cx="7156440" cy="828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04560" y="1752120"/>
            <a:ext cx="4267080" cy="4876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2000"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99ff"/>
                </a:solidFill>
                <a:uFillTx/>
                <a:latin typeface=".VnTime"/>
              </a:rPr>
              <a:t>1.Kh¸i niÖm, môc ®Ých c«ng t¸c phßng chèng tÖ n¹n x· hé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a- Kh¸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niÖm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.VnTime"/>
              </a:rPr>
              <a:t>Lµ mét hiÖn t­îng x· héi tiªu cùc, cã tÝnh phæ biÕn, biÓu hiÖn b»ng nh÷ng hµnh vi sai lÖch chuÈn mùc x· héi, vi ph¹m ®¹o ®øc, g©y ¶nh h­ëng nghiªm träng ®Õn ®êi sèng céng ®ång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Ö n¹n x· héi bao gå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algn="just">
              <a:lnSpc>
                <a:spcPct val="90000"/>
              </a:lnSpc>
              <a:buClr>
                <a:srgbClr val="ff388c"/>
              </a:buClr>
              <a:buSzPct val="9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ãi h­ tËt xÊ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algn="just">
              <a:lnSpc>
                <a:spcPct val="90000"/>
              </a:lnSpc>
              <a:buClr>
                <a:srgbClr val="ff388c"/>
              </a:buClr>
              <a:buSzPct val="9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ong tôc, tËp qu¸n l¹c hË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algn="just">
              <a:lnSpc>
                <a:spcPct val="90000"/>
              </a:lnSpc>
              <a:buClr>
                <a:srgbClr val="ff388c"/>
              </a:buClr>
              <a:buSzPct val="9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NÕp sèng xa ®äa, ®åi trô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9552-5F55-4F21-990E-13E06420E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F:\Anh\TE NAN\imagesCA1U7QWY.jpg"/>
          <p:cNvPicPr/>
          <p:nvPr/>
        </p:nvPicPr>
        <p:blipFill>
          <a:blip r:embed="rId2"/>
          <a:stretch/>
        </p:blipFill>
        <p:spPr>
          <a:xfrm>
            <a:off x="4800600" y="1676520"/>
            <a:ext cx="3911760" cy="23619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F:\Anh\TE NAN\images[9].jpg"/>
          <p:cNvPicPr/>
          <p:nvPr/>
        </p:nvPicPr>
        <p:blipFill>
          <a:blip r:embed="rId3"/>
          <a:stretch/>
        </p:blipFill>
        <p:spPr>
          <a:xfrm>
            <a:off x="4800600" y="4267080"/>
            <a:ext cx="39625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685800"/>
            <a:ext cx="8153280" cy="6019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b- Môc ®Ých c«ng t¸c phßng chèng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g¨n ngõa, chÆn ®øng kh«ng ®Ó cho TNXH ph¸t sinh, ph¸t triÓ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õng b­íc xãa bá dÇn NN, §K cña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t hiÖn ®Êu tranh xö lý nghiªm minh nh÷ng hµnh vi ho¹t ®éng TNXH b¶o vÖ ANQG - TTAT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c- ®Æc ®iÓm cña tÖ n¹n x· hé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Lµ nh÷ng hiÖn t­îng tiªu cùc x· héi cã tÝnh l©y lan nhan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Tån t¹i d­íi nhiÒu h×nh thøc, cã sù tham gia cña nhiÒu ng­ê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èi t­îng tham gia ®a d¹ng vÒ thµnh phÇ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Cã mèi quan hÖ chÆt chÏ víi TPH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Þa bµn x¶y ra th­êng lµ nh÷ng n¬i ®«ng ng­êi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BE11-A199-4235-ADD5-875910FB86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520" y="914400"/>
            <a:ext cx="3124440" cy="55627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5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.VnTime"/>
              </a:rPr>
              <a:t>d.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.VnTime"/>
              </a:rPr>
              <a:t>C«ng t¸c phßng chèng TNX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Lµ qu¸ tr×nh nhµ n­íc cïng c¸c Ngµnh, c¸c cÊp, c¸c ®oµn thÓ, tæ chøc XH vµ c«ng d©n tiÕn hµnh ®ång bé c¸c biÖn ph¸p nh»m ph¸t hiÖn, ng¨n chÆn, lo¹i trõ c¸c lo¹i TNXH gãp phÇn b¶o vÖ vµ ph¸t huy thuÇn phong mü tôc truyÒn thèng tèt ®Ñp cña d©n téc, gãp phÇn gi÷ v÷ng ANTTX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5" descr="F:\Anh\QUOCHOI\imagesCA3YZVVS.jpg"/>
          <p:cNvPicPr/>
          <p:nvPr/>
        </p:nvPicPr>
        <p:blipFill>
          <a:blip r:embed="rId1"/>
          <a:stretch/>
        </p:blipFill>
        <p:spPr>
          <a:xfrm>
            <a:off x="3886200" y="914400"/>
            <a:ext cx="4800600" cy="2590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F:\Anh\TE NAN\images[6].jpg"/>
          <p:cNvPicPr/>
          <p:nvPr/>
        </p:nvPicPr>
        <p:blipFill>
          <a:blip r:embed="rId2"/>
          <a:stretch/>
        </p:blipFill>
        <p:spPr>
          <a:xfrm>
            <a:off x="3886200" y="3657600"/>
            <a:ext cx="4800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E574-47FE-4B35-BD95-E939758C2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880" y="1066680"/>
            <a:ext cx="4724640" cy="55627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2/Chñ tr­¬ng, quan ®iÓm trong ®Êu tranh PCTNX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.VnTime"/>
              </a:rPr>
              <a:t>a)Chñ tr­¬ng</a:t>
            </a: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Nghiªm cÊm mäi h×nh thøc ho¹t ®éng TNXH, xö lý thÝch ®¸ng nh÷ng tªn ho¹t ®éng chuyªn nghiÖp, ho¹t ®éng cã æ nhãm, nh÷ng tªn cÇm ®Çu hoÆc tæ chøc l«i kÐo ng­êi kh¸c ®i vµo con ®­êng ho¹t ®éng TNXH. Chñ ®éng phßng ngõa ng¨n chÆn kh«ng ®Ó TNXH l©y lan, ph¸t triÓn g©y t¸c h¹i ®Õn ®êi sèng nh©n d©n vµ TTXH. Gi¸o dôc, c¶i t¹o ng­êi m¾c TNXH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5" descr="F:\Anh\QUOCHOI\imagesCADYBELP.jpg"/>
          <p:cNvPicPr/>
          <p:nvPr/>
        </p:nvPicPr>
        <p:blipFill>
          <a:blip r:embed="rId1"/>
          <a:stretch/>
        </p:blipFill>
        <p:spPr>
          <a:xfrm>
            <a:off x="5273640" y="1371600"/>
            <a:ext cx="3870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2DF-EA6C-476A-91E3-8A9F876E7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51920" y="838080"/>
            <a:ext cx="4800600" cy="6019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)quan ®iÓm ®­îc thÓ hiÖ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ßng ngõa lµ c¬ b¶n, lång ghÐp kÕt hîp chÆt chÏ c«ng t¸c phßng chèng TNXH víi c¸c ch­¬ng tr×nh ph¸t triÓn KT-VH-GD-XH ë ®Þa ph­¬ng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tr¸ch nhiÖm cña toµn XH, vµ ph¶i ®­îc triÓn khai ë mäi cÊp, mäi ngµn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KÕt hîp chÆt chÏ gi÷a xö lý nghiªm kh¾c víi c¶m hãa, gi¸o dôc c¶i t¹o ®èi t­îng ho¹t ®éng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5" descr="F:\Anh\QUOCHOI\imagesCAGUCGFK.jpg"/>
          <p:cNvPicPr/>
          <p:nvPr/>
        </p:nvPicPr>
        <p:blipFill>
          <a:blip r:embed="rId1"/>
          <a:stretch/>
        </p:blipFill>
        <p:spPr>
          <a:xfrm>
            <a:off x="5181480" y="1981080"/>
            <a:ext cx="3841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B97-53DF-4750-BF0E-B71468A3C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240" y="837720"/>
            <a:ext cx="4343400" cy="58676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9999"/>
                </a:solidFill>
                <a:uFillTx/>
                <a:latin typeface=".VnTime"/>
              </a:rPr>
              <a:t>c)Quy ®Þnh cña ph¸p luËt vÒ PC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LHS 1999: §iÒu 247, 254, 255, 236, 248, 249, 192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ghÞ ®Þnh 05/CP vµ 06/C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uËt Phßng, chèng ma tóy 200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p lÖnh phßng, chèng m¹i d©m 200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p lÖnh xö lý hµnh chÝnh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¸c nghÞ ®Þnh kh¸c cña ChÝnh phñ cã liªn qua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F:\Anh\QUOCHOI\imagesCAPJSCG3.jpg"/>
          <p:cNvPicPr/>
          <p:nvPr/>
        </p:nvPicPr>
        <p:blipFill>
          <a:blip r:embed="rId1"/>
          <a:stretch/>
        </p:blipFill>
        <p:spPr>
          <a:xfrm>
            <a:off x="4724280" y="1828800"/>
            <a:ext cx="4362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765-6068-4046-8E2F-3A26139A6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0880" y="990720"/>
            <a:ext cx="5029200" cy="56386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.VnTime"/>
              </a:rPr>
              <a:t>3.C¸c lo¹i tÖ n¹n phæ biÕn ë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.VnTime"/>
              </a:rPr>
              <a:t>viÖt 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a)TÖ n¹n ma tó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Lµ mét lo¹i TNXH mµ n¹n nh©n cã thãi quen sö dông chÊt ma tóy dÉn ®Õn t×nh tr¹ng lÖ thuéc vµo ma tóy khã cã thÓ bá ®­îc. NghiÖn ma tóy g©y hËu qu¶ t¸c h¹i lín cho ng­êi nghiÖn vµ X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C¸c h×nh thøc sö dô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Hót, hÝt, tiªm, ch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Uèng: tóy tæng hîp (estas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5" descr="F:\Anh\TE NAN\images[9].jpg"/>
          <p:cNvPicPr/>
          <p:nvPr/>
        </p:nvPicPr>
        <p:blipFill>
          <a:blip r:embed="rId1"/>
          <a:stretch/>
        </p:blipFill>
        <p:spPr>
          <a:xfrm>
            <a:off x="5562720" y="2057400"/>
            <a:ext cx="334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B8F-D936-49D4-9511-9EFEFD57D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240" y="761760"/>
            <a:ext cx="5638680" cy="60958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b)phßng chèng tÖ n¹n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/Kh¸i niÖ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M¹i d©m lµ mét lo¹i TNXH bao gåm nh÷ng hµnh vi nh­: thùc hiÖn c¸c dÞch vô quan hÖ t×nh dôc cã tÝnh mua b¸n trªn c¬ së mét gi¸ trÞ vËt chÊt nhÊt ®Þnh ngoµi ph¹m vi h«n nh©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Theo quy ®Þnh cña Ph¸p lÖnh PCMD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: 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TNMD bao gåm c¸c hµnh vi b¸n d©m, mua d©m, chøa m¹i d©m, tæ chøc ho¹t ®éng m¹i d©m, c­ìng bøc b¸n d©m, mèi giíi m¹i d©m, b¶o kª m¹i d©m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5" descr="F:\Anh\TE NAN\images[3].jpg"/>
          <p:cNvPicPr/>
          <p:nvPr/>
        </p:nvPicPr>
        <p:blipFill>
          <a:blip r:embed="rId1"/>
          <a:stretch/>
        </p:blipFill>
        <p:spPr>
          <a:xfrm>
            <a:off x="6095880" y="914400"/>
            <a:ext cx="280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ABC2-567A-44EE-B830-39E0E09839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160" y="761760"/>
            <a:ext cx="7924680" cy="60958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/§Æc ®iÓm cña tÖ n¹n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Æc ®iÓm nh©n th©n cña chñ chøa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Æc ®iÓm ®èi t­îng m«i giíi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èi t­îng b¸n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§èi t­îng mua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Æc ®iÓm vÒ ph­¬ng thøc, thñ ®äan ho¹t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H×nh thµnh c¸c æ nhãm, ®­êng d©y, nóp d­íi danh nghÜa nhµ hµng, 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Ho¹t ®éng theo ph­¬ng thøc g¸i gäi vµ th«ng qua g¸i m¹i d©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ã MQH chÆt chÏ víi ®èi t­îng bu«n b¸n PN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ã sù liªn kÕt víi ng­êi n­íc ngoµ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îi dông M¹ng INTERNET ®Ó ho¹t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M¹i d©m ë c¸c ®Þa bµn c«ng c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408400" y="1096920"/>
            <a:ext cx="4413240" cy="847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57240">
            <a:solidFill>
              <a:srgbClr val="ccff33"/>
            </a:solidFill>
            <a:miter/>
          </a:ln>
        </p:spPr>
        <p:txBody>
          <a:bodyPr anchor="ctr">
            <a:normAutofit fontScale="98000"/>
          </a:bodyPr>
          <a:p>
            <a:pPr algn="just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rang bÞ cho häc viªn nh÷ng kiÕn thøc c¬ b¶n nhÊt vÒ téi ph¹m vµ c¸c lo¹i TN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Nh÷ng kiÕn thøc vÒ phßng ngõa, néi dung vµ ph­¬ng ph¸p phßng ngõa téi ph¹m, TNXH vµ trong c¸c nhµ tr­êng phæ th«ng, cao ®¼ng, ®¹i hä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F:\Anh\TE NAN\imagesCA1U7QWY.jpg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270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F:\Anh\TE NAN\imagesCA7WK7RD.jpg"/>
          <p:cNvPicPr/>
          <p:nvPr/>
        </p:nvPicPr>
        <p:blipFill>
          <a:blip r:embed="rId2"/>
          <a:stretch/>
        </p:blipFill>
        <p:spPr>
          <a:xfrm>
            <a:off x="4952880" y="1447920"/>
            <a:ext cx="3567240" cy="2666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733560" cy="2438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4"/>
          <a:stretch/>
        </p:blipFill>
        <p:spPr>
          <a:xfrm>
            <a:off x="4952880" y="42670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367" name="Rectangle 2" descr=""/>
          <p:cNvPicPr/>
          <p:nvPr/>
        </p:nvPicPr>
        <p:blipFill>
          <a:blip r:embed="rId5"/>
          <a:stretch/>
        </p:blipFill>
        <p:spPr>
          <a:xfrm>
            <a:off x="2103480" y="669960"/>
            <a:ext cx="50227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990360"/>
            <a:ext cx="4114800" cy="56386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)Phßng chèng tÖ n¹n cê b¹c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Kh¸i niÖm: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Lµ mét lo¹i TNXH gåm c¸c hµnh vi lîi dông c¸c h×nh thøc vui ch¬i giair trÝ ®Ó c¸ c­îc, s¸t ph¹t nhau b»ng tiÒn hoÆc vËt chÊ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Ö n¹n cê b¹c bao gåm: §¸nh b¹c, tæ chøc ®¸nh b¹c, g¸ b¹c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04560" y="914040"/>
            <a:ext cx="8458200" cy="57913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Néi dung cña c«ng t¸c Phßng chèng tÖ n¹n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KÞp thêi ng¨n chÆn kh«ng ®Ó TNCB l©y lan, ph¸t triÓn trong©y hËu qu¶ t¸c h¹i cho HS, SV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èi hîp víi c¸c lùc l­îng, chÝnh quyÒn ®Þa ph­¬ng, c¸c tæ chøc, ®oµn thÓ…tiÕn hµnh ®ång bé c¸c biÖn ph¸p ®Ó ®Êu tranh xãa bá NN, §K cña TNCB trong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èi hîp chÆt chÏ víi chÝnh quyÒn ®Þa ph­¬ng, CA ®Ó ph¸t hiÖn, triÖt ph¸ c¸c æ nhãm cê b¹c. Xö lý nghiªm minh ®èi t­îng cê b¹c cã liªn quan ®Õn HS, SV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28240" y="914040"/>
            <a:ext cx="4724280" cy="57150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d)phßng chèng tÖ n¹n mª tÝn dÞ ®oa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mét TNXH bao gåm c¸c hµnh vi biÓu hiÖn th¸i qu¸ lßng tin mï qu¸ng vµo nh÷ng ®iÒu huyÒn bÝ kh«ng cã thËt, tõ ®ã suy ®o¸n kh¸c th­êng dÉn ®Õn c¸ch øng xö mang tÝnh chÊt cuång tÝn, hµnh ®éng tr¸i víi chuÈn mùc x· héi, g©y hËu qu¶ xÊu ®Õn søc kháe, ®êi sèng vËt chÊt, tinh thÇn, ®Õn ANT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38320" cy="2438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870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520" y="914400"/>
            <a:ext cx="8458200" cy="59436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.VnTime"/>
              </a:rPr>
              <a:t>Néi dung c«ng t¸c phßng chèng TNMT trong HS, SV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Tõng b­íc kiÒm chÕ ng¨n chÆn kh«ng ®Ó TNMT l©y lan, ph¸t triÓn trong HS, SV, trong nhµ tr­ê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Ph¸t hiÖn NN, §K ®Ó tõng b­íc xãa bá NN, §K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 Xö lý nghiªm minh c¸c ®èi t­îng liªn quan ®Õn MT, c¸c ®èi t­îng ho¹t ®éng cã tæ chøc chuyªn nghiÖ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.VnTime"/>
              </a:rPr>
              <a:t>Yªu cÇu cÇn ®¹t ®­îc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Kh«ng ®Ó cã thªm hs m¾c nghiÖn MT trong tr­êng hä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N¾m ch¾c diÔn biÕn TNMT trong nhµ tr­ê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N¾m ch¾c t×nh h×nh, ph­¬ng thøc sö dông chÊt ma tóy trong nhµ tr­ê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N¾m ch¾c c¸c ®èi t­îng nghiÖn MT, cã liªn quan ®Õn MT trong nhµ tr­êng trong tõng thêi gian.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Qu¶n lý chÆt chÏ HS, SV nghiÖ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n ma tóy, gi¸o dôc, c¶m hãa gióp hä mau chãng t¸i hßa nhËp céng ®å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2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BBE6-BE03-45A9-9E2F-81BB0C7AE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3DE1-AB6D-42EB-ABA0-E76AD5084A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838080"/>
            <a:ext cx="8077320" cy="60199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Ph­¬ng ph¸p phßng chèng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§Èy m¹nh phßng chèng MT trong tr­êng häc theo c¸c KH 01, 02, 03 … gi÷a Bé Gi¸o dôc vµ Bé C«ng an ®· ký, KH 8313/LB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uyªn truyÒn gi¸o dôc n©ng cao nhËn thøc cho HS, SV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XD néi quy, quy chÕ QLSV, QLKTX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¸t hiÖn b¸o c¸o cho CQ chøc n¨ng c¸c tr­êng hîp nghiÖn MT, c¸c tr­êng hîp rñ rª, l«i kÐo SV ®i vµo con ®­êng MT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víi LLCA c¬ së thùc hiÖn tèt KH 8313/LB, KH 1413/L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æ chøc kh¸m søc kháe, xÐt nghiÖm ngay tõ khi nhËp tr­êng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0FD2-B0E7-46E4-910D-EF7E9DF30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Tæ chøc ký cam kÕt gi÷a NT-CA-GD ®Ó qu¶n lý HS, 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X©y dùng m«i tr­êng nhµ tr­êng kh«ng cã tiªu c­c x· hé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Tæ chøc t×m hiÓu vÒ LuËt phßng, chèng ma tó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 Phèi hîp víi CA, chÝnh quyÒn c¬ së qu¶n lý chÆt chÏ sè SV, HS ngo¹i tró, xö lý nghiªm c¸c tr­êng hîp nghiÖn MT, liªn quan ®Õn MT trong nhµ tr­ê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-Tæ chøc ký cam kÕt thi ®ua gi÷a c¸c líp, thµnh lËp c¸c ®éi tù qu¶n cña S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9743-1FA6-45D7-AA27-C2A6E64F0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560" y="914400"/>
            <a:ext cx="4190760" cy="59436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3000"/>
          </a:bodyPr>
          <a:p>
            <a:pPr marL="1652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4</a:t>
            </a:r>
            <a:r>
              <a:rPr b="0" lang="en-US" sz="2600" spc="-1" strike="noStrike">
                <a:solidFill>
                  <a:srgbClr val="ff9999"/>
                </a:solidFill>
                <a:latin typeface=".VnTime"/>
              </a:rPr>
              <a:t>/Tr¸ch nhiÖm cña nhµ tr­êng vµ häc sinh sinh viªn trong phßng chèng TNXH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a)Ph­¬ng ph¸p phßng ngõa cña nhµ tr­ê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Lµm tèt c«ng t¸c tuyªn truyÒn, n©ng cao ý thøc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ph¸p luËt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cho HS, SV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uyªn truyÒn gi¸o dôc lèi sèng lµnh m¹nh cho HS, SV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N©ng cao tr¸ch nhiÖm cña c¸c tæ chøc §oµn TN, Héi P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Phèi hîp víi LLCA, CQ, G§ qu¶n lý chÆt chÏ sè SV ngoµi tr­êng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65240" algn="just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3" name="Picture 6" descr="F:\Anh\QUOCHOI\imagesCA8VRIR5.jpg"/>
          <p:cNvPicPr/>
          <p:nvPr/>
        </p:nvPicPr>
        <p:blipFill>
          <a:blip r:embed="rId1"/>
          <a:stretch/>
        </p:blipFill>
        <p:spPr>
          <a:xfrm>
            <a:off x="4648320" y="1371600"/>
            <a:ext cx="413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0880" y="914400"/>
            <a:ext cx="426744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æ chøc cho SV c¸c líp kÝ kÕt kh«ng tham gia ho¹t ®éng TNM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X©y dùng c¸c quy chÕ, qu¶n lý KTX, x©y dùng m«i tr­êng nhµ tr­êng trong s¹ch, lµnh m¹n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hñ ®éng ph¸t hiÖn c¸c ®Þa ®iÓm nghi vÊn cïng LLCA c¬ së cã KH gi¶i quyÕ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æ chøc c¸c ho¹t ®éng thi t×m hiÓu Ph¸p lÖnh Phßng, chèng m¹i d©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æ chøc c¸c ho¹t ®éng v¨n hãa v¨n nghÖ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6" descr="F:\Anh\TE NAN\images[6].jpg"/>
          <p:cNvPicPr/>
          <p:nvPr/>
        </p:nvPicPr>
        <p:blipFill>
          <a:blip r:embed="rId1"/>
          <a:stretch/>
        </p:blipFill>
        <p:spPr>
          <a:xfrm>
            <a:off x="4876920" y="914400"/>
            <a:ext cx="3886200" cy="2282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908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28240" y="838080"/>
            <a:ext cx="8534520" cy="60199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)®èi víi Häc sinh, sinh viª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NhËn thøc râ hËu qu¶, t¸c h¹i cña MT ®Ó tr¸nh x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¶nh gi¸c tr­íc c¸c thñ ®o¹n rñ rª, l«i kÐo cña c¸c ®èi t­îng nghiÖn M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XD lèi sèng phong c¸ch ng­êi HS, SV; tu©n thñ c¸c néi qui, qui chÕ cña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¸t hiÖn c¸c tr­êng hîp nghiÖn th«ng b¸o cho nhµ tr­êng, CQ chøc n¨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d2d2d2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¸t hiÖn c¸c tô ®iÓm TCSD tr¸i phÐp chÊt ma tóy trong nhµ tr­êng, KV xung quanh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4779-466F-41CE-90A4-2DEB846A92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335320" y="360360"/>
            <a:ext cx="4181400" cy="669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57240">
            <a:solidFill>
              <a:srgbClr val="99ff66"/>
            </a:solidFill>
            <a:miter/>
          </a:ln>
        </p:spPr>
        <p:txBody>
          <a:bodyPr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Sau khi häc xong häc viªn cÇn n¾m ®­îc vµ hiÓu ®­îc nh÷ng néi dung c¬ b¶n sa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99ff66"/>
                </a:solidFill>
                <a:latin typeface=".VnTime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.VnTime"/>
              </a:rPr>
              <a:t>* §èi víi c«ng t¸c PNTP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Néi dung, nhiÖm vô cña ho¹t ®éng PNT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C¸c chñ thÓ ho¹t ®éng PCTP vµ mqh gi÷a c¸c chñ th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Tr¸ch nhiÖm cña NT, HS, SV trong c«ng t¸c phßng chèng téi ph¹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.VnTime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.VnTime"/>
              </a:rPr>
              <a:t>* §èi víi c«ng t¸c phßng chèng TNXH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HiÓu râ kh¸i niÖm TNXH, ph©n biÖt c¸c lo¹i TNXH cô th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N¾m ®­îc chñ tr­¬ng, quan ®iÓm cña §¶ng, nh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à nước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trong phßng ngõ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BiÖn ph¸p phßng chèng c¸c lo¹i TNXH cô thÓ trong c¸c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520" y="838080"/>
            <a:ext cx="8458200" cy="563904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Ých cùc tham gia c¸c ®éi tù qu¶n, c¸c phßng trµo do tr­êng ph¸t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SV néi tró cÇn ph¶i nghiªm chØnh chÊp hµnh qui ®Þnh cña ®Þa ph­¬ng, tham gia tÝch cùc vµo c¶m hãa, GD ®èi t­îng nghiÖn ma tó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KÞp thêi ng¨n chÆn kh«ng ®Ó TNMD l©y lan, ph¸t triÓn trong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víi lùc l­îng CA tõng b­íc xãa bá NN, §K cña TNMD, tiÕn tíi ®Èy lïi TNMD ra khái ®êi sèng X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ph¸t hiÖn, ®.tra, x.lý c¸c ®èi t­îng ho¹t ®éng m¹i d©m trong nhµ tr­êng vµ KV xung quanh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794D-E25D-442D-B07F-380026801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¾m ch¾c t×nh h×nh diÔn biÕn cña TNMD, n¾m ch¾c sè l­îng ®èi t­îng cã biÓu hiÖn ho¹t ®éng, ph©n lo¹i, cã biÖn ph¸p qu¶n lý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ã kÕ ho¹ch phèi hîp víi LLCA c¬ së qu¶n lÝ, xö lý HS, SV cã hµnh vi m¹i d©m trong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èi hîp cã BP ®Êu tranh triÖt ph¸, xö lý nghiªm c¸c ®èi t­îng cã c¸c ho¹t ®éng m¹i d©m trong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G§ cña c¸c tr­êng hîp HS, SV lµ n¹n nh©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E4C-97FC-482D-9AF5-1AA0057D7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5A8B-ED92-4EEC-979B-DE751D20F6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3920" cy="234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2"/>
          <a:stretch/>
        </p:blipFill>
        <p:spPr>
          <a:xfrm>
            <a:off x="4699080" y="1523880"/>
            <a:ext cx="3936960" cy="2362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3753000" cy="2747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"/>
          <p:cNvPicPr/>
          <p:nvPr/>
        </p:nvPicPr>
        <p:blipFill>
          <a:blip r:embed="rId4"/>
          <a:stretch/>
        </p:blipFill>
        <p:spPr>
          <a:xfrm>
            <a:off x="4724280" y="4003560"/>
            <a:ext cx="3886200" cy="271152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2" descr=""/>
          <p:cNvPicPr/>
          <p:nvPr/>
        </p:nvPicPr>
        <p:blipFill>
          <a:blip r:embed="rId5"/>
          <a:stretch/>
        </p:blipFill>
        <p:spPr>
          <a:xfrm>
            <a:off x="1200240" y="658800"/>
            <a:ext cx="60847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573200" y="731880"/>
            <a:ext cx="6162840" cy="828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560" y="1752120"/>
            <a:ext cx="8458200" cy="48769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CÇn ý thøc ®­îc TN cña m×nh trong ®Êu tranh PCTNM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ã tr¸ch nhiÖm ph¸t hiÖn c¸c hµnh vi ho¹t ®éng MD trong tr­êng, b¸o c¸o cho c¬ quan chøc n¨ng cã TN ®Ó cã BP qu¶n lý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Ph¸t hiÖn c¸c HS, SV cã hµnh vi nghi vÊn tham gia vµo c¸c æ nhãm, ®­êng d©y MD, b¸o c¸o cho nhµ tr­êng, CQ chøc n¨ng cã BP ng¨n chÆ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ham gia kÝ kÕt kh«ng tham gia vao c¸c ho¹t ®éng M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ham gia vµo c¸c tæ tù qu¶n, tæ tuÇn tra…ph¸t hiÖn c¸c tô ®iÓm MD trong vµ xung quanh nhµ tr­êng cung cÊp cho CQ chøc n¨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hñ ®éng gÆp gì, ®éng viªn, GD nh÷ng HS, SV lÇm lçi gióp hä trë thµnh ng­êi tiÕn b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Tù rÌn luyÖn b¶n th©n trªn mäi lÜnh vù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BB7-CC0D-4458-ABD8-8FB5C3A84A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2462040" y="731880"/>
            <a:ext cx="3749760" cy="828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¾m ch¾c t×nh h×nh sè l­îng HS, SV, GV cã liªn quan ®Õn ho¹t ®éng cê b¹c trong tr­êng líp, nhµ tr­ê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N¾m ®­îc c¸c biÓu hiÖn ho¹t ®éng cña c¸c tô ®iÓm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èi hîp víi CSKV, CA c¬ së cã KH phßng ngõa, qu¶n lý chÆt chÏ sè ®èi t­îng cã hµnh vi cê b¹c trong tr­êng, kÞp thêi xö lý nghiªm minh ®èi t­îng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7346-CA79-42B2-9E2D-E58FC2A1B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658800" y="341280"/>
            <a:ext cx="7759800" cy="914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52280" y="1371600"/>
            <a:ext cx="8763120" cy="54864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Tuyªn truyÒn, GD n©ng cao nhËn thøc cho HS, SV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X©y dùng c¸c quy chÕ nghiªm cÊm mäi h×nh thøc cê b¹c trong nhµ tr­ê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Chñ ®éng phèi hîp víi LLCA c¬ së, chÝnh quyÒn ®Þa ph­¬ng rµ so¸t ph¸t hiÖn sè HS cã liªn quan ®Õn ho¹t ®éng cê b¹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Ph¸t ®éng phong trµo ®Êu tranh chèng cê b¹c trong nhµ tr­ê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Phèi hîp víi CA c¬ së gi¶i quyÕt c¸c tô ®iÓm cê b¹c xung quanh tr­êng cã ¶nh h­ëng, t¸c ®éng tíi HS, SV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Gi¸m s¸t chÆt chÏ c¸c HS, SV cã biÓu hiÖn cê b¹c, ph©n c«ng chi ®oµn, ng­êi cã uy tÝn gióp ®ì, kÌm cÆ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§­a ra kiÓm ®iÓm nh÷ng HS, SV tham gia cê b¹c g©y ¶nh h­ëng tíi tËp thÓ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8A01-841B-4254-9193-CF8E83A32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731880" y="646200"/>
            <a:ext cx="7765920" cy="914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80520" y="1600200"/>
            <a:ext cx="8458200" cy="502920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Çn cã nhËn thøc s©u s¾c vÒ hËu qu¶ t¸c h¹i cña TNC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­êng xuyªn rÌn luyÖn, kh«ng bÞ t¸c ®éng cña TNC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¸t hiÖn c¸c SV, tô ®iÓm cê b¹c th«ng b¸o cho CQ chøc n¨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gãp ý kiÓm ®iÓm, gióp ®ì SV cã hµnh vi cê b¹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h­ëng øng c¸c phong trµo ®Êu tranh chèng TNCB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x©y dùng m«i tr­êng nhµ tr­êng trong s¹ch, lµnh m¹nh kh«ng cã TNC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BF6-CBE6-4CCE-B48D-0B70ED142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798560" y="658800"/>
            <a:ext cx="5480280" cy="828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99ff"/>
                </a:solidFill>
                <a:latin typeface=".VnHelvetInsH"/>
              </a:rPr>
              <a:t> </a:t>
            </a:r>
            <a:r>
              <a:rPr b="0" lang="en-US" sz="1500" spc="-1" strike="noStrike">
                <a:solidFill>
                  <a:srgbClr val="ff99ff"/>
                </a:solidFill>
                <a:latin typeface=".VnHelvetInsH"/>
              </a:rPr>
              <a:t>	</a:t>
            </a:r>
            <a:r>
              <a:rPr b="0" lang="en-US" sz="1500" spc="-1" strike="noStrike">
                <a:solidFill>
                  <a:srgbClr val="ff99ff"/>
                </a:solidFill>
                <a:latin typeface=".VnHelvetInsH"/>
              </a:rPr>
              <a:t>-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N©ng cao tr×nh ®é nhËn thøc cho HS, SV ®Ó hä tù ®Êu tranh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-Ph©n biÖt hµnh vi Mª tÝn dÞ ®oan víi tù do tÝn ng­ìng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-KÞp thêi ph¸t hiÖn c¸c h×nh thøc mª tÝn dÞ ®oan ®Ó cã biÖn ph¸p ng¨n chÆn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Time"/>
              </a:rPr>
              <a:t>-N¾m ch¾c t×nh h×nh hs, sv cã hµnh vi mª tÝn, cã biÖn ph¸p gd vµ xö lý nghiªm minh hµnh vi cã ¶nh h­ëng ®Õn líp häc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78CE-450B-40DF-84AD-C51FE1F144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658800" y="1189080"/>
            <a:ext cx="7759800" cy="828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560" y="2133360"/>
            <a:ext cx="8458200" cy="472428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89000"/>
          </a:bodyPr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Cã c¸c h×nh thøc tuyªn truyÒn thÝch hîp ®Ó n©ng cao nhËn thøc cho HS, SV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Gióp SV thÊy râ ®­îc c¸c ©m m­u cña thÕ lùc thï ®Þ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hiÖn c¸c tr­êng hîp gieo r¾c mª tÝn dÞ ®oan rue rª HS, SV tham gia vµo c¸c tµ ®¹o ®Ó cã BP ng¨n chÆ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èi hîp cïng chÝnh quyÒn ®Þa ph­¬ng lµm trong s¹ch ®Þa bµ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Ph¸t ®éng phong trµo trong HS, SV ®Êu tranh chèng tÖ n¹n mª tÝn dÞ ®o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58040" algn="just">
              <a:lnSpc>
                <a:spcPct val="12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Th­êng xuyªn gióp c¸c em m¾c mª tÝn dÞ ®oan trë vÒ cuéc sè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6BA0-CB57-42E2-B761-DE01F5496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731880" y="566640"/>
            <a:ext cx="7899480" cy="920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Çn nhËn thøc râ hËu qu¶ t¸c h¹i cña tÖ n¹n mª tÝn dÞ ®oa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©n biÖt râ gi÷a mª tÝn dÞ ®oan vµ tù do tÝn ng­ì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Kh«ng tham gia vµo c¸c hµnh vi mª tÝn, hñ tôc l¹c hËu kh¸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hñ ®éng ph¸t hiÖn c¸c ®èi t­îng rñ rª HS, SV ®i vµo con ®­êng mª tÝ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Ph¸t hiÖn ng­êi cã hµnh vi gieo r¾c mª tÝn dÞ ®oan ë khu vùc trong vµ xung quanh nhµ tr­êng b¸o cho c¬ quan chøc n¨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Tham gia x©y dùng KÝ tóc x¸, nhµ tr­êng v¨n min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C¶nh gi¸c tr­íc ©m m­u cña c¸c thÕ lùc ph¶n ®é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0702-0996-46C0-A025-B618A836F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944800" y="1420920"/>
            <a:ext cx="3267000" cy="1206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1295280" y="3428640"/>
            <a:ext cx="2438640" cy="2895480"/>
          </a:xfrm>
          <a:prstGeom prst="rect">
            <a:avLst/>
          </a:prstGeom>
          <a:solidFill>
            <a:srgbClr val="ccff33"/>
          </a:solidFill>
          <a:ln w="5724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 algn="ctr">
              <a:lnSpc>
                <a:spcPct val="24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80208"/>
                </a:solidFill>
                <a:latin typeface=".VnExoticH"/>
              </a:rPr>
              <a:t>Nh÷ng vÊn ®Ò c¬ b¶n vÒ phßng chèng téi ph¹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486400" y="3352680"/>
            <a:ext cx="2438280" cy="2895840"/>
          </a:xfrm>
          <a:prstGeom prst="rect">
            <a:avLst/>
          </a:prstGeom>
          <a:solidFill>
            <a:srgbClr val="ccff33"/>
          </a:solidFill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80208"/>
                </a:solidFill>
                <a:latin typeface=".VnExoticH"/>
              </a:rPr>
              <a:t>C«ng t¸c phßng chèng tÖ n¹n x· hé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 flipH="1">
            <a:off x="2743200" y="2666880"/>
            <a:ext cx="1828800" cy="685800"/>
          </a:xfrm>
          <a:prstGeom prst="line">
            <a:avLst/>
          </a:prstGeom>
          <a:ln w="38160">
            <a:solidFill>
              <a:srgbClr val="f802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4724280" y="2590920"/>
            <a:ext cx="1905120" cy="685800"/>
          </a:xfrm>
          <a:prstGeom prst="line">
            <a:avLst/>
          </a:prstGeom>
          <a:ln w="38160">
            <a:solidFill>
              <a:srgbClr val="f802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B878-7089-4402-846E-C55E7ABB6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304920" y="228600"/>
            <a:ext cx="8638920" cy="39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BahamasBH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.VnTimeH"/>
              </a:rPr>
              <a:t>Th­îng t¸ : ph­¬ng b¸ thiÕt –khoa gvct- Tt gdqp - ®¹I HäC TH¸I NGUY£N</a:t>
            </a:r>
            <a:r>
              <a:rPr b="0" lang="en-US" sz="1600" spc="-1" strike="noStrike">
                <a:solidFill>
                  <a:srgbClr val="ffff00"/>
                </a:solidFill>
                <a:latin typeface=".VnTimeH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867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3064320" y="1752480"/>
            <a:ext cx="320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80208"/>
                </a:solidFill>
                <a:latin typeface=".VnTimeH"/>
              </a:rPr>
              <a:t>KÕt luË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01600" y="1212840"/>
            <a:ext cx="8143920" cy="884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380880" y="2209680"/>
            <a:ext cx="8229600" cy="42674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80208"/>
                </a:solidFill>
                <a:uFillTx/>
                <a:latin typeface=".VnTime"/>
              </a:rPr>
              <a:t>1.Kh¸i niÖ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Phßng chèng téi ph¹m lµ viÖc c¸c c¬ quan cña nhµ n­íc, c¸c tæ chøc x· héi vµ c«ng d©n b»ng nhiÒu biÖn ph¸p kh¾c phôc nh÷ng nguyªn nh©n, ®iÒu kiÖn cña t×nh tr¹ng téi ph¹m ng¨n chÆn, h¹n chÕ vµ lµm gi¶m tõng b­íc, tiÕn tíi lo¹i trõ téi ph¹m ra khái ®êi sèng x· hé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PNTP lµ ph­¬ng h­íng chÝnh, lµ t­ t­ëng chØ ®¹o trong c«ng t¸c ®Êu tran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ThÓ hiÖn chÕ ®é nh©n ®¹o cña chÕ ®é XHC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H"/>
              </a:rPr>
              <a:t>2. Néi dung nhiÖm vô ho¹t ®éng phßng chèng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Nghiªn cøu x¸c ®Þnh râ c¸c nguyªn nh©n, ®iÒu kiÖn cña t×nh tr¹ng ph¹m téi 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(®©y lµ h­íng c¬ b¶n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-Sù t¸c ®éng cña mÆt tr¸i cña kinh tÕ thÞ tr­êng, cÇn cã mét hÖ thèng ph¸p luËt ®ång bé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b- Nghiªn cøu so¹n th¶o vµ  ®Ò ra c¸c chñ tr­¬ng biÖn ph¸p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c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æ chøc c¸c ho¹t ®éng phßng chèng c¸c téi ph¹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756-90FA-4C9D-9343-07019FFBC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-360" y="1219320"/>
            <a:ext cx="4800600" cy="54864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.VnTime"/>
              </a:rPr>
              <a:t>3. Chñ thÓ vµ nguyªn t¾c tæ chøc ho¹t ®éng phßng chèng téi ph¹m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a- Chñ thÓ ho¹t déng phßng chèng téi ph¹m.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Gåm cã Quèc héi, H§ND c¸c cÊp ban hµnh luËt ph¸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b- Nguyªn t¾c tæ chøc phßng chèng téi ph¹m lµ nhµ n­íc qu¶n lý kÕt hîp chñ ®éng phßng ngõa vµ tæ chøc tiÕn c«ng liªn tôc víi téi ph¹m tu©n thñ theo ph¸p luËt phèi hîp cô thÓ nh©n ®¹o khoa häc vµ tiÕn b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42B9-59E9-4E7E-BD7F-B459C9A95E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7" descr="F:\Anh\QUOCHOI\imagesCA32Q44S.jpg"/>
          <p:cNvPicPr/>
          <p:nvPr/>
        </p:nvPicPr>
        <p:blipFill>
          <a:blip r:embed="rId1"/>
          <a:stretch/>
        </p:blipFill>
        <p:spPr>
          <a:xfrm>
            <a:off x="5334120" y="3429000"/>
            <a:ext cx="3384360" cy="3124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F:\Anh\QUOCHOI\imagesCAMN9IY0.jpg"/>
          <p:cNvPicPr/>
          <p:nvPr/>
        </p:nvPicPr>
        <p:blipFill>
          <a:blip r:embed="rId2"/>
          <a:stretch/>
        </p:blipFill>
        <p:spPr>
          <a:xfrm>
            <a:off x="5943600" y="914400"/>
            <a:ext cx="1676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-360" y="304920"/>
            <a:ext cx="5334120" cy="64008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ff99ff"/>
                </a:solidFill>
                <a:latin typeface=".VnTime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"/>
              </a:rPr>
              <a:t>4. Ph©n lo¹i c¸c biÖn ph¸p phßng ngõa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a- HÖ thèng phßng ngõa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b- BiÖn ph¸p ph×ng ngõa téi ph¹m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trung cña c¶ n­íc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phßng chèng c¸ biÖ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trùc tiÕp cña c«ng a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cña c¸c tæ chøc x· hé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BiÖn ph¸p cña tõng c«ng d©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.VnTim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66B0-B287-4377-BEFF-FC9AA95551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F:\Anh\QUOCHOI\imagesCA09JK72.jpg"/>
          <p:cNvPicPr/>
          <p:nvPr/>
        </p:nvPicPr>
        <p:blipFill>
          <a:blip r:embed="rId1"/>
          <a:stretch/>
        </p:blipFill>
        <p:spPr>
          <a:xfrm>
            <a:off x="5486400" y="2209680"/>
            <a:ext cx="3594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.VnTime"/>
              </a:rPr>
              <a:t>5.Phßng chèng téi ph¹m trong c¸c nhµ tr­êng,Tr¸ch nhiÖm cña hs, sv vµ c¸c nhµ tr­êng trong phßng chèng téi ph¹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ff9999"/>
                </a:solidFill>
                <a:uFillTx/>
                <a:latin typeface=".VnTime"/>
              </a:rPr>
              <a:t>Nhµ tr­ên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Gi¸o dôc ý thøc PL cho HS, SV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Tuyªn truyÒn, giaã dôc ch­¬ng tr×nh quèc gia PCTP cho HS, SV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XD nhµ tr­êng trong s¹ch, lµnh m¹nh kh«ng cã c¸c hiÖn t­îng tiªu cùc, TNXH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X©y dùng c¸c quy chÕ qu¶n lý SV, KTX; tæ chøc cho SV tham gia vµo c¸c ho¹t ®éng tuÇn tra, kiÓm so¸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Phèi hîp víi CSKV, CA c¬ së ph¸t hiÖn sè cã biÓu hiÖn nghi vÊn ho¹t ®éng ph¹m té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Phèi hîp trong ®Êu tranh xãa c¸c tô ®iÓm xung quanh tr­êng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.VnTime"/>
              </a:rPr>
              <a:t>Phèi hîp trong b¶o vÖ hiÖn tr­êng khi cã sù viÖc ph¹m téi x¶y ra; ph¸t hiÖn cung cÊp tin cã liªn quan ®Õn téi ph¹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25"/>
              </a:spcBef>
              <a:buClr>
                <a:srgbClr val="ff388c"/>
              </a:buClr>
              <a:buSzPct val="80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5506-A2DC-4354-9F94-DA908E287C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uong Ba Thiet</cp:lastModifiedBy>
  <dcterms:modified xsi:type="dcterms:W3CDTF">2006-12-31T17:34:16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