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AE7-E92B-47BA-B6D5-4C8D558C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E5F-FFF7-4B8F-A575-36B42556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59F-A532-4B73-AB70-19694139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088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34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0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088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34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0FB-754F-4C5E-A276-0DAFFF28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36D-22FA-42FA-A977-9647A766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D86B-BEF1-4BFC-B4F0-139030AB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E7B8-F2C4-41C3-80E2-5A13C05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6A0F-3E0E-4614-8627-37F28C6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BD02-2DA3-486F-A608-A38D17D8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87280" y="190080"/>
            <a:ext cx="633744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35C2-8D60-49EA-B5FF-AA358623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2454-1815-497D-B721-B23027DA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18F-4D92-4E33-964C-CA4B455C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FDB-0CE4-48EB-8350-7400530A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2C37-2539-4C81-A099-39F7E75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2D3-AD4C-46EE-A271-6ABC48B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906-621F-4ADE-9885-F5B20447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088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73400" y="170028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088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73400" y="3849840"/>
            <a:ext cx="257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1916-C2E4-46B0-80EC-C9F598DB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429-397B-462B-B156-51469500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787-2B40-4EC9-B4E2-4B768A8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AF1-6618-4F72-8AE8-561F5BD6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87280" y="190080"/>
            <a:ext cx="633744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8B-A2B4-44C8-B87B-EC06885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AA3-DF67-4065-AEE2-FB52535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4080" y="384984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0B9-246C-4336-A85D-29EC0EA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4080" y="1700280"/>
            <a:ext cx="390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000" y="3849840"/>
            <a:ext cx="799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0C1-3389-4EEE-8578-9BF9A57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A76A-DD1E-4942-AD19-F7341C8C511A}" type="datetime2">
              <a:rPr b="0" lang="id-ID" sz="1400" spc="-1" strike="noStrike">
                <a:solidFill>
                  <a:srgbClr val="000000"/>
                </a:solidFill>
                <a:latin typeface="Times New Roman"/>
              </a:rPr>
              <a:t>Rabu 29 Juli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000000"/>
                </a:solidFill>
                <a:latin typeface="Times New Roman"/>
              </a:rPr>
              <a:t>Matematika Rekayasa 2 (FT 25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/ </a:t>
            </a:r>
            <a:fld id="{CAC6579F-A1DE-47FF-BEA0-128215FA01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116000" y="333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0800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39528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74304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varkom.avi" descr=""/>
          <p:cNvPicPr/>
          <p:nvPr/>
        </p:nvPicPr>
        <p:blipFill>
          <a:blip r:embed="rId2"/>
          <a:stretch/>
        </p:blipFill>
        <p:spPr>
          <a:xfrm>
            <a:off x="7596360" y="189000"/>
            <a:ext cx="1333440" cy="619200"/>
          </a:xfrm>
          <a:prstGeom prst="rect">
            <a:avLst/>
          </a:prstGeom>
          <a:ln w="0">
            <a:noFill/>
          </a:ln>
        </p:spPr>
      </p:pic>
      <p:sp>
        <p:nvSpPr>
          <p:cNvPr id="10" name="Line 12"/>
          <p:cNvSpPr/>
          <p:nvPr/>
        </p:nvSpPr>
        <p:spPr>
          <a:xfrm>
            <a:off x="468360" y="6237360"/>
            <a:ext cx="80643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" name="Picture 13" descr="logosttt"/>
          <p:cNvPicPr/>
          <p:nvPr/>
        </p:nvPicPr>
        <p:blipFill>
          <a:blip r:embed="rId3"/>
          <a:stretch/>
        </p:blipFill>
        <p:spPr>
          <a:xfrm>
            <a:off x="179280" y="0"/>
            <a:ext cx="723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8D06-373C-49C4-9E4C-D27E49D6CAA9}" type="datetime2">
              <a:rPr b="0" lang="id-ID" sz="1200" spc="-1" strike="noStrike">
                <a:solidFill>
                  <a:srgbClr val="336666"/>
                </a:solidFill>
                <a:latin typeface="Times New Roman"/>
              </a:rPr>
              <a:t>Rabu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336666"/>
                </a:solidFill>
                <a:latin typeface="Times New Roman"/>
              </a:rPr>
              <a:t>Matematika Rekayasa 2 (FT 25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D003-57EF-4874-B3B5-7B0FA4C9023B}" type="slidenum">
              <a:rPr b="0" lang="en-US" sz="16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0000"/>
                </a:solidFill>
                <a:latin typeface="Arial"/>
              </a:rPr>
              <a:t>MATEMATIKA REKAYASA 2</a:t>
            </a:r>
            <a:br>
              <a:rPr sz="4800"/>
            </a:br>
            <a:r>
              <a:rPr b="0" lang="id-ID" sz="4800" spc="-1" strike="noStrike">
                <a:solidFill>
                  <a:srgbClr val="000000"/>
                </a:solidFill>
                <a:latin typeface="Arial"/>
              </a:rPr>
              <a:t>FT 25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logosttt"/>
          <p:cNvPicPr/>
          <p:nvPr/>
        </p:nvPicPr>
        <p:blipFill>
          <a:blip r:embed="rId1"/>
          <a:stretch/>
        </p:blipFill>
        <p:spPr>
          <a:xfrm>
            <a:off x="6877080" y="3860640"/>
            <a:ext cx="134604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0)"/>
                                      </p:to>
                                    </p:set>
                                    <p:set>
                                      <p:cBhvr>
                                        <p:cTn id="7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0)"/>
                                      </p:to>
                                    </p:set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" dur="3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942-637A-41F4-A36F-AC54DBAA8AB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C3EF9521-FEEF-46F6-AD72-A0599B696C7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6920" y="190080"/>
            <a:ext cx="5905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5"/>
              <p:cNvSpPr txBox="1"/>
              <p:nvPr/>
            </p:nvSpPr>
            <p:spPr>
              <a:xfrm>
                <a:off x="1042920" y="1773360"/>
                <a:ext cx="35276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Text Box 26"/>
          <p:cNvSpPr/>
          <p:nvPr/>
        </p:nvSpPr>
        <p:spPr>
          <a:xfrm>
            <a:off x="1042920" y="3573360"/>
            <a:ext cx="4537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yelesaian integral dilakukan dengan metode integral parsial : u = t dan dv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t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8"/>
              <p:cNvSpPr txBox="1"/>
              <p:nvPr/>
            </p:nvSpPr>
            <p:spPr>
              <a:xfrm>
                <a:off x="4572000" y="1714680"/>
                <a:ext cx="42480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2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0"/>
              <p:cNvSpPr txBox="1"/>
              <p:nvPr/>
            </p:nvSpPr>
            <p:spPr>
              <a:xfrm>
                <a:off x="1763640" y="2708280"/>
                <a:ext cx="396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6" name="AutoShape 31"/>
          <p:cNvSpPr/>
          <p:nvPr/>
        </p:nvSpPr>
        <p:spPr>
          <a:xfrm rot="10800000">
            <a:off x="6083280" y="2629080"/>
            <a:ext cx="2736720" cy="2960640"/>
          </a:xfrm>
          <a:prstGeom prst="wedgeRoundRectCallout">
            <a:avLst>
              <a:gd name="adj1" fmla="val 62351"/>
              <a:gd name="adj2" fmla="val 32944"/>
              <a:gd name="adj3" fmla="val 16667"/>
            </a:avLst>
          </a:prstGeom>
          <a:solidFill>
            <a:srgbClr val="99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ku kedua sama dengan hasil yang diperoleh sebelumnya, sedangkan suku pertama diselesaikan dengan dalil delhopital, hasilnya no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3"/>
              <p:cNvSpPr txBox="1"/>
              <p:nvPr/>
            </p:nvSpPr>
            <p:spPr>
              <a:xfrm>
                <a:off x="1116000" y="4724280"/>
                <a:ext cx="4319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EB5-9CB4-4B3D-BC99-707BD587D86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041A91A4-7C15-462D-A4C3-F24E8282382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489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 rot="10800000">
            <a:off x="6300720" y="2781000"/>
            <a:ext cx="2449440" cy="3384360"/>
          </a:xfrm>
          <a:prstGeom prst="wedgeRoundRectCallout">
            <a:avLst>
              <a:gd name="adj1" fmla="val 70476"/>
              <a:gd name="adj2" fmla="val 5393"/>
              <a:gd name="adj3" fmla="val 16667"/>
            </a:avLst>
          </a:prstGeom>
          <a:solidFill>
            <a:srgbClr val="99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ku kedua sama dengan hasil yang diperoleh sebelumnya, sedangkan suku pertama diselesaikan dengan dalil delhopital, hasilnya no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1042920" y="1773360"/>
                <a:ext cx="2952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Text Box 24"/>
          <p:cNvSpPr/>
          <p:nvPr/>
        </p:nvSpPr>
        <p:spPr>
          <a:xfrm>
            <a:off x="4356000" y="1371600"/>
            <a:ext cx="4248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yelesaian integral dilakukan dengan metode integral parsial : u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6"/>
              <p:cNvSpPr txBox="1"/>
              <p:nvPr/>
            </p:nvSpPr>
            <p:spPr>
              <a:xfrm>
                <a:off x="1619280" y="2852640"/>
                <a:ext cx="3960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8"/>
              <p:cNvSpPr txBox="1"/>
              <p:nvPr/>
            </p:nvSpPr>
            <p:spPr>
              <a:xfrm>
                <a:off x="1619280" y="3860640"/>
                <a:ext cx="4105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0"/>
              <p:cNvSpPr txBox="1"/>
              <p:nvPr/>
            </p:nvSpPr>
            <p:spPr>
              <a:xfrm>
                <a:off x="1116000" y="4941720"/>
                <a:ext cx="46083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6379-45A7-4ADC-9928-EF6762C61F8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FDCED863-3567-48BF-9B8B-ABCA8C34D4A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7"/>
              <p:cNvSpPr txBox="1"/>
              <p:nvPr/>
            </p:nvSpPr>
            <p:spPr>
              <a:xfrm>
                <a:off x="1116000" y="1773360"/>
                <a:ext cx="3384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9"/>
              <p:cNvSpPr txBox="1"/>
              <p:nvPr/>
            </p:nvSpPr>
            <p:spPr>
              <a:xfrm>
                <a:off x="1116000" y="2492280"/>
                <a:ext cx="338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0"/>
              <p:cNvSpPr txBox="1"/>
              <p:nvPr/>
            </p:nvSpPr>
            <p:spPr>
              <a:xfrm>
                <a:off x="1116000" y="3357720"/>
                <a:ext cx="43196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3"/>
              <p:cNvSpPr txBox="1"/>
              <p:nvPr/>
            </p:nvSpPr>
            <p:spPr>
              <a:xfrm>
                <a:off x="1116000" y="4437000"/>
                <a:ext cx="40323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Rectangle 3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5"/>
              <p:cNvSpPr txBox="1"/>
              <p:nvPr/>
            </p:nvSpPr>
            <p:spPr>
              <a:xfrm>
                <a:off x="1116000" y="5365800"/>
                <a:ext cx="4105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1" name="Group 44"/>
          <p:cNvGrpSpPr/>
          <p:nvPr/>
        </p:nvGrpSpPr>
        <p:grpSpPr>
          <a:xfrm>
            <a:off x="5651640" y="1628640"/>
            <a:ext cx="2881080" cy="1150920"/>
            <a:chOff x="5651640" y="1628640"/>
            <a:chExt cx="2881080" cy="1150920"/>
          </a:xfrm>
        </p:grpSpPr>
        <p:sp>
          <p:nvSpPr>
            <p:cNvPr id="252" name="AutoShape 41"/>
            <p:cNvSpPr/>
            <p:nvPr/>
          </p:nvSpPr>
          <p:spPr>
            <a:xfrm>
              <a:off x="5651640" y="1628640"/>
              <a:ext cx="2881080" cy="1150920"/>
            </a:xfrm>
            <a:prstGeom prst="wedgeEllipseCallout">
              <a:avLst>
                <a:gd name="adj1" fmla="val -56722"/>
                <a:gd name="adj2" fmla="val 137722"/>
              </a:avLst>
            </a:prstGeom>
            <a:solidFill>
              <a:srgbClr val="ffff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42"/>
                <p:cNvSpPr txBox="1"/>
                <p:nvPr/>
              </p:nvSpPr>
              <p:spPr>
                <a:xfrm>
                  <a:off x="6156360" y="1652760"/>
                  <a:ext cx="194472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Group 49"/>
          <p:cNvGrpSpPr/>
          <p:nvPr/>
        </p:nvGrpSpPr>
        <p:grpSpPr>
          <a:xfrm>
            <a:off x="5867280" y="3214800"/>
            <a:ext cx="2881440" cy="1150920"/>
            <a:chOff x="5867280" y="3214800"/>
            <a:chExt cx="2881440" cy="1150920"/>
          </a:xfrm>
        </p:grpSpPr>
        <p:sp>
          <p:nvSpPr>
            <p:cNvPr id="255" name="AutoShape 46"/>
            <p:cNvSpPr/>
            <p:nvPr/>
          </p:nvSpPr>
          <p:spPr>
            <a:xfrm>
              <a:off x="5867280" y="3214800"/>
              <a:ext cx="2881440" cy="1150920"/>
            </a:xfrm>
            <a:prstGeom prst="wedgeEllipseCallout">
              <a:avLst>
                <a:gd name="adj1" fmla="val -72587"/>
                <a:gd name="adj2" fmla="val 10089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47"/>
                <p:cNvSpPr txBox="1"/>
                <p:nvPr/>
              </p:nvSpPr>
              <p:spPr>
                <a:xfrm>
                  <a:off x="6372360" y="3332160"/>
                  <a:ext cx="1944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4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B7AB-240F-40E2-831C-80F2E2F1CF58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6619CEC-B7C9-42AA-9B4A-5E69B546AA0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 dari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3706920" y="563400"/>
                <a:ext cx="1728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3"/>
              <p:cNvSpPr txBox="1"/>
              <p:nvPr/>
            </p:nvSpPr>
            <p:spPr>
              <a:xfrm>
                <a:off x="1042920" y="1628640"/>
                <a:ext cx="37450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4932360" y="1612800"/>
                <a:ext cx="295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7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7"/>
              <p:cNvSpPr txBox="1"/>
              <p:nvPr/>
            </p:nvSpPr>
            <p:spPr>
              <a:xfrm>
                <a:off x="1763640" y="2708280"/>
                <a:ext cx="3960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9"/>
              <p:cNvSpPr txBox="1"/>
              <p:nvPr/>
            </p:nvSpPr>
            <p:spPr>
              <a:xfrm>
                <a:off x="1763640" y="3716280"/>
                <a:ext cx="4681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1817640" y="4797360"/>
                <a:ext cx="41767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AutoShape 23"/>
          <p:cNvSpPr/>
          <p:nvPr/>
        </p:nvSpPr>
        <p:spPr>
          <a:xfrm rot="10800000">
            <a:off x="6807240" y="3511800"/>
            <a:ext cx="1944720" cy="2076120"/>
          </a:xfrm>
          <a:prstGeom prst="wedgeRoundRectCallout">
            <a:avLst>
              <a:gd name="adj1" fmla="val 90643"/>
              <a:gd name="adj2" fmla="val -38856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a s – a &gt; 0 maka limit ada dan berhingg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4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D28A-155E-4D9B-8C8B-37B3BEAA001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Footer Placeholder 5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Slide Number Placeholder 6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193FB6B5-383B-407D-9966-F199C962A085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 dari 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706920" y="563400"/>
                <a:ext cx="1728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116000" y="3147840"/>
                <a:ext cx="338472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7"/>
              <p:cNvSpPr txBox="1"/>
              <p:nvPr/>
            </p:nvSpPr>
            <p:spPr>
              <a:xfrm>
                <a:off x="1116000" y="1844640"/>
                <a:ext cx="5472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AutoShape 20"/>
          <p:cNvSpPr/>
          <p:nvPr/>
        </p:nvSpPr>
        <p:spPr>
          <a:xfrm>
            <a:off x="5362560" y="3284640"/>
            <a:ext cx="2881440" cy="1584360"/>
          </a:xfrm>
          <a:prstGeom prst="wedgeEllipseCallout">
            <a:avLst>
              <a:gd name="adj1" fmla="val -77273"/>
              <a:gd name="adj2" fmla="val -18736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ormasi Inver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0E4-E614-4C7F-9641-1BA273EF989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C91F6176-DA80-4402-9E07-04129E68CD7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ntinu bagian demi ba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da interval [ a,b ] bi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 [ a,b ] dapat dibagi menjadi sub-sub interval  yang berhingga banyaknya yang menyebabkan f(t) kontinu pada sub-sub interval terse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dari f(t) pada setiap ujung sub interval bernilai hing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f(t) dise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batas eksponens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da interval [a,b ] bila terdapat bilangan real M dan r  sehingga berlaku | f(t) | =&lt; M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tuk setiap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^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dak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250920" y="4653000"/>
            <a:ext cx="4537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8597-B2B5-41EE-9472-377A123A64C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09BE87A-7965-41C7-94E4-326D0EEEAF8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Graf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500720" y="1916280"/>
            <a:ext cx="4392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2340000" y="1989000"/>
            <a:ext cx="0" cy="266400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1187280" y="3789360"/>
            <a:ext cx="5905800" cy="0"/>
          </a:xfrm>
          <a:prstGeom prst="line">
            <a:avLst/>
          </a:prstGeom>
          <a:ln w="936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2700360" y="3749760"/>
            <a:ext cx="71280" cy="730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Oval 10"/>
          <p:cNvSpPr/>
          <p:nvPr/>
        </p:nvSpPr>
        <p:spPr>
          <a:xfrm>
            <a:off x="6397560" y="3759120"/>
            <a:ext cx="71640" cy="730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Freeform 11"/>
          <p:cNvSpPr/>
          <p:nvPr/>
        </p:nvSpPr>
        <p:spPr>
          <a:xfrm>
            <a:off x="2700360" y="2984400"/>
            <a:ext cx="934920" cy="157320"/>
          </a:xfrm>
          <a:prstGeom prst="pie">
            <a:avLst/>
          </a:prstGeom>
          <a:noFill/>
          <a:ln w="9360">
            <a:solidFill>
              <a:srgbClr val="3366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635280" y="2708280"/>
            <a:ext cx="1297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3614760" y="2670120"/>
            <a:ext cx="71280" cy="7308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Freeform 14"/>
          <p:cNvSpPr/>
          <p:nvPr/>
        </p:nvSpPr>
        <p:spPr>
          <a:xfrm>
            <a:off x="4932360" y="2276640"/>
            <a:ext cx="1511280" cy="144360"/>
          </a:xfrm>
          <a:prstGeom prst="pie">
            <a:avLst/>
          </a:prstGeom>
          <a:noFill/>
          <a:ln w="9360">
            <a:solidFill>
              <a:srgbClr val="33666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4897440" y="2382840"/>
            <a:ext cx="71280" cy="73080"/>
          </a:xfrm>
          <a:prstGeom prst="ellipse">
            <a:avLst/>
          </a:pr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5704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30252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BAB-0550-4663-B945-3DCA897760D1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4917B7F7-BD8A-489C-8F91-2CCCD374EB18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121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Graf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Kontinu Bagian demi Bagian d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Terbatas Eksponen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730760" y="2122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4500720" y="1916280"/>
            <a:ext cx="4392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17" name="Picture 7" descr="tangen"/>
          <p:cNvPicPr/>
          <p:nvPr/>
        </p:nvPicPr>
        <p:blipFill>
          <a:blip r:embed="rId1"/>
          <a:stretch/>
        </p:blipFill>
        <p:spPr>
          <a:xfrm>
            <a:off x="684360" y="1962000"/>
            <a:ext cx="4032000" cy="2762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te"/>
          <p:cNvPicPr/>
          <p:nvPr/>
        </p:nvPicPr>
        <p:blipFill>
          <a:blip r:embed="rId2"/>
          <a:stretch/>
        </p:blipFill>
        <p:spPr>
          <a:xfrm>
            <a:off x="4932360" y="1989000"/>
            <a:ext cx="316872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DEDC-800D-413B-8D77-22E0F68D643E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1A9B014B-654A-4804-8B22-4AEC95063F5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fat  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561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Keberadaan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:Transformasi Laplace dari f(t) dengan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0 ada bila f(t) kontinu bagian demi bagian dan terbatas eksponensial untuk    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tungga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ransformasi Laplace dari suatu fungsi adalah tunggal yaitu bila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dan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merupakan transformasi Laplace dari f(t) maka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 = F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1262160" y="5013360"/>
                <a:ext cx="532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Text Box 4"/>
          <p:cNvSpPr/>
          <p:nvPr/>
        </p:nvSpPr>
        <p:spPr>
          <a:xfrm>
            <a:off x="1189080" y="448452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ifat Linear Transformasi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8"/>
              <p:cNvSpPr txBox="1"/>
              <p:nvPr/>
            </p:nvSpPr>
            <p:spPr>
              <a:xfrm>
                <a:off x="1303200" y="5445000"/>
                <a:ext cx="6869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740-E464-43E5-8E11-91028C54088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9E030BCD-3ADF-4C65-B4F9-6A4768DADF4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TL dar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4284720" y="299880"/>
                <a:ext cx="23749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6"/>
              <p:cNvSpPr txBox="1"/>
              <p:nvPr/>
            </p:nvSpPr>
            <p:spPr>
              <a:xfrm>
                <a:off x="1116000" y="1916280"/>
                <a:ext cx="5256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8"/>
              <p:cNvSpPr txBox="1"/>
              <p:nvPr/>
            </p:nvSpPr>
            <p:spPr>
              <a:xfrm>
                <a:off x="1116000" y="3645000"/>
                <a:ext cx="55436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1187280" y="2708280"/>
                <a:ext cx="3240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</m:t>
                        </m:r>
                        <m:r>
                          <m:t xml:space="preserve">!</m:t>
                        </m:r>
                        <m:r>
                          <m:t xml:space="preserve">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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9CA-A491-414E-B2CB-AC1120D1094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CEE4FF3E-0C0C-48AE-86C6-28C69AB39B6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396720" y="2724120"/>
            <a:ext cx="7972560" cy="113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E9B-DE69-434A-A70D-B05D094B2E5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2AF65B76-8DA5-4B30-B2CB-A2F3F8E17FD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ukan invers da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4716360" y="527040"/>
                <a:ext cx="24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4"/>
              <p:cNvSpPr txBox="1"/>
              <p:nvPr/>
            </p:nvSpPr>
            <p:spPr>
              <a:xfrm>
                <a:off x="1116000" y="1773360"/>
                <a:ext cx="3960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1619280" y="2708280"/>
                <a:ext cx="2232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7"/>
              <p:cNvSpPr txBox="1"/>
              <p:nvPr/>
            </p:nvSpPr>
            <p:spPr>
              <a:xfrm>
                <a:off x="5146560" y="4167360"/>
                <a:ext cx="2665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2"/>
              <p:cNvSpPr txBox="1"/>
              <p:nvPr/>
            </p:nvSpPr>
            <p:spPr>
              <a:xfrm>
                <a:off x="5364000" y="1668600"/>
                <a:ext cx="2448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2" name="Group 25"/>
          <p:cNvGrpSpPr/>
          <p:nvPr/>
        </p:nvGrpSpPr>
        <p:grpSpPr>
          <a:xfrm>
            <a:off x="4930920" y="2708280"/>
            <a:ext cx="3457440" cy="1081080"/>
            <a:chOff x="4930920" y="2708280"/>
            <a:chExt cx="3457440" cy="1081080"/>
          </a:xfrm>
        </p:grpSpPr>
        <mc:AlternateContent>
          <mc:Choice xmlns:a14="http://schemas.microsoft.com/office/drawing/2010/main" Requires="a14">
            <p:sp>
              <p:nvSpPr>
                <p:cNvPr id="353" name="Object 16"/>
                <p:cNvSpPr txBox="1"/>
                <p:nvPr/>
              </p:nvSpPr>
              <p:spPr>
                <a:xfrm>
                  <a:off x="5364000" y="2852640"/>
                  <a:ext cx="266400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AutoShape 24"/>
            <p:cNvSpPr/>
            <p:nvPr/>
          </p:nvSpPr>
          <p:spPr>
            <a:xfrm>
              <a:off x="4930920" y="2708280"/>
              <a:ext cx="3457440" cy="1081080"/>
            </a:xfrm>
            <a:prstGeom prst="wedgeRoundRectCallout">
              <a:avLst>
                <a:gd name="adj1" fmla="val -78560"/>
                <a:gd name="adj2" fmla="val -11527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55" name="AutoShape 26"/>
          <p:cNvSpPr/>
          <p:nvPr/>
        </p:nvSpPr>
        <p:spPr>
          <a:xfrm>
            <a:off x="1187280" y="4005360"/>
            <a:ext cx="2448000" cy="1008000"/>
          </a:xfrm>
          <a:prstGeom prst="wedgeRoundRectCallout">
            <a:avLst>
              <a:gd name="adj1" fmla="val 107004"/>
              <a:gd name="adj2" fmla="val 14564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ormasi Invers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F62-9AF2-48AE-8312-65BB80E6393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8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E474C822-2569-43CC-8C2F-89894CAC191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al Latih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ukan Transformasi Laplace dari fung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sinh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cosh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t) = sin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tukan invers da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476360" y="4005360"/>
                <a:ext cx="2376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1476360" y="4797360"/>
                <a:ext cx="18716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603360" y="4330800"/>
                <a:ext cx="22525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52F8-598E-42DC-939E-4263A3AAE8E6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/ </a:t>
            </a:r>
            <a:fld id="{E3D767DF-08DE-4CC1-9654-51451A55ED37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bel T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3132000" y="1268280"/>
            <a:ext cx="3600000" cy="4608000"/>
            <a:chOff x="3132000" y="1268280"/>
            <a:chExt cx="3600000" cy="4608000"/>
          </a:xfrm>
        </p:grpSpPr>
        <p:grpSp>
          <p:nvGrpSpPr>
            <p:cNvPr id="369" name="Group 5"/>
            <p:cNvGrpSpPr/>
            <p:nvPr/>
          </p:nvGrpSpPr>
          <p:grpSpPr>
            <a:xfrm>
              <a:off x="3132000" y="1268280"/>
              <a:ext cx="3600000" cy="4608000"/>
              <a:chOff x="3132000" y="1268280"/>
              <a:chExt cx="3600000" cy="4608000"/>
            </a:xfrm>
          </p:grpSpPr>
          <p:sp>
            <p:nvSpPr>
              <p:cNvPr id="370" name="Rectangle 6"/>
              <p:cNvSpPr/>
              <p:nvPr/>
            </p:nvSpPr>
            <p:spPr>
              <a:xfrm>
                <a:off x="5017680" y="519660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1" name="Rectangle 7"/>
              <p:cNvSpPr/>
              <p:nvPr/>
            </p:nvSpPr>
            <p:spPr>
              <a:xfrm>
                <a:off x="3132000" y="519660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cosh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2" name="Rectangle 8"/>
              <p:cNvSpPr/>
              <p:nvPr/>
            </p:nvSpPr>
            <p:spPr>
              <a:xfrm>
                <a:off x="5017680" y="4516560"/>
                <a:ext cx="171432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3" name="Rectangle 9"/>
              <p:cNvSpPr/>
              <p:nvPr/>
            </p:nvSpPr>
            <p:spPr>
              <a:xfrm>
                <a:off x="3132000" y="4516560"/>
                <a:ext cx="188568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sinh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5017680" y="3834720"/>
                <a:ext cx="171432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5" name="Rectangle 11"/>
              <p:cNvSpPr/>
              <p:nvPr/>
            </p:nvSpPr>
            <p:spPr>
              <a:xfrm>
                <a:off x="3132000" y="3834720"/>
                <a:ext cx="1885680" cy="6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cos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6" name="Rectangle 12"/>
              <p:cNvSpPr/>
              <p:nvPr/>
            </p:nvSpPr>
            <p:spPr>
              <a:xfrm>
                <a:off x="5017680" y="3158280"/>
                <a:ext cx="171432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7" name="Rectangle 13"/>
              <p:cNvSpPr/>
              <p:nvPr/>
            </p:nvSpPr>
            <p:spPr>
              <a:xfrm>
                <a:off x="3132000" y="3158280"/>
                <a:ext cx="18856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sin bt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8" name="Rectangle 14"/>
              <p:cNvSpPr/>
              <p:nvPr/>
            </p:nvSpPr>
            <p:spPr>
              <a:xfrm>
                <a:off x="5017680" y="2403000"/>
                <a:ext cx="171432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79" name="Rectangle 15"/>
              <p:cNvSpPr/>
              <p:nvPr/>
            </p:nvSpPr>
            <p:spPr>
              <a:xfrm>
                <a:off x="3132000" y="2403000"/>
                <a:ext cx="1885680" cy="7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at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0" name="Rectangle 16"/>
              <p:cNvSpPr/>
              <p:nvPr/>
            </p:nvSpPr>
            <p:spPr>
              <a:xfrm>
                <a:off x="5017680" y="1683000"/>
                <a:ext cx="171432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1" name="Rectangle 17"/>
              <p:cNvSpPr/>
              <p:nvPr/>
            </p:nvSpPr>
            <p:spPr>
              <a:xfrm>
                <a:off x="3132000" y="1683000"/>
                <a:ext cx="188568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n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( n 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B</a:t>
                </a:r>
                <a:r>
                  <a:rPr b="0" lang="en-US" sz="2000" spc="-1" strike="noStrike" baseline="30000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+</a:t>
                </a:r>
                <a:r>
                  <a:rPr b="0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 )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5017680" y="1268280"/>
                <a:ext cx="171432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F ( s ) 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3" name="Rectangle 19"/>
              <p:cNvSpPr/>
              <p:nvPr/>
            </p:nvSpPr>
            <p:spPr>
              <a:xfrm>
                <a:off x="3132000" y="1268280"/>
                <a:ext cx="1885680" cy="4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66"/>
                    </a:solidFill>
                    <a:latin typeface="Book Antiqua"/>
                    <a:ea typeface="Times New Roman"/>
                  </a:rPr>
                  <a:t>f ( t )</a:t>
                </a:r>
                <a:endParaRPr b="0" lang="en-US" sz="2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3132000" y="126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5" name="Line 21"/>
              <p:cNvSpPr/>
              <p:nvPr/>
            </p:nvSpPr>
            <p:spPr>
              <a:xfrm>
                <a:off x="3132000" y="5876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6" name="Line 22"/>
              <p:cNvSpPr/>
              <p:nvPr/>
            </p:nvSpPr>
            <p:spPr>
              <a:xfrm>
                <a:off x="31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7" name="Line 23"/>
              <p:cNvSpPr/>
              <p:nvPr/>
            </p:nvSpPr>
            <p:spPr>
              <a:xfrm>
                <a:off x="673200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8" name="Line 24"/>
              <p:cNvSpPr/>
              <p:nvPr/>
            </p:nvSpPr>
            <p:spPr>
              <a:xfrm>
                <a:off x="3132000" y="168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89" name="Line 25"/>
              <p:cNvSpPr/>
              <p:nvPr/>
            </p:nvSpPr>
            <p:spPr>
              <a:xfrm>
                <a:off x="5017680" y="1268280"/>
                <a:ext cx="0" cy="46080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0" name="Line 26"/>
              <p:cNvSpPr/>
              <p:nvPr/>
            </p:nvSpPr>
            <p:spPr>
              <a:xfrm>
                <a:off x="3132000" y="24030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1" name="Line 27"/>
              <p:cNvSpPr/>
              <p:nvPr/>
            </p:nvSpPr>
            <p:spPr>
              <a:xfrm>
                <a:off x="3132000" y="315828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2" name="Line 28"/>
              <p:cNvSpPr/>
              <p:nvPr/>
            </p:nvSpPr>
            <p:spPr>
              <a:xfrm>
                <a:off x="3132000" y="383472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3" name="Line 29"/>
              <p:cNvSpPr/>
              <p:nvPr/>
            </p:nvSpPr>
            <p:spPr>
              <a:xfrm>
                <a:off x="3132000" y="451656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394" name="Line 30"/>
              <p:cNvSpPr/>
              <p:nvPr/>
            </p:nvSpPr>
            <p:spPr>
              <a:xfrm>
                <a:off x="3132000" y="5196600"/>
                <a:ext cx="360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5" name="Object 3"/>
                <p:cNvSpPr txBox="1"/>
                <p:nvPr/>
              </p:nvSpPr>
              <p:spPr>
                <a:xfrm>
                  <a:off x="5360400" y="1643400"/>
                  <a:ext cx="79740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r>
                            <m:t xml:space="preserve"></m:t>
                          </m:r>
                          <m:r>
                            <m:t xml:space="preserve">!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4"/>
                <p:cNvSpPr txBox="1"/>
                <p:nvPr/>
              </p:nvSpPr>
              <p:spPr>
                <a:xfrm>
                  <a:off x="5446800" y="2400120"/>
                  <a:ext cx="856440" cy="64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5"/>
                <p:cNvSpPr txBox="1"/>
                <p:nvPr/>
              </p:nvSpPr>
              <p:spPr>
                <a:xfrm>
                  <a:off x="5280480" y="3155040"/>
                  <a:ext cx="1107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Object 6"/>
                <p:cNvSpPr txBox="1"/>
                <p:nvPr/>
              </p:nvSpPr>
              <p:spPr>
                <a:xfrm>
                  <a:off x="5360400" y="3835080"/>
                  <a:ext cx="111456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7"/>
                <p:cNvSpPr txBox="1"/>
                <p:nvPr/>
              </p:nvSpPr>
              <p:spPr>
                <a:xfrm>
                  <a:off x="5275080" y="4516920"/>
                  <a:ext cx="11134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8"/>
                <p:cNvSpPr txBox="1"/>
                <p:nvPr/>
              </p:nvSpPr>
              <p:spPr>
                <a:xfrm>
                  <a:off x="5275080" y="5196960"/>
                  <a:ext cx="1113480" cy="65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Line 38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6640560" y="1797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 &gt; 0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6659640" y="26114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s &gt; 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4" name="AutoShape 41"/>
          <p:cNvSpPr/>
          <p:nvPr/>
        </p:nvSpPr>
        <p:spPr>
          <a:xfrm>
            <a:off x="324000" y="1557360"/>
            <a:ext cx="2663640" cy="2735280"/>
          </a:xfrm>
          <a:prstGeom prst="cloudCallout">
            <a:avLst>
              <a:gd name="adj1" fmla="val -32060"/>
              <a:gd name="adj2" fmla="val 700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F(S) akan merupakan invers TL dari sebuah fungsi bil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DDD0-E458-426D-BF42-5491EB873DCA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E81588E3-9CF9-4DCB-A84F-8FC7383EF69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408" name="Rectangle 6" descr=""/>
          <p:cNvPicPr/>
          <p:nvPr/>
        </p:nvPicPr>
        <p:blipFill>
          <a:blip r:embed="rId1"/>
          <a:stretch/>
        </p:blipFill>
        <p:spPr>
          <a:xfrm>
            <a:off x="201600" y="725400"/>
            <a:ext cx="8631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54D5-6EDD-4FCA-820C-2DC8FC7DE4DD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987640" y="6248520"/>
            <a:ext cx="308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AC17A940-3AFA-4A70-ACDB-D228A62A122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Sub Pokok Bahas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si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rhitungan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800" spc="-1" strike="noStrike">
                <a:solidFill>
                  <a:srgbClr val="000000"/>
                </a:solidFill>
                <a:latin typeface="Arial"/>
              </a:rPr>
              <a:t>Sasaran Belaj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ahasiswa mampu mengenali bentuk transformasi La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ahasiswa mampu menghitung transformasi Laplace berdasarkan defin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yarat Kelulusan 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CBC-3C47-4DA2-81F2-A837D8C300AC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D097C1FB-284C-4AC3-B8B8-73D98BB5371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D7C0-9860-402F-8807-72530B54D9E7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053C7F3A-0C59-4CA4-A4C7-10D510EBB3B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si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991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si Laplace (TL) merupakan klas dari Transformasi Integ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gunaan TL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ubah bentuk PDB menjadi persamaan alja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ubah bentuk PDP menjadi P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formasi laplace dari fungsi f(t) 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65120" y="3714840"/>
          <a:ext cx="370224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714840"/>
                    <a:ext cx="370224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830840" y="3716280"/>
            <a:ext cx="3527280" cy="792360"/>
          </a:xfrm>
          <a:prstGeom prst="wedgeRoundRectCallout">
            <a:avLst>
              <a:gd name="adj1" fmla="val -72277"/>
              <a:gd name="adj2" fmla="val 2555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s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j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826920" y="5013360"/>
                <a:ext cx="259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AutoShape 11"/>
          <p:cNvSpPr/>
          <p:nvPr/>
        </p:nvSpPr>
        <p:spPr>
          <a:xfrm>
            <a:off x="3851280" y="4797360"/>
            <a:ext cx="4392720" cy="936720"/>
          </a:xfrm>
          <a:prstGeom prst="wedgeRoundRectCallout">
            <a:avLst>
              <a:gd name="adj1" fmla="val -59578"/>
              <a:gd name="adj2" fmla="val 2712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5CE-B681-4916-8EC7-AA76BD30B874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531B63D4-523D-44D1-8994-9E1DEEE7110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99128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da penerapan kebanyakan sinyal adalah kausal ( f(t) = 0 , untuk t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formasi laplace one-side dari fungsi f(t) 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941400" y="3002040"/>
                <a:ext cx="3095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AutoShape 6"/>
          <p:cNvSpPr/>
          <p:nvPr/>
        </p:nvSpPr>
        <p:spPr>
          <a:xfrm>
            <a:off x="4830840" y="2928960"/>
            <a:ext cx="3527280" cy="792000"/>
          </a:xfrm>
          <a:prstGeom prst="wedgeRoundRectCallout">
            <a:avLst>
              <a:gd name="adj1" fmla="val -72277"/>
              <a:gd name="adj2" fmla="val 25550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si : L ( f(t) ) = F(s)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0C4-F5DD-46B8-B859-879118FBE675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63DA6E37-73E0-4DDB-9FF1-4AFDB99503A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hitungan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formasi Lapl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042920" y="1844640"/>
                <a:ext cx="3743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AutoShape 6"/>
          <p:cNvSpPr/>
          <p:nvPr/>
        </p:nvSpPr>
        <p:spPr>
          <a:xfrm>
            <a:off x="5867280" y="1628640"/>
            <a:ext cx="2232000" cy="1079640"/>
          </a:xfrm>
          <a:prstGeom prst="wedgeRoundRectCallout">
            <a:avLst>
              <a:gd name="adj1" fmla="val -93740"/>
              <a:gd name="adj2" fmla="val 15148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Integral Tak Wajar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42920" y="324648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r diperoleh TL dari fungsi f(t) maka Integral Tak Wajar haru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onver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aitu 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limit ada dan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hingga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42DC-06A4-4052-A720-0F154423A3CF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76698195-60F9-4930-98DE-E219D405511D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6337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toh #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hitungan T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tukan TL dari fungsi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t)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5"/>
          <p:cNvSpPr/>
          <p:nvPr/>
        </p:nvSpPr>
        <p:spPr>
          <a:xfrm>
            <a:off x="6156360" y="6248520"/>
            <a:ext cx="23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0C7F-0CDB-4F78-A2DE-27CA8EBCFC22}" type="datetime2">
              <a:rPr b="0" lang="id-ID" sz="1400" spc="-1" strike="noStrike">
                <a:solidFill>
                  <a:srgbClr val="000000"/>
                </a:solidFill>
                <a:latin typeface="Arial"/>
              </a:rPr>
              <a:t>Rabu 29 Juli 2026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Footer Placeholder 6"/>
          <p:cNvSpPr/>
          <p:nvPr/>
        </p:nvSpPr>
        <p:spPr>
          <a:xfrm>
            <a:off x="2987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400" spc="-1" strike="noStrike">
                <a:solidFill>
                  <a:srgbClr val="336666"/>
                </a:solidFill>
                <a:latin typeface="Arial"/>
              </a:rPr>
              <a:t>Matematika Rekayasa 2 (FT 2523)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Slide Number Placeholder 7"/>
          <p:cNvSpPr/>
          <p:nvPr/>
        </p:nvSpPr>
        <p:spPr>
          <a:xfrm>
            <a:off x="468360" y="623736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/ </a:t>
            </a:r>
            <a:fld id="{DC5AD763-7CAB-4F35-A910-1284D382038F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6920" y="190080"/>
            <a:ext cx="64090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 dari Fungsi f(t)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35040" y="2708280"/>
                <a:ext cx="2016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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b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027080" y="1700280"/>
                <a:ext cx="49849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  <m:r>
                              <m:t xml:space="preserve">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6"/>
              <p:cNvSpPr txBox="1"/>
              <p:nvPr/>
            </p:nvSpPr>
            <p:spPr>
              <a:xfrm>
                <a:off x="3780000" y="2657520"/>
                <a:ext cx="27367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b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Rectangle 29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8"/>
              <p:cNvSpPr txBox="1"/>
              <p:nvPr/>
            </p:nvSpPr>
            <p:spPr>
              <a:xfrm>
                <a:off x="1547640" y="3429000"/>
                <a:ext cx="2592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sb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3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1"/>
              <p:cNvSpPr txBox="1"/>
              <p:nvPr/>
            </p:nvSpPr>
            <p:spPr>
              <a:xfrm>
                <a:off x="4305240" y="3500280"/>
                <a:ext cx="3095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3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5"/>
              <p:cNvSpPr txBox="1"/>
              <p:nvPr/>
            </p:nvSpPr>
            <p:spPr>
              <a:xfrm>
                <a:off x="2484360" y="5210280"/>
                <a:ext cx="4321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Rectangle 3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AutoShape 49"/>
          <p:cNvSpPr/>
          <p:nvPr/>
        </p:nvSpPr>
        <p:spPr>
          <a:xfrm>
            <a:off x="1189080" y="4522680"/>
            <a:ext cx="6912000" cy="496440"/>
          </a:xfrm>
          <a:prstGeom prst="wedgeRoundRectCallout">
            <a:avLst>
              <a:gd name="adj1" fmla="val -12384"/>
              <a:gd name="adj2" fmla="val -75212"/>
              <a:gd name="adj3" fmla="val 16667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s &gt; 0 maka limit akan ada dan berhingga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16:14Z</dcterms:created>
  <dc:creator>Danang</dc:creator>
  <dc:description/>
  <dc:language>en-US</dc:language>
  <cp:lastModifiedBy>Toshiba</cp:lastModifiedBy>
  <dcterms:modified xsi:type="dcterms:W3CDTF">2012-01-30T08:54:09Z</dcterms:modified>
  <cp:revision>121</cp:revision>
  <dc:subject/>
  <dc:title>Variabel Komplek MA …3</dc:title>
</cp:coreProperties>
</file>