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A0B-E4BA-4F03-97BA-6D0B4D72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" y="384984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B5B-00D0-4E28-AD79-8B82B899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408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9B2-ECE0-460B-8BF0-326DE56E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088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7340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00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088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7340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6C8-8857-40B2-89F2-A4F55E33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7548-9710-4227-9AFE-95BA42C0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21D8-E4FD-49AE-9028-887C221C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03CE-9C20-40C1-BD08-52BAF947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7D62-6E76-4EAB-985A-2BF8F09F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CBEC-9C64-4A5F-B45B-E58D76C9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87280" y="190080"/>
            <a:ext cx="633744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AA66-F8FD-45EE-9C3D-13D574C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8502-A79D-489E-8B6C-FE7D844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92E-A482-4C5C-8423-8DF581E0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408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0BD9-6962-44DF-A8A2-7CED790C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1826-4CC8-4539-90F8-2C3BA08B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" y="384984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0B3D-037C-4753-A4E6-44CD859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408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4662-84DA-403B-A6C3-885364FC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7088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7340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00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7088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7340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445D-80B0-4C91-A192-DF5D0B72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3CD-ED92-47E4-A4BE-C8F91E24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D00-242A-4F70-8A92-D1D99349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847-D714-4C04-B700-BEB4CB0B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87280" y="190080"/>
            <a:ext cx="633744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CCE-6323-48B0-A0F0-74813268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0DC-C0AC-4CD3-A9BB-B931B962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408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5F0-40E0-494C-9BD6-5796655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3BC-BA12-4618-A480-C2A12F5E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BC7E-BF91-4C8C-8AC3-8FC1C7ADD96D}" type="datetime2">
              <a:rPr b="0" lang="id-ID" sz="1400" spc="-1" strike="noStrike">
                <a:solidFill>
                  <a:srgbClr val="000000"/>
                </a:solidFill>
                <a:latin typeface="Times New Roman"/>
              </a:rPr>
              <a:t>Kamis 30 Juli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Times New Roman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/ </a:t>
            </a:r>
            <a:fld id="{3C2648D2-5A42-4C20-ADB2-CF24CA5B41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116000" y="333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0800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39528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74304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varkom.avi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10" name="Line 12"/>
          <p:cNvSpPr/>
          <p:nvPr/>
        </p:nvSpPr>
        <p:spPr>
          <a:xfrm>
            <a:off x="468360" y="6237360"/>
            <a:ext cx="80643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" name="Picture 13" descr="logosttt"/>
          <p:cNvPicPr/>
          <p:nvPr/>
        </p:nvPicPr>
        <p:blipFill>
          <a:blip r:embed="rId3"/>
          <a:stretch/>
        </p:blipFill>
        <p:spPr>
          <a:xfrm>
            <a:off x="179280" y="0"/>
            <a:ext cx="72396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E37A-3F77-4EB7-A54F-0FF278603115}" type="datetime2">
              <a:rPr b="0" lang="id-ID" sz="1200" spc="-1" strike="noStrike">
                <a:solidFill>
                  <a:srgbClr val="336666"/>
                </a:solidFill>
                <a:latin typeface="Times New Roman"/>
              </a:rPr>
              <a:t>Kamis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336666"/>
                </a:solidFill>
                <a:latin typeface="Times New Roman"/>
              </a:rPr>
              <a:t>Matematika Rekayasa 2 (FT 25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ADAC-2F41-428F-B1D2-3B29A34AF052}" type="slidenum">
              <a:rPr b="0" lang="en-US" sz="16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000000"/>
                </a:solidFill>
                <a:latin typeface="Arial"/>
              </a:rPr>
              <a:t>MATEMATIKA REKAYASA 2</a:t>
            </a:r>
            <a:br>
              <a:rPr sz="4800"/>
            </a:br>
            <a:r>
              <a:rPr b="0" lang="id-ID" sz="4800" spc="-1" strike="noStrike">
                <a:solidFill>
                  <a:srgbClr val="000000"/>
                </a:solidFill>
                <a:latin typeface="Arial"/>
              </a:rPr>
              <a:t>FT 25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logosttt"/>
          <p:cNvPicPr/>
          <p:nvPr/>
        </p:nvPicPr>
        <p:blipFill>
          <a:blip r:embed="rId1"/>
          <a:stretch/>
        </p:blipFill>
        <p:spPr>
          <a:xfrm>
            <a:off x="6877080" y="3860640"/>
            <a:ext cx="1346040" cy="15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0)"/>
                                      </p:to>
                                    </p:set>
                                    <p:set>
                                      <p:cBhvr>
                                        <p:cTn id="7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0)"/>
                                      </p:to>
                                    </p:set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" dur="3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E087-BE0D-4F05-8CDE-C2E15975093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6D8E5778-4490-4320-9877-195F3E6FDD5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6920" y="190080"/>
            <a:ext cx="5905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dari Fungsi f(t)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5"/>
              <p:cNvSpPr txBox="1"/>
              <p:nvPr/>
            </p:nvSpPr>
            <p:spPr>
              <a:xfrm>
                <a:off x="1042920" y="1773360"/>
                <a:ext cx="352764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Text Box 26"/>
          <p:cNvSpPr/>
          <p:nvPr/>
        </p:nvSpPr>
        <p:spPr>
          <a:xfrm>
            <a:off x="1042920" y="3573360"/>
            <a:ext cx="4537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yelesaian integral dilakukan dengan metode integral parsial : u = t dan dv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t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Rectangle 2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8"/>
              <p:cNvSpPr txBox="1"/>
              <p:nvPr/>
            </p:nvSpPr>
            <p:spPr>
              <a:xfrm>
                <a:off x="4572000" y="1714680"/>
                <a:ext cx="42480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Rectangle 2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0"/>
              <p:cNvSpPr txBox="1"/>
              <p:nvPr/>
            </p:nvSpPr>
            <p:spPr>
              <a:xfrm>
                <a:off x="1763640" y="2708280"/>
                <a:ext cx="396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b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6" name="AutoShape 31"/>
          <p:cNvSpPr/>
          <p:nvPr/>
        </p:nvSpPr>
        <p:spPr>
          <a:xfrm rot="10800000">
            <a:off x="6083280" y="2629080"/>
            <a:ext cx="2736720" cy="2960640"/>
          </a:xfrm>
          <a:prstGeom prst="wedgeRoundRectCallout">
            <a:avLst>
              <a:gd name="adj1" fmla="val 62351"/>
              <a:gd name="adj2" fmla="val 32944"/>
              <a:gd name="adj3" fmla="val 16667"/>
            </a:avLst>
          </a:prstGeom>
          <a:solidFill>
            <a:srgbClr val="99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ku kedua sama dengan hasil yang diperoleh sebelumnya, sedangkan suku pertama diselesaikan dengan dalil delhopital, hasilnya no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3"/>
              <p:cNvSpPr txBox="1"/>
              <p:nvPr/>
            </p:nvSpPr>
            <p:spPr>
              <a:xfrm>
                <a:off x="1116000" y="4724280"/>
                <a:ext cx="4319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A4AC-222C-4F9A-97C1-361D9102417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433AF182-0F0D-4418-B356-29EF32193D8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489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dari Fungsi 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 rot="10800000">
            <a:off x="6300720" y="2781000"/>
            <a:ext cx="2449440" cy="3384360"/>
          </a:xfrm>
          <a:prstGeom prst="wedgeRoundRectCallout">
            <a:avLst>
              <a:gd name="adj1" fmla="val 70476"/>
              <a:gd name="adj2" fmla="val 5393"/>
              <a:gd name="adj3" fmla="val 16667"/>
            </a:avLst>
          </a:prstGeom>
          <a:solidFill>
            <a:srgbClr val="99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ku kedua sama dengan hasil yang diperoleh sebelumnya, sedangkan suku pertama diselesaikan dengan dalil delhopital, hasilnya no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1042920" y="1773360"/>
                <a:ext cx="2952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Text Box 24"/>
          <p:cNvSpPr/>
          <p:nvPr/>
        </p:nvSpPr>
        <p:spPr>
          <a:xfrm>
            <a:off x="4356000" y="1371600"/>
            <a:ext cx="424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yelesaian integral dilakukan dengan metode integral parsial : u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6"/>
              <p:cNvSpPr txBox="1"/>
              <p:nvPr/>
            </p:nvSpPr>
            <p:spPr>
              <a:xfrm>
                <a:off x="1619280" y="2852640"/>
                <a:ext cx="3960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Rectangle 2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8"/>
              <p:cNvSpPr txBox="1"/>
              <p:nvPr/>
            </p:nvSpPr>
            <p:spPr>
              <a:xfrm>
                <a:off x="1619280" y="3860640"/>
                <a:ext cx="4105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Rectangle 2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0"/>
              <p:cNvSpPr txBox="1"/>
              <p:nvPr/>
            </p:nvSpPr>
            <p:spPr>
              <a:xfrm>
                <a:off x="1116000" y="4941720"/>
                <a:ext cx="4608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80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6937-C7EC-41C8-A0A2-87EC7A3B230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7CF8B31E-0C87-4B11-A724-C3C22BD8B08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dari Fungsi 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7"/>
              <p:cNvSpPr txBox="1"/>
              <p:nvPr/>
            </p:nvSpPr>
            <p:spPr>
              <a:xfrm>
                <a:off x="1116000" y="1773360"/>
                <a:ext cx="3384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9"/>
              <p:cNvSpPr txBox="1"/>
              <p:nvPr/>
            </p:nvSpPr>
            <p:spPr>
              <a:xfrm>
                <a:off x="1116000" y="2492280"/>
                <a:ext cx="3384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0"/>
              <p:cNvSpPr txBox="1"/>
              <p:nvPr/>
            </p:nvSpPr>
            <p:spPr>
              <a:xfrm>
                <a:off x="1116000" y="3357720"/>
                <a:ext cx="43196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3"/>
              <p:cNvSpPr txBox="1"/>
              <p:nvPr/>
            </p:nvSpPr>
            <p:spPr>
              <a:xfrm>
                <a:off x="1116000" y="4437000"/>
                <a:ext cx="40323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Rectangle 3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35"/>
              <p:cNvSpPr txBox="1"/>
              <p:nvPr/>
            </p:nvSpPr>
            <p:spPr>
              <a:xfrm>
                <a:off x="1116000" y="5365800"/>
                <a:ext cx="4105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1" name="Group 44"/>
          <p:cNvGrpSpPr/>
          <p:nvPr/>
        </p:nvGrpSpPr>
        <p:grpSpPr>
          <a:xfrm>
            <a:off x="5651640" y="1628640"/>
            <a:ext cx="2881080" cy="1150920"/>
            <a:chOff x="5651640" y="1628640"/>
            <a:chExt cx="2881080" cy="1150920"/>
          </a:xfrm>
        </p:grpSpPr>
        <p:sp>
          <p:nvSpPr>
            <p:cNvPr id="252" name="AutoShape 41"/>
            <p:cNvSpPr/>
            <p:nvPr/>
          </p:nvSpPr>
          <p:spPr>
            <a:xfrm>
              <a:off x="5651640" y="1628640"/>
              <a:ext cx="2881080" cy="1150920"/>
            </a:xfrm>
            <a:prstGeom prst="wedgeEllipseCallout">
              <a:avLst>
                <a:gd name="adj1" fmla="val -56722"/>
                <a:gd name="adj2" fmla="val 137722"/>
              </a:avLst>
            </a:prstGeom>
            <a:solidFill>
              <a:srgbClr val="ffff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42"/>
                <p:cNvSpPr txBox="1"/>
                <p:nvPr/>
              </p:nvSpPr>
              <p:spPr>
                <a:xfrm>
                  <a:off x="6156360" y="1652760"/>
                  <a:ext cx="1944720" cy="90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Group 49"/>
          <p:cNvGrpSpPr/>
          <p:nvPr/>
        </p:nvGrpSpPr>
        <p:grpSpPr>
          <a:xfrm>
            <a:off x="5867280" y="3214800"/>
            <a:ext cx="2881440" cy="1150920"/>
            <a:chOff x="5867280" y="3214800"/>
            <a:chExt cx="2881440" cy="1150920"/>
          </a:xfrm>
        </p:grpSpPr>
        <p:sp>
          <p:nvSpPr>
            <p:cNvPr id="255" name="AutoShape 46"/>
            <p:cNvSpPr/>
            <p:nvPr/>
          </p:nvSpPr>
          <p:spPr>
            <a:xfrm>
              <a:off x="5867280" y="3214800"/>
              <a:ext cx="2881440" cy="1150920"/>
            </a:xfrm>
            <a:prstGeom prst="wedgeEllipseCallout">
              <a:avLst>
                <a:gd name="adj1" fmla="val -72587"/>
                <a:gd name="adj2" fmla="val 10089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47"/>
                <p:cNvSpPr txBox="1"/>
                <p:nvPr/>
              </p:nvSpPr>
              <p:spPr>
                <a:xfrm>
                  <a:off x="6372360" y="3332160"/>
                  <a:ext cx="1944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cover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4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8263-A4FE-4FCE-9342-3133A44C692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270A6336-EE6B-4F96-8DE6-79C82894B74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 dari Fun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3706920" y="563400"/>
                <a:ext cx="1728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1042920" y="1628640"/>
                <a:ext cx="37450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5"/>
              <p:cNvSpPr txBox="1"/>
              <p:nvPr/>
            </p:nvSpPr>
            <p:spPr>
              <a:xfrm>
                <a:off x="4932360" y="1612800"/>
                <a:ext cx="2952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7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7"/>
              <p:cNvSpPr txBox="1"/>
              <p:nvPr/>
            </p:nvSpPr>
            <p:spPr>
              <a:xfrm>
                <a:off x="1763640" y="2708280"/>
                <a:ext cx="3960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b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9"/>
              <p:cNvSpPr txBox="1"/>
              <p:nvPr/>
            </p:nvSpPr>
            <p:spPr>
              <a:xfrm>
                <a:off x="1763640" y="3716280"/>
                <a:ext cx="46814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1817640" y="4797360"/>
                <a:ext cx="41767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AutoShape 23"/>
          <p:cNvSpPr/>
          <p:nvPr/>
        </p:nvSpPr>
        <p:spPr>
          <a:xfrm rot="10800000">
            <a:off x="6807240" y="3511800"/>
            <a:ext cx="1944720" cy="2076120"/>
          </a:xfrm>
          <a:prstGeom prst="wedgeRoundRectCallout">
            <a:avLst>
              <a:gd name="adj1" fmla="val 90643"/>
              <a:gd name="adj2" fmla="val -38856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la s – a &gt; 0 maka limit ada dan berhingg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4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896E-EBD1-4606-AC34-E9FB8201EE1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Footer Placeholder 5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Slide Number Placeholder 6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70D932C4-DE08-40A8-B07D-FD0D4229B85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 dari Fun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706920" y="563400"/>
                <a:ext cx="1728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116000" y="3147840"/>
                <a:ext cx="338472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2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7"/>
              <p:cNvSpPr txBox="1"/>
              <p:nvPr/>
            </p:nvSpPr>
            <p:spPr>
              <a:xfrm>
                <a:off x="1116000" y="1844640"/>
                <a:ext cx="5472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AutoShape 20"/>
          <p:cNvSpPr/>
          <p:nvPr/>
        </p:nvSpPr>
        <p:spPr>
          <a:xfrm>
            <a:off x="5362560" y="3284640"/>
            <a:ext cx="2881440" cy="1584360"/>
          </a:xfrm>
          <a:prstGeom prst="wedgeEllipseCallout">
            <a:avLst>
              <a:gd name="adj1" fmla="val -77273"/>
              <a:gd name="adj2" fmla="val -1873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ormasi Inver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32A0-A7A1-4CD6-AA6A-820A7701D82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B288FA75-1D39-4CB8-9FF3-12193CB3C41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121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Kontinu Bagian demi Bagian d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Terbatas Eksponen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f(t) diseb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ntinu bagian demi bag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da interval [ a,b ] bi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 [ a,b ] dapat dibagi menjadi sub-sub interval  yang berhingga banyaknya yang menyebabkan f(t) kontinu pada sub-sub interval terseb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dari f(t) pada setiap ujung sub interval bernilai hing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f(t) diseb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batas eksponens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da interval [a,b ] bila terdapat bilangan real M dan r  sehingga berlaku | f(t) | =&lt; M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tuk setiap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x^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dak terbatas Eksponen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730760" y="2122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250920" y="4653000"/>
            <a:ext cx="4537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62DF-DBF4-454B-92C1-24A2C406914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83427310-48F3-4032-B052-C68EAC4FC4F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121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Graf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Kontinu Bagian demi Bagian d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Terbatas Eksponen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4730760" y="2122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500720" y="1916280"/>
            <a:ext cx="4392360" cy="30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2340000" y="1989000"/>
            <a:ext cx="0" cy="266400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1187280" y="3789360"/>
            <a:ext cx="590580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2700360" y="3749760"/>
            <a:ext cx="71280" cy="7308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Oval 10"/>
          <p:cNvSpPr/>
          <p:nvPr/>
        </p:nvSpPr>
        <p:spPr>
          <a:xfrm>
            <a:off x="6397560" y="3759120"/>
            <a:ext cx="71640" cy="7308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Freeform 11"/>
          <p:cNvSpPr/>
          <p:nvPr/>
        </p:nvSpPr>
        <p:spPr>
          <a:xfrm>
            <a:off x="2700360" y="2984400"/>
            <a:ext cx="934920" cy="157320"/>
          </a:xfrm>
          <a:prstGeom prst="pie">
            <a:avLst/>
          </a:prstGeom>
          <a:noFill/>
          <a:ln w="9360">
            <a:solidFill>
              <a:srgbClr val="33666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635280" y="2708280"/>
            <a:ext cx="1297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3614760" y="2670120"/>
            <a:ext cx="71280" cy="7308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Freeform 14"/>
          <p:cNvSpPr/>
          <p:nvPr/>
        </p:nvSpPr>
        <p:spPr>
          <a:xfrm>
            <a:off x="4932360" y="2276640"/>
            <a:ext cx="1511280" cy="144360"/>
          </a:xfrm>
          <a:prstGeom prst="pie">
            <a:avLst/>
          </a:prstGeom>
          <a:noFill/>
          <a:ln w="9360">
            <a:solidFill>
              <a:srgbClr val="33666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Oval 15"/>
          <p:cNvSpPr/>
          <p:nvPr/>
        </p:nvSpPr>
        <p:spPr>
          <a:xfrm>
            <a:off x="4897440" y="2382840"/>
            <a:ext cx="71280" cy="7308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25704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630252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96F8-E46A-4F12-8DED-B4B32316DA8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51C1FEC5-B1A3-4810-8AA7-64BCC316153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121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Graf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Kontinu Bagian demi Bagian d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Terbatas Eksponen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730760" y="2122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4500720" y="1916280"/>
            <a:ext cx="4392360" cy="30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17" name="Picture 7" descr="tangen"/>
          <p:cNvPicPr/>
          <p:nvPr/>
        </p:nvPicPr>
        <p:blipFill>
          <a:blip r:embed="rId1"/>
          <a:stretch/>
        </p:blipFill>
        <p:spPr>
          <a:xfrm>
            <a:off x="684360" y="1962000"/>
            <a:ext cx="4032000" cy="2762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te"/>
          <p:cNvPicPr/>
          <p:nvPr/>
        </p:nvPicPr>
        <p:blipFill>
          <a:blip r:embed="rId2"/>
          <a:stretch/>
        </p:blipFill>
        <p:spPr>
          <a:xfrm>
            <a:off x="4932360" y="1989000"/>
            <a:ext cx="316872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F96F-2597-45F7-A029-1001056A37B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BD36F88D-407B-4157-85B1-D686A154EF8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fat  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561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Keberadaan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:Transformasi Laplace dari f(t) dengan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0 ada bila f(t) kontinu bagian demi bagian dan terbatas eksponensial untuk   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tungga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ransformasi Laplace dari suatu fungsi adalah tunggal yaitu bila F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s) dan F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s) merupakan transformasi Laplace dari f(t) maka F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s) = F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1262160" y="5013360"/>
                <a:ext cx="5327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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Text Box 4"/>
          <p:cNvSpPr/>
          <p:nvPr/>
        </p:nvSpPr>
        <p:spPr>
          <a:xfrm>
            <a:off x="1189080" y="448452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ifat Linear Transformasi 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8"/>
              <p:cNvSpPr txBox="1"/>
              <p:nvPr/>
            </p:nvSpPr>
            <p:spPr>
              <a:xfrm>
                <a:off x="1303200" y="5445000"/>
                <a:ext cx="6869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2242-7241-4E67-8F51-0FC7502B105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3511AE89-BF0E-494F-A3F4-F0DD4F98421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TL dar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4284720" y="299880"/>
                <a:ext cx="23749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6"/>
              <p:cNvSpPr txBox="1"/>
              <p:nvPr/>
            </p:nvSpPr>
            <p:spPr>
              <a:xfrm>
                <a:off x="1116000" y="1916280"/>
                <a:ext cx="5256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1116000" y="3645000"/>
                <a:ext cx="55436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Rectangle 16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5"/>
              <p:cNvSpPr txBox="1"/>
              <p:nvPr/>
            </p:nvSpPr>
            <p:spPr>
              <a:xfrm>
                <a:off x="1187280" y="2708280"/>
                <a:ext cx="3240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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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B607-7E8F-4B07-9ACD-AACDE12B17A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7675397E-9901-4C0D-8375-AF25F3C8C4B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8" name="Rectangle 6" descr=""/>
          <p:cNvPicPr/>
          <p:nvPr/>
        </p:nvPicPr>
        <p:blipFill>
          <a:blip r:embed="rId1"/>
          <a:stretch/>
        </p:blipFill>
        <p:spPr>
          <a:xfrm>
            <a:off x="396720" y="2724120"/>
            <a:ext cx="7972560" cy="113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C433-F37E-42AF-BEE8-1737463F593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755794CA-6C7F-43AB-95EC-CFB347F7B30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invers dar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4716360" y="527040"/>
                <a:ext cx="24480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4"/>
              <p:cNvSpPr txBox="1"/>
              <p:nvPr/>
            </p:nvSpPr>
            <p:spPr>
              <a:xfrm>
                <a:off x="1116000" y="1773360"/>
                <a:ext cx="3960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5"/>
              <p:cNvSpPr txBox="1"/>
              <p:nvPr/>
            </p:nvSpPr>
            <p:spPr>
              <a:xfrm>
                <a:off x="1619280" y="2708280"/>
                <a:ext cx="2232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7"/>
              <p:cNvSpPr txBox="1"/>
              <p:nvPr/>
            </p:nvSpPr>
            <p:spPr>
              <a:xfrm>
                <a:off x="5146560" y="4167360"/>
                <a:ext cx="26654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2"/>
              <p:cNvSpPr txBox="1"/>
              <p:nvPr/>
            </p:nvSpPr>
            <p:spPr>
              <a:xfrm>
                <a:off x="5364000" y="1668600"/>
                <a:ext cx="2448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52" name="Group 25"/>
          <p:cNvGrpSpPr/>
          <p:nvPr/>
        </p:nvGrpSpPr>
        <p:grpSpPr>
          <a:xfrm>
            <a:off x="4930920" y="2708280"/>
            <a:ext cx="3457440" cy="1081080"/>
            <a:chOff x="4930920" y="2708280"/>
            <a:chExt cx="3457440" cy="1081080"/>
          </a:xfrm>
        </p:grpSpPr>
        <mc:AlternateContent>
          <mc:Choice xmlns:a14="http://schemas.microsoft.com/office/drawing/2010/main" Requires="a14">
            <p:sp>
              <p:nvSpPr>
                <p:cNvPr id="353" name="Object 16"/>
                <p:cNvSpPr txBox="1"/>
                <p:nvPr/>
              </p:nvSpPr>
              <p:spPr>
                <a:xfrm>
                  <a:off x="5364000" y="2852640"/>
                  <a:ext cx="266400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AutoShape 24"/>
            <p:cNvSpPr/>
            <p:nvPr/>
          </p:nvSpPr>
          <p:spPr>
            <a:xfrm>
              <a:off x="4930920" y="2708280"/>
              <a:ext cx="3457440" cy="1081080"/>
            </a:xfrm>
            <a:prstGeom prst="wedgeRoundRectCallout">
              <a:avLst>
                <a:gd name="adj1" fmla="val -78560"/>
                <a:gd name="adj2" fmla="val -11527"/>
                <a:gd name="adj3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355" name="AutoShape 26"/>
          <p:cNvSpPr/>
          <p:nvPr/>
        </p:nvSpPr>
        <p:spPr>
          <a:xfrm>
            <a:off x="1187280" y="4005360"/>
            <a:ext cx="2448000" cy="1008000"/>
          </a:xfrm>
          <a:prstGeom prst="wedgeRoundRectCallout">
            <a:avLst>
              <a:gd name="adj1" fmla="val 107004"/>
              <a:gd name="adj2" fmla="val 14564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ormasi Inver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1A45-8DE0-4FD1-B50F-670280BB5C1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8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5B2F358D-5C95-443B-9142-62E22648397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al Latih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00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tukan Transformasi Laplace dari fung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= sinh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= cosh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= sin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tukan invers dar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1476360" y="4005360"/>
                <a:ext cx="23763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1476360" y="4797360"/>
                <a:ext cx="18716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603360" y="4330800"/>
                <a:ext cx="22525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2ABC-94CF-4D3E-AE53-A0F518A7A66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/ </a:t>
            </a:r>
            <a:fld id="{64C067A8-F6ED-47FE-BF33-88975226292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bel T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3132000" y="1268280"/>
            <a:ext cx="3600000" cy="4608000"/>
            <a:chOff x="3132000" y="1268280"/>
            <a:chExt cx="3600000" cy="4608000"/>
          </a:xfrm>
        </p:grpSpPr>
        <p:grpSp>
          <p:nvGrpSpPr>
            <p:cNvPr id="369" name="Group 5"/>
            <p:cNvGrpSpPr/>
            <p:nvPr/>
          </p:nvGrpSpPr>
          <p:grpSpPr>
            <a:xfrm>
              <a:off x="3132000" y="1268280"/>
              <a:ext cx="3600000" cy="4608000"/>
              <a:chOff x="3132000" y="1268280"/>
              <a:chExt cx="3600000" cy="4608000"/>
            </a:xfrm>
          </p:grpSpPr>
          <p:sp>
            <p:nvSpPr>
              <p:cNvPr id="370" name="Rectangle 6"/>
              <p:cNvSpPr/>
              <p:nvPr/>
            </p:nvSpPr>
            <p:spPr>
              <a:xfrm>
                <a:off x="5017680" y="5196600"/>
                <a:ext cx="171432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1" name="Rectangle 7"/>
              <p:cNvSpPr/>
              <p:nvPr/>
            </p:nvSpPr>
            <p:spPr>
              <a:xfrm>
                <a:off x="3132000" y="5196600"/>
                <a:ext cx="18856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cosh bt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2" name="Rectangle 8"/>
              <p:cNvSpPr/>
              <p:nvPr/>
            </p:nvSpPr>
            <p:spPr>
              <a:xfrm>
                <a:off x="5017680" y="4516560"/>
                <a:ext cx="171432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3" name="Rectangle 9"/>
              <p:cNvSpPr/>
              <p:nvPr/>
            </p:nvSpPr>
            <p:spPr>
              <a:xfrm>
                <a:off x="3132000" y="4516560"/>
                <a:ext cx="18856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sinh bt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5017680" y="3834720"/>
                <a:ext cx="1714320" cy="6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5" name="Rectangle 11"/>
              <p:cNvSpPr/>
              <p:nvPr/>
            </p:nvSpPr>
            <p:spPr>
              <a:xfrm>
                <a:off x="3132000" y="3834720"/>
                <a:ext cx="1885680" cy="6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cos bt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6" name="Rectangle 12"/>
              <p:cNvSpPr/>
              <p:nvPr/>
            </p:nvSpPr>
            <p:spPr>
              <a:xfrm>
                <a:off x="5017680" y="3158280"/>
                <a:ext cx="17143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7" name="Rectangle 13"/>
              <p:cNvSpPr/>
              <p:nvPr/>
            </p:nvSpPr>
            <p:spPr>
              <a:xfrm>
                <a:off x="3132000" y="3158280"/>
                <a:ext cx="1885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sin bt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8" name="Rectangle 14"/>
              <p:cNvSpPr/>
              <p:nvPr/>
            </p:nvSpPr>
            <p:spPr>
              <a:xfrm>
                <a:off x="5017680" y="2403000"/>
                <a:ext cx="171432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9" name="Rectangle 15"/>
              <p:cNvSpPr/>
              <p:nvPr/>
            </p:nvSpPr>
            <p:spPr>
              <a:xfrm>
                <a:off x="3132000" y="2403000"/>
                <a:ext cx="188568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e</a:t>
                </a:r>
                <a:r>
                  <a:rPr b="0" lang="en-US" sz="2400" spc="-1" strike="noStrike" baseline="30000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at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0" name="Rectangle 16"/>
              <p:cNvSpPr/>
              <p:nvPr/>
            </p:nvSpPr>
            <p:spPr>
              <a:xfrm>
                <a:off x="5017680" y="1683000"/>
                <a:ext cx="171432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1" name="Rectangle 17"/>
              <p:cNvSpPr/>
              <p:nvPr/>
            </p:nvSpPr>
            <p:spPr>
              <a:xfrm>
                <a:off x="3132000" y="1683000"/>
                <a:ext cx="188568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t</a:t>
                </a:r>
                <a:r>
                  <a:rPr b="0" lang="en-US" sz="2400" spc="-1" strike="noStrike" baseline="30000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n</a:t>
                </a: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 ( n </a:t>
                </a:r>
                <a:r>
                  <a:rPr b="0" lang="en-US" sz="2000" spc="-1" strike="noStrike">
                    <a:solidFill>
                      <a:srgbClr val="336666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 B</a:t>
                </a:r>
                <a:r>
                  <a:rPr b="0" lang="en-US" sz="2000" spc="-1" strike="noStrike" baseline="30000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+</a:t>
                </a: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 )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2" name="Rectangle 18"/>
              <p:cNvSpPr/>
              <p:nvPr/>
            </p:nvSpPr>
            <p:spPr>
              <a:xfrm>
                <a:off x="5017680" y="1268280"/>
                <a:ext cx="17143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F ( s ) 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3" name="Rectangle 19"/>
              <p:cNvSpPr/>
              <p:nvPr/>
            </p:nvSpPr>
            <p:spPr>
              <a:xfrm>
                <a:off x="3132000" y="1268280"/>
                <a:ext cx="18856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f ( t )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4" name="Line 20"/>
              <p:cNvSpPr/>
              <p:nvPr/>
            </p:nvSpPr>
            <p:spPr>
              <a:xfrm>
                <a:off x="3132000" y="1268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5" name="Line 21"/>
              <p:cNvSpPr/>
              <p:nvPr/>
            </p:nvSpPr>
            <p:spPr>
              <a:xfrm>
                <a:off x="3132000" y="5876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6" name="Line 22"/>
              <p:cNvSpPr/>
              <p:nvPr/>
            </p:nvSpPr>
            <p:spPr>
              <a:xfrm>
                <a:off x="313200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7" name="Line 23"/>
              <p:cNvSpPr/>
              <p:nvPr/>
            </p:nvSpPr>
            <p:spPr>
              <a:xfrm>
                <a:off x="673200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8" name="Line 24"/>
              <p:cNvSpPr/>
              <p:nvPr/>
            </p:nvSpPr>
            <p:spPr>
              <a:xfrm>
                <a:off x="3132000" y="16830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9" name="Line 25"/>
              <p:cNvSpPr/>
              <p:nvPr/>
            </p:nvSpPr>
            <p:spPr>
              <a:xfrm>
                <a:off x="501768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0" name="Line 26"/>
              <p:cNvSpPr/>
              <p:nvPr/>
            </p:nvSpPr>
            <p:spPr>
              <a:xfrm>
                <a:off x="3132000" y="24030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1" name="Line 27"/>
              <p:cNvSpPr/>
              <p:nvPr/>
            </p:nvSpPr>
            <p:spPr>
              <a:xfrm>
                <a:off x="3132000" y="3158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2" name="Line 28"/>
              <p:cNvSpPr/>
              <p:nvPr/>
            </p:nvSpPr>
            <p:spPr>
              <a:xfrm>
                <a:off x="3132000" y="383472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3" name="Line 29"/>
              <p:cNvSpPr/>
              <p:nvPr/>
            </p:nvSpPr>
            <p:spPr>
              <a:xfrm>
                <a:off x="3132000" y="451656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4" name="Line 30"/>
              <p:cNvSpPr/>
              <p:nvPr/>
            </p:nvSpPr>
            <p:spPr>
              <a:xfrm>
                <a:off x="3132000" y="51966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5" name="Object 3"/>
                <p:cNvSpPr txBox="1"/>
                <p:nvPr/>
              </p:nvSpPr>
              <p:spPr>
                <a:xfrm>
                  <a:off x="5360400" y="1643400"/>
                  <a:ext cx="797400" cy="75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</m:t>
                          </m:r>
                          <m:r>
                            <m:t xml:space="preserve">!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4"/>
                <p:cNvSpPr txBox="1"/>
                <p:nvPr/>
              </p:nvSpPr>
              <p:spPr>
                <a:xfrm>
                  <a:off x="5446800" y="2400120"/>
                  <a:ext cx="85644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5"/>
                <p:cNvSpPr txBox="1"/>
                <p:nvPr/>
              </p:nvSpPr>
              <p:spPr>
                <a:xfrm>
                  <a:off x="5280480" y="3155040"/>
                  <a:ext cx="1107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Object 6"/>
                <p:cNvSpPr txBox="1"/>
                <p:nvPr/>
              </p:nvSpPr>
              <p:spPr>
                <a:xfrm>
                  <a:off x="5360400" y="3835080"/>
                  <a:ext cx="1114560" cy="65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7"/>
                <p:cNvSpPr txBox="1"/>
                <p:nvPr/>
              </p:nvSpPr>
              <p:spPr>
                <a:xfrm>
                  <a:off x="5275080" y="4516920"/>
                  <a:ext cx="11134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Object 8"/>
                <p:cNvSpPr txBox="1"/>
                <p:nvPr/>
              </p:nvSpPr>
              <p:spPr>
                <a:xfrm>
                  <a:off x="5275080" y="5196960"/>
                  <a:ext cx="1113480" cy="65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Line 38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2" name="Text Box 39"/>
          <p:cNvSpPr/>
          <p:nvPr/>
        </p:nvSpPr>
        <p:spPr>
          <a:xfrm>
            <a:off x="6640560" y="1797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 &gt; 0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Text Box 40"/>
          <p:cNvSpPr/>
          <p:nvPr/>
        </p:nvSpPr>
        <p:spPr>
          <a:xfrm>
            <a:off x="6659640" y="2611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 &gt; 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4" name="AutoShape 41"/>
          <p:cNvSpPr/>
          <p:nvPr/>
        </p:nvSpPr>
        <p:spPr>
          <a:xfrm>
            <a:off x="324000" y="1557360"/>
            <a:ext cx="2663640" cy="2735280"/>
          </a:xfrm>
          <a:prstGeom prst="cloudCallout">
            <a:avLst>
              <a:gd name="adj1" fmla="val -32060"/>
              <a:gd name="adj2" fmla="val 700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(S) akan merupakan invers TL dari sebuah fungsi bila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5CD-0067-412C-9CD5-C60A2C4E9E3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10F00A15-54B8-4287-AB36-574521F3148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408" name="Rectangle 6" descr=""/>
          <p:cNvPicPr/>
          <p:nvPr/>
        </p:nvPicPr>
        <p:blipFill>
          <a:blip r:embed="rId1"/>
          <a:stretch/>
        </p:blipFill>
        <p:spPr>
          <a:xfrm>
            <a:off x="201600" y="725400"/>
            <a:ext cx="86313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5A3B-EF44-4484-8093-D11FC1CC333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987640" y="6248520"/>
            <a:ext cx="308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8F26800F-7CF4-4969-B29E-199CBB6001B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Sub Pokok Bahas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si Transformasi La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rhitungan Transformasi La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Sasaran Belaj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Mahasiswa mampu mengenali bentuk transformasi La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Mahasiswa mampu menghitung transformasi Laplace berdasarkan defini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yarat Kelulusan 10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22C2-8F6D-4860-8C12-5B97D70A4ED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C1892302-AC19-4DDC-BDCE-2E2C248DA5A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BD21-8361-40F5-93C5-8D35BBC217F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F7757E70-2947-4EEA-9C43-0D584C3D9DA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si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formasi Lapl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9912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si Laplace (TL) merupakan klas dari Transformasi Integ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gunaan T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ubah bentuk PDB menjadi persamaan alja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ubah bentuk PDP menjadi P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formasi laplace dari fungsi f(t) 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465120" y="3714840"/>
          <a:ext cx="370224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3714840"/>
                    <a:ext cx="370224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830840" y="3716280"/>
            <a:ext cx="3527280" cy="792360"/>
          </a:xfrm>
          <a:prstGeom prst="wedgeRoundRectCallout">
            <a:avLst>
              <a:gd name="adj1" fmla="val -72277"/>
              <a:gd name="adj2" fmla="val 25550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an s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j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826920" y="5013360"/>
                <a:ext cx="2592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AutoShape 11"/>
          <p:cNvSpPr/>
          <p:nvPr/>
        </p:nvSpPr>
        <p:spPr>
          <a:xfrm>
            <a:off x="3851280" y="4797360"/>
            <a:ext cx="4392720" cy="936720"/>
          </a:xfrm>
          <a:prstGeom prst="wedgeRoundRectCallout">
            <a:avLst>
              <a:gd name="adj1" fmla="val -59578"/>
              <a:gd name="adj2" fmla="val 27120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si Laplac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3D36-5817-4EE1-92A3-E232AD61175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E38FFC0E-FC0F-4E3C-89BD-DD6EC3BCC1B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99128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da penerapan kebanyakan sinyal adalah kausal ( f(t) = 0 , untuk t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formasi laplace one-side dari fungsi f(t) 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941400" y="3002040"/>
                <a:ext cx="3095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AutoShape 6"/>
          <p:cNvSpPr/>
          <p:nvPr/>
        </p:nvSpPr>
        <p:spPr>
          <a:xfrm>
            <a:off x="4830840" y="2928960"/>
            <a:ext cx="3527280" cy="792000"/>
          </a:xfrm>
          <a:prstGeom prst="wedgeRoundRectCallout">
            <a:avLst>
              <a:gd name="adj1" fmla="val -72277"/>
              <a:gd name="adj2" fmla="val 25550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si : L ( f(t) ) = F(s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490E-6BDA-43B0-93FF-4D7FAE363C9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CC5C6F11-46FA-4554-BB35-9D0979664A3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hitungan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formasi Lapl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1042920" y="1844640"/>
                <a:ext cx="37432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AutoShape 6"/>
          <p:cNvSpPr/>
          <p:nvPr/>
        </p:nvSpPr>
        <p:spPr>
          <a:xfrm>
            <a:off x="5867280" y="1628640"/>
            <a:ext cx="2232000" cy="1079640"/>
          </a:xfrm>
          <a:prstGeom prst="wedgeRoundRectCallout">
            <a:avLst>
              <a:gd name="adj1" fmla="val -93740"/>
              <a:gd name="adj2" fmla="val 15148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Integral Tak Wajar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042920" y="32464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r diperoleh TL dari fungsi f(t) maka Integral Tak Wajar harus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konver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aitu 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lai limit ada dan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hingg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2880-BC68-490F-82D9-BF826F13CD6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81CAA6D7-DB55-431B-A421-D66DED048A5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toh #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hitungan T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ntukan TL dari fungs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5100-79F1-42EF-BBC4-B7618F661FB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Kamis 30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817DD9DB-86AA-4DA2-9AC9-FEC679873A7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6920" y="190080"/>
            <a:ext cx="64090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dari Fungsi f(t)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535040" y="2708280"/>
                <a:ext cx="2016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b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027080" y="1700280"/>
                <a:ext cx="49849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6"/>
              <p:cNvSpPr txBox="1"/>
              <p:nvPr/>
            </p:nvSpPr>
            <p:spPr>
              <a:xfrm>
                <a:off x="3780000" y="2657520"/>
                <a:ext cx="27367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b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Rectangle 29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8"/>
              <p:cNvSpPr txBox="1"/>
              <p:nvPr/>
            </p:nvSpPr>
            <p:spPr>
              <a:xfrm>
                <a:off x="1547640" y="3429000"/>
                <a:ext cx="2592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sb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3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31"/>
              <p:cNvSpPr txBox="1"/>
              <p:nvPr/>
            </p:nvSpPr>
            <p:spPr>
              <a:xfrm>
                <a:off x="4305240" y="3500280"/>
                <a:ext cx="3095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3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5"/>
              <p:cNvSpPr txBox="1"/>
              <p:nvPr/>
            </p:nvSpPr>
            <p:spPr>
              <a:xfrm>
                <a:off x="2484360" y="5210280"/>
                <a:ext cx="4321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Rectangle 3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AutoShape 49"/>
          <p:cNvSpPr/>
          <p:nvPr/>
        </p:nvSpPr>
        <p:spPr>
          <a:xfrm>
            <a:off x="1189080" y="4522680"/>
            <a:ext cx="6912000" cy="496440"/>
          </a:xfrm>
          <a:prstGeom prst="wedgeRoundRectCallout">
            <a:avLst>
              <a:gd name="adj1" fmla="val -12384"/>
              <a:gd name="adj2" fmla="val -75212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s &gt; 0 maka limit akan ada dan berhingga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16:14Z</dcterms:created>
  <dc:creator>Danang</dc:creator>
  <dc:description/>
  <dc:language>en-US</dc:language>
  <cp:lastModifiedBy>Toshiba</cp:lastModifiedBy>
  <dcterms:modified xsi:type="dcterms:W3CDTF">2012-01-30T08:54:09Z</dcterms:modified>
  <cp:revision>121</cp:revision>
  <dc:subject/>
  <dc:title>Variabel Komplek MA …3</dc:title>
</cp:coreProperties>
</file>